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0EC9F0-1A9C-4D36-A879-776607939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17440" y="696960"/>
            <a:ext cx="4648320" cy="3486240"/>
          </a:xfrm>
          <a:prstGeom prst="rect">
            <a:avLst/>
          </a:prstGeom>
          <a:ln w="0">
            <a:noFill/>
          </a:ln>
        </p:spPr>
      </p:sp>
      <p:sp>
        <p:nvSpPr>
          <p:cNvPr id="6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990000"/>
                </a:solidFill>
                <a:latin typeface="Times New Roman"/>
              </a:rPr>
              <a:t>Telelogic DOORS</a:t>
            </a:r>
            <a:r>
              <a:rPr b="0" lang="en-CA" sz="1200" spc="-1" strike="noStrike">
                <a:solidFill>
                  <a:srgbClr val="000000"/>
                </a:solidFill>
                <a:latin typeface="Times New Roman"/>
              </a:rPr>
              <a:t> (a Requirement Management System) provides tool support for establishing and exploiting links between different elements of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fine which elements are linked together and also which type of links are created manually and which automatically, we defined a meta-mod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17440" y="696960"/>
            <a:ext cx="4648320" cy="3486240"/>
          </a:xfrm>
          <a:prstGeom prst="rect">
            <a:avLst/>
          </a:prstGeom>
          <a:ln w="0">
            <a:noFill/>
          </a:ln>
        </p:spPr>
      </p:sp>
      <p:sp>
        <p:nvSpPr>
          <p:cNvPr id="6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egislation model, the law document is divided into two objects, clauses and defintions. Clauses are linked to the intentional elements of the legislation and organization GRL model via source and compliance link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can identify that some links can be infered by transitivity. These are compliance and responsibility links between two mode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17440" y="696960"/>
            <a:ext cx="4648320" cy="3486240"/>
          </a:xfrm>
          <a:prstGeom prst="rect">
            <a:avLst/>
          </a:prstGeom>
          <a:ln w="0">
            <a:noFill/>
          </a:ln>
        </p:spPr>
      </p:sp>
      <p:sp>
        <p:nvSpPr>
          <p:cNvPr id="66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17440" y="696960"/>
            <a:ext cx="4648320" cy="3486240"/>
          </a:xfrm>
          <a:prstGeom prst="rect">
            <a:avLst/>
          </a:prstGeom>
          <a:ln w="0">
            <a:noFill/>
          </a:ln>
        </p:spPr>
      </p:sp>
      <p:sp>
        <p:nvSpPr>
          <p:cNvPr id="6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legislation and business processes of the organizations can change. When the legislation is amended it will impact its GRL through source links. Then the impact of this change on the organization model can be traced via traceability or compliance links. Through responsibility links it can be shown which part of the UCM model has bee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a part of the business process changes the organization has to make sure that it still complies with the legislation. This can be handled through responsibility links directly or by compliance or traceability links indirec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se issues, it is required to have an integrated framework to help model both organizational and legislative documents, and establish necessary links between the elements of models an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must be complete enough to help managing changes and ensuring compliance in the new contex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17440" y="696960"/>
            <a:ext cx="4648320" cy="3486240"/>
          </a:xfrm>
          <a:prstGeom prst="rect">
            <a:avLst/>
          </a:prstGeom>
          <a:ln w="0">
            <a:noFill/>
          </a:ln>
        </p:spPr>
      </p:sp>
      <p:sp>
        <p:nvSpPr>
          <p:cNvPr id="65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been done in terms of modeling regulations, tracking and managing compliance. However, this work tends to focus on just one aspect (goals, business processes, legislation) rather than all in the aim of achieving a framework for privacy compl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reaux et al. [4] provide a methodology to extract rules and obligations from regulations but their work does not provide any link to the organization’s policies and procedures documents. Darimont et al. [6] apply the KAOS methodology to model regulations and they explain how to transform regulation documents to goals, objects and threats models. They provide a level of traceability between the source documents and these three models but this traceability is not expanded to the organization’s document. He et al. [15] apply ReCAPS to integrate the components of access control analysis, improve software quality and ensure policy- and requirements-compliant systems. This method provides traceability from source documents to the access control policies but it does not include business processes. The scope of this method is narrow and only focuses on the software development process. Rifaut et al. [24] apply goal-based models on the implementation of a financial system to ensure it is compliant with Basel II regulations. In their method, they divide organization and their business processes based on the organizational layers and assign the elements of the related goal model to those layers. However, their method does not provide any kind of traceability. The ORCA group [3] develops a system to help standardize the representation of compliance documents and they are providing a dynamic mapping between regulations and the internal policies of the organization. However, they still do not provide an integrated framework that includes both business processes and policies in a model at the same time. Note however that the ORCA project is still ongo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Tracking Compliance for Business Processes Based on UR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685440" y="3657240"/>
            <a:ext cx="5181480" cy="1676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Sepideh Ghanavati</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Daniel Amyo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Liam Peyton</a:t>
            </a:r>
            <a:endParaRPr b="0" lang="en-US" sz="20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ON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Slide Number Placeholder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DCAB-EC00-424C-A3C1-6DEF52B2E0EF}"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81" name="Picture 10" descr="paper-based process-OH-Thesis-DOORS - linux v8_changed importance-GRLGraph12901-BG model 1.png"/>
          <p:cNvPicPr/>
          <p:nvPr/>
        </p:nvPicPr>
        <p:blipFill>
          <a:blip r:embed="rId1"/>
          <a:srcRect l="3571" t="2918" r="12887" b="2581"/>
          <a:stretch/>
        </p:blipFill>
        <p:spPr>
          <a:xfrm>
            <a:off x="2222640" y="0"/>
            <a:ext cx="6616440" cy="6858000"/>
          </a:xfrm>
          <a:prstGeom prst="rect">
            <a:avLst/>
          </a:prstGeom>
          <a:ln w="0">
            <a:noFill/>
          </a:ln>
        </p:spPr>
      </p:pic>
      <p:sp>
        <p:nvSpPr>
          <p:cNvPr id="182" name="PlaceHolder 1"/>
          <p:cNvSpPr>
            <a:spLocks noGrp="1"/>
          </p:cNvSpPr>
          <p:nvPr>
            <p:ph type="title"/>
          </p:nvPr>
        </p:nvSpPr>
        <p:spPr>
          <a:xfrm>
            <a:off x="0" y="0"/>
            <a:ext cx="3200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Black"/>
              </a:rPr>
              <a:t>EXAMPLE:</a:t>
            </a:r>
            <a:br>
              <a:rPr sz="2900"/>
            </a:br>
            <a:r>
              <a:rPr b="0" lang="en-US" sz="2900" spc="-1" strike="noStrike">
                <a:solidFill>
                  <a:srgbClr val="990000"/>
                </a:solidFill>
                <a:latin typeface="Arial Black"/>
              </a:rPr>
              <a:t>GRL Model of Organization</a:t>
            </a:r>
            <a:endParaRPr b="0" lang="en-US" sz="2900" spc="-1" strike="noStrike">
              <a:solidFill>
                <a:srgbClr val="990000"/>
              </a:solidFill>
              <a:latin typeface="Arial Black"/>
            </a:endParaRPr>
          </a:p>
        </p:txBody>
      </p:sp>
      <p:sp>
        <p:nvSpPr>
          <p:cNvPr id="183" name=""/>
          <p:cNvSpPr/>
          <p:nvPr/>
        </p:nvSpPr>
        <p:spPr>
          <a:xfrm>
            <a:off x="5715000" y="1828800"/>
            <a:ext cx="30481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185" name="PlaceHolder 2"/>
          <p:cNvSpPr>
            <a:spLocks noGrp="1"/>
          </p:cNvSpPr>
          <p:nvPr>
            <p:ph/>
          </p:nvPr>
        </p:nvSpPr>
        <p:spPr>
          <a:xfrm>
            <a:off x="685800" y="685440"/>
            <a:ext cx="7772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609480" y="1773360"/>
          <a:ext cx="7620120" cy="4157640"/>
        </p:xfrm>
        <a:graphic>
          <a:graphicData uri="http://schemas.openxmlformats.org/presentationml/2006/ole">
            <p:oleObj r:id="rId1" spid="">
              <p:embed/>
              <p:pic>
                <p:nvPicPr>
                  <p:cNvPr id="187" name="" descr=""/>
                  <p:cNvPicPr/>
                  <p:nvPr/>
                </p:nvPicPr>
                <p:blipFill>
                  <a:blip r:embed="rId2"/>
                  <a:stretch/>
                </p:blipFill>
                <p:spPr>
                  <a:xfrm>
                    <a:off x="609480" y="1773360"/>
                    <a:ext cx="7620120" cy="415764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odel includes some </a:t>
            </a:r>
            <a:r>
              <a:rPr b="1" lang="en-US" sz="2000" spc="-1" strike="noStrike" u="sng">
                <a:solidFill>
                  <a:srgbClr val="000000"/>
                </a:solidFill>
                <a:uFillTx/>
                <a:latin typeface="Arial"/>
              </a:rPr>
              <a:t>internal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our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GRL and UCM models </a:t>
            </a:r>
            <a:r>
              <a:rPr b="0" lang="en-US" sz="2000" spc="-1" strike="noStrike">
                <a:solidFill>
                  <a:srgbClr val="000000"/>
                </a:solidFill>
                <a:latin typeface="Wingdings"/>
                <a:ea typeface="Wingdings"/>
              </a:rPr>
              <a:t></a:t>
            </a:r>
            <a:r>
              <a:rPr b="0" lang="en-US" sz="2000" spc="-1" strike="noStrike">
                <a:solidFill>
                  <a:srgbClr val="000000"/>
                </a:solidFill>
                <a:latin typeface="Arial"/>
              </a:rPr>
              <a:t> Policy and procedure document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on GRL model </a:t>
            </a:r>
            <a:r>
              <a:rPr b="0" lang="en-US" sz="2000" spc="-1" strike="noStrike">
                <a:solidFill>
                  <a:srgbClr val="000000"/>
                </a:solidFill>
                <a:latin typeface="Wingdings"/>
                <a:ea typeface="Wingdings"/>
              </a:rPr>
              <a:t></a:t>
            </a:r>
            <a:r>
              <a:rPr b="0" lang="en-US" sz="2000" spc="-1" strike="noStrike">
                <a:solidFill>
                  <a:srgbClr val="000000"/>
                </a:solidFill>
                <a:latin typeface="Arial"/>
              </a:rPr>
              <a:t> Legislation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the healthcare organiz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tween the two models</a:t>
            </a:r>
            <a:r>
              <a:rPr b="0" lang="en-US" sz="2000" spc="-1" strike="noStrike">
                <a:solidFill>
                  <a:srgbClr val="000000"/>
                </a:solidFill>
                <a:latin typeface="Arial"/>
              </a:rPr>
              <a:t> are 3 link sets used to establish and track compli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racea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ian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the text document of l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Evaluation of Link Types</a:t>
            </a:r>
            <a:endParaRPr b="0" lang="en-US" sz="2800" spc="-1" strike="noStrike">
              <a:solidFill>
                <a:srgbClr val="990000"/>
              </a:solidFill>
              <a:latin typeface="Arial Black"/>
            </a:endParaRPr>
          </a:p>
        </p:txBody>
      </p:sp>
      <p:pic>
        <p:nvPicPr>
          <p:cNvPr id="193" name="" descr=""/>
          <p:cNvPicPr/>
          <p:nvPr/>
        </p:nvPicPr>
        <p:blipFill>
          <a:blip r:embed="rId1"/>
          <a:stretch/>
        </p:blipFill>
        <p:spPr>
          <a:xfrm>
            <a:off x="228600" y="1084320"/>
            <a:ext cx="8686800" cy="50115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ool Support</a:t>
            </a:r>
            <a:endParaRPr b="0" lang="en-US" sz="2800" spc="-1" strike="noStrike">
              <a:solidFill>
                <a:srgbClr val="990000"/>
              </a:solidFill>
              <a:latin typeface="Arial Black"/>
            </a:endParaRPr>
          </a:p>
        </p:txBody>
      </p:sp>
      <p:sp>
        <p:nvSpPr>
          <p:cNvPr id="1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jUCMNav</a:t>
            </a:r>
            <a:r>
              <a:rPr b="0" lang="en-US" sz="2000" spc="-1" strike="noStrike">
                <a:solidFill>
                  <a:srgbClr val="000000"/>
                </a:solidFill>
                <a:latin typeface="Arial"/>
              </a:rPr>
              <a:t> (A Java – based URN editor)</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create, load, modify and save a UCM model.</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s the definition of GRL models.</a:t>
            </a:r>
            <a:r>
              <a:rPr b="0" lang="en-US" sz="2000" spc="-1" strike="noStrike">
                <a:solidFill>
                  <a:srgbClr val="000000"/>
                </a:solidFill>
                <a:latin typeface="Arial"/>
              </a:rPr>
              <a:t> </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he creation of links its elements and a UCM model.</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Telelogic DOOR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mpliance links (Links between two URN model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business processes or legislative documents change</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raceability with Telelogic DOORS</a:t>
            </a:r>
            <a:br>
              <a:rPr sz="2400"/>
            </a:br>
            <a:endParaRPr b="0" lang="en-US" sz="2400" spc="-1" strike="noStrike">
              <a:solidFill>
                <a:srgbClr val="990000"/>
              </a:solidFill>
              <a:latin typeface="Arial Black"/>
            </a:endParaRPr>
          </a:p>
        </p:txBody>
      </p:sp>
      <p:pic>
        <p:nvPicPr>
          <p:cNvPr id="197" name="" descr=""/>
          <p:cNvPicPr/>
          <p:nvPr/>
        </p:nvPicPr>
        <p:blipFill>
          <a:blip r:embed="rId1"/>
          <a:stretch/>
        </p:blipFill>
        <p:spPr>
          <a:xfrm>
            <a:off x="-76320" y="704880"/>
            <a:ext cx="6096240" cy="4629240"/>
          </a:xfrm>
          <a:prstGeom prst="rect">
            <a:avLst/>
          </a:prstGeom>
          <a:ln w="0">
            <a:noFill/>
          </a:ln>
        </p:spPr>
      </p:pic>
      <p:pic>
        <p:nvPicPr>
          <p:cNvPr id="198" name="" descr=""/>
          <p:cNvPicPr/>
          <p:nvPr/>
        </p:nvPicPr>
        <p:blipFill>
          <a:blip r:embed="rId2"/>
          <a:stretch/>
        </p:blipFill>
        <p:spPr>
          <a:xfrm>
            <a:off x="3124080" y="1066680"/>
            <a:ext cx="6019920" cy="483408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ew Plug-in to the DXL library in Telelogic DOOR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Compliance Modul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N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Changes</a:t>
            </a: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p:cNvPicPr/>
          <p:nvPr/>
        </p:nvPicPr>
        <p:blipFill>
          <a:blip r:embed="rId1"/>
          <a:stretch/>
        </p:blipFill>
        <p:spPr>
          <a:xfrm>
            <a:off x="1521000" y="628560"/>
            <a:ext cx="5946480" cy="531504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5" name="PlaceHolder 2"/>
          <p:cNvSpPr>
            <a:spLocks noGrp="1"/>
          </p:cNvSpPr>
          <p:nvPr>
            <p:ph/>
          </p:nvPr>
        </p:nvSpPr>
        <p:spPr>
          <a:xfrm>
            <a:off x="685800" y="76176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Legisl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990720" y="1089000"/>
            <a:ext cx="7238880" cy="49309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Overview</a:t>
            </a:r>
            <a:endParaRPr b="0" lang="en-US" sz="2800" spc="-1" strike="noStrike">
              <a:solidFill>
                <a:srgbClr val="990000"/>
              </a:solidFill>
              <a:latin typeface="Arial Black"/>
            </a:endParaRPr>
          </a:p>
        </p:txBody>
      </p:sp>
      <p:sp>
        <p:nvSpPr>
          <p:cNvPr id="89" name="PlaceHolder 2"/>
          <p:cNvSpPr>
            <a:spLocks noGrp="1"/>
          </p:cNvSpPr>
          <p:nvPr>
            <p:ph/>
          </p:nvPr>
        </p:nvSpPr>
        <p:spPr>
          <a:xfrm>
            <a:off x="456840" y="685440"/>
            <a:ext cx="85345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Probl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exity of documenting and managing compliance as legislation or business processes change.</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Target audi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ivacy) compliance managers, auditors, lawyers, business process modellers, requirements engineers…</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Contrib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ments-oriented framework to model legislative compliance for business proc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meta-model (based on URN) that provides a set of compliance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ystematic method for tracking and managing compliance as legislation or business processes evol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hancements to existing modelling and traceability tools to support and validate these contrib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lthcare case study involving an Ontario hospital and privacy law</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8" name="PlaceHolder 2"/>
          <p:cNvSpPr>
            <a:spLocks noGrp="1"/>
          </p:cNvSpPr>
          <p:nvPr>
            <p:ph/>
          </p:nvPr>
        </p:nvSpPr>
        <p:spPr>
          <a:xfrm>
            <a:off x="685800" y="9140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Organiz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533520" y="1254240"/>
            <a:ext cx="8305560" cy="476568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amodel is used to define links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URN models</a:t>
            </a:r>
            <a:r>
              <a:rPr b="0" lang="en-US" sz="2000" spc="-1" strike="noStrike">
                <a:solidFill>
                  <a:srgbClr val="000000"/>
                </a:solidFill>
                <a:latin typeface="Arial"/>
              </a:rPr>
              <a:t> and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each URN model and its source document</a:t>
            </a:r>
            <a:r>
              <a:rPr b="0" lang="en-US" sz="2000" spc="-1" strike="noStrike">
                <a:solidFill>
                  <a:srgbClr val="990000"/>
                </a:solidFill>
                <a:latin typeface="Arial"/>
              </a:rPr>
              <a:t> </a:t>
            </a:r>
            <a:r>
              <a:rPr b="0" lang="en-US" sz="2000" spc="-1" strike="noStrike">
                <a:solidFill>
                  <a:srgbClr val="000000"/>
                </a:solidFill>
                <a:latin typeface="Arial"/>
              </a:rPr>
              <a:t>in the requirements management system (e.g. DO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identify which </a:t>
            </a:r>
            <a:r>
              <a:rPr b="1" lang="en-US" sz="2000" spc="-1" strike="noStrike">
                <a:solidFill>
                  <a:srgbClr val="990000"/>
                </a:solidFill>
                <a:latin typeface="Arial"/>
              </a:rPr>
              <a:t>elements of the legislation model</a:t>
            </a:r>
            <a:r>
              <a:rPr b="0" lang="en-US" sz="2000" spc="-1" strike="noStrike">
                <a:solidFill>
                  <a:srgbClr val="000000"/>
                </a:solidFill>
                <a:latin typeface="Arial"/>
              </a:rPr>
              <a:t> are connected to those </a:t>
            </a:r>
            <a:r>
              <a:rPr b="1" lang="en-US" sz="2000" spc="-1" strike="noStrike">
                <a:solidFill>
                  <a:srgbClr val="990000"/>
                </a:solidFill>
                <a:latin typeface="Arial"/>
              </a:rPr>
              <a:t>elements of the organization mod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determine which links need to be created </a:t>
            </a:r>
            <a:r>
              <a:rPr b="1" lang="en-US" sz="2000" spc="-1" strike="noStrike">
                <a:solidFill>
                  <a:srgbClr val="990000"/>
                </a:solidFill>
                <a:latin typeface="Arial"/>
              </a:rPr>
              <a:t>manually</a:t>
            </a:r>
            <a:r>
              <a:rPr b="0" lang="en-US" sz="2000" spc="-1" strike="noStrike">
                <a:solidFill>
                  <a:srgbClr val="000000"/>
                </a:solidFill>
                <a:latin typeface="Arial"/>
              </a:rPr>
              <a:t> and which ones can be inferred </a:t>
            </a:r>
            <a:r>
              <a:rPr b="1" lang="en-US" sz="2000" spc="-1" strike="noStrike">
                <a:solidFill>
                  <a:srgbClr val="990000"/>
                </a:solidFill>
                <a:latin typeface="Arial"/>
              </a:rPr>
              <a:t>automatic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3" name=""/>
          <p:cNvSpPr/>
          <p:nvPr/>
        </p:nvSpPr>
        <p:spPr>
          <a:xfrm>
            <a:off x="7543800" y="838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Organization Metamodel</a:t>
            </a:r>
            <a:endParaRPr b="0" lang="en-US" sz="1200" spc="-1" strike="noStrike">
              <a:solidFill>
                <a:srgbClr val="000000"/>
              </a:solidFill>
              <a:latin typeface="Times New Roman"/>
            </a:endParaRPr>
          </a:p>
        </p:txBody>
      </p:sp>
      <p:sp>
        <p:nvSpPr>
          <p:cNvPr id="214" name=""/>
          <p:cNvSpPr/>
          <p:nvPr/>
        </p:nvSpPr>
        <p:spPr>
          <a:xfrm flipH="1">
            <a:off x="7467480" y="1371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280" y="342900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Law Metamodel</a:t>
            </a:r>
            <a:endParaRPr b="0" lang="en-US" sz="1200" spc="-1" strike="noStrike">
              <a:solidFill>
                <a:srgbClr val="000000"/>
              </a:solidFill>
              <a:latin typeface="Times New Roman"/>
            </a:endParaRPr>
          </a:p>
        </p:txBody>
      </p:sp>
      <p:sp>
        <p:nvSpPr>
          <p:cNvPr id="216" name=""/>
          <p:cNvSpPr/>
          <p:nvPr/>
        </p:nvSpPr>
        <p:spPr>
          <a:xfrm>
            <a:off x="838080" y="3962520"/>
            <a:ext cx="53352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447920" y="649440"/>
            <a:ext cx="5790960" cy="515592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219"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0" name=""/>
          <p:cNvGraphicFramePr/>
          <p:nvPr/>
        </p:nvGraphicFramePr>
        <p:xfrm>
          <a:off x="990720" y="2438280"/>
          <a:ext cx="7086600" cy="3409920"/>
        </p:xfrm>
        <a:graphic>
          <a:graphicData uri="http://schemas.openxmlformats.org/presentationml/2006/ole">
            <p:oleObj r:id="rId1" spid="">
              <p:embed/>
              <p:pic>
                <p:nvPicPr>
                  <p:cNvPr id="221" name="" descr=""/>
                  <p:cNvPicPr/>
                  <p:nvPr/>
                </p:nvPicPr>
                <p:blipFill>
                  <a:blip r:embed="rId2"/>
                  <a:stretch/>
                </p:blipFill>
                <p:spPr>
                  <a:xfrm>
                    <a:off x="990720" y="2438280"/>
                    <a:ext cx="7086600" cy="340992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2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sponsibility and compliance links (via DXL scripts),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4" name=""/>
          <p:cNvGrpSpPr/>
          <p:nvPr/>
        </p:nvGrpSpPr>
        <p:grpSpPr>
          <a:xfrm>
            <a:off x="944280" y="2178000"/>
            <a:ext cx="6886080" cy="2080080"/>
            <a:chOff x="944280" y="2178000"/>
            <a:chExt cx="6886080" cy="2080080"/>
          </a:xfrm>
        </p:grpSpPr>
        <p:grpSp>
          <p:nvGrpSpPr>
            <p:cNvPr id="225" name=""/>
            <p:cNvGrpSpPr/>
            <p:nvPr/>
          </p:nvGrpSpPr>
          <p:grpSpPr>
            <a:xfrm>
              <a:off x="958680" y="2178000"/>
              <a:ext cx="6871680" cy="325800"/>
              <a:chOff x="958680" y="2178000"/>
              <a:chExt cx="6871680" cy="325800"/>
            </a:xfrm>
          </p:grpSpPr>
          <p:sp>
            <p:nvSpPr>
              <p:cNvPr id="226" name=""/>
              <p:cNvSpPr/>
              <p:nvPr/>
            </p:nvSpPr>
            <p:spPr>
              <a:xfrm>
                <a:off x="958680" y="2320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27" name=""/>
              <p:cNvSpPr/>
              <p:nvPr/>
            </p:nvSpPr>
            <p:spPr>
              <a:xfrm>
                <a:off x="189216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8" name=""/>
              <p:cNvSpPr/>
              <p:nvPr/>
            </p:nvSpPr>
            <p:spPr>
              <a:xfrm>
                <a:off x="194256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29" name=""/>
              <p:cNvSpPr/>
              <p:nvPr/>
            </p:nvSpPr>
            <p:spPr>
              <a:xfrm>
                <a:off x="3686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0" name=""/>
              <p:cNvSpPr/>
              <p:nvPr/>
            </p:nvSpPr>
            <p:spPr>
              <a:xfrm>
                <a:off x="449100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1" name=""/>
              <p:cNvSpPr/>
              <p:nvPr/>
            </p:nvSpPr>
            <p:spPr>
              <a:xfrm>
                <a:off x="454104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32" name=""/>
              <p:cNvSpPr/>
              <p:nvPr/>
            </p:nvSpPr>
            <p:spPr>
              <a:xfrm>
                <a:off x="6269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3" name=""/>
              <p:cNvSpPr/>
              <p:nvPr/>
            </p:nvSpPr>
            <p:spPr>
              <a:xfrm>
                <a:off x="707544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7126920" y="2320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235" name=""/>
              <p:cNvSpPr/>
              <p:nvPr/>
            </p:nvSpPr>
            <p:spPr>
              <a:xfrm>
                <a:off x="240516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752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920" y="21906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38" name=""/>
              <p:cNvSpPr/>
              <p:nvPr/>
            </p:nvSpPr>
            <p:spPr>
              <a:xfrm>
                <a:off x="5250600" y="21780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nvGrpSpPr>
            <p:cNvPr id="239" name=""/>
            <p:cNvGrpSpPr/>
            <p:nvPr/>
          </p:nvGrpSpPr>
          <p:grpSpPr>
            <a:xfrm>
              <a:off x="944280" y="3819600"/>
              <a:ext cx="6785640" cy="438480"/>
              <a:chOff x="944280" y="3819600"/>
              <a:chExt cx="6785640" cy="438480"/>
            </a:xfrm>
          </p:grpSpPr>
          <p:sp>
            <p:nvSpPr>
              <p:cNvPr id="240" name=""/>
              <p:cNvSpPr/>
              <p:nvPr/>
            </p:nvSpPr>
            <p:spPr>
              <a:xfrm>
                <a:off x="1157400" y="38196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41" name=""/>
              <p:cNvSpPr/>
              <p:nvPr/>
            </p:nvSpPr>
            <p:spPr>
              <a:xfrm>
                <a:off x="2089080" y="3819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944280" y="400212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3" name=""/>
              <p:cNvSpPr/>
              <p:nvPr/>
            </p:nvSpPr>
            <p:spPr>
              <a:xfrm>
                <a:off x="3884760" y="38926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4" name=""/>
              <p:cNvSpPr/>
              <p:nvPr/>
            </p:nvSpPr>
            <p:spPr>
              <a:xfrm>
                <a:off x="4689360" y="38926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3607920" y="407520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6" name=""/>
              <p:cNvSpPr/>
              <p:nvPr/>
            </p:nvSpPr>
            <p:spPr>
              <a:xfrm>
                <a:off x="6372360" y="397836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7" name=""/>
              <p:cNvSpPr/>
              <p:nvPr/>
            </p:nvSpPr>
            <p:spPr>
              <a:xfrm>
                <a:off x="7176960" y="39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7227720" y="3978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ause</a:t>
                </a:r>
                <a:endParaRPr b="0" lang="en-US" sz="1200" spc="-1" strike="noStrike">
                  <a:solidFill>
                    <a:srgbClr val="000000"/>
                  </a:solidFill>
                  <a:latin typeface="Times New Roman"/>
                </a:endParaRPr>
              </a:p>
            </p:txBody>
          </p:sp>
          <p:sp>
            <p:nvSpPr>
              <p:cNvPr id="249" name=""/>
              <p:cNvSpPr/>
              <p:nvPr/>
            </p:nvSpPr>
            <p:spPr>
              <a:xfrm>
                <a:off x="240516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9752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5920" y="38498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52" name=""/>
              <p:cNvSpPr/>
              <p:nvPr/>
            </p:nvSpPr>
            <p:spPr>
              <a:xfrm>
                <a:off x="5250600" y="38354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grpSp>
        <p:nvGrpSpPr>
          <p:cNvPr id="253" name=""/>
          <p:cNvGrpSpPr/>
          <p:nvPr/>
        </p:nvGrpSpPr>
        <p:grpSpPr>
          <a:xfrm>
            <a:off x="1668600" y="2554200"/>
            <a:ext cx="6595560" cy="2597400"/>
            <a:chOff x="1668600" y="2554200"/>
            <a:chExt cx="6595560" cy="2597400"/>
          </a:xfrm>
        </p:grpSpPr>
        <p:grpSp>
          <p:nvGrpSpPr>
            <p:cNvPr id="254" name=""/>
            <p:cNvGrpSpPr/>
            <p:nvPr/>
          </p:nvGrpSpPr>
          <p:grpSpPr>
            <a:xfrm>
              <a:off x="1668600" y="2554200"/>
              <a:ext cx="6595560" cy="939960"/>
              <a:chOff x="1668600" y="2554200"/>
              <a:chExt cx="6595560" cy="939960"/>
            </a:xfrm>
          </p:grpSpPr>
          <p:sp>
            <p:nvSpPr>
              <p:cNvPr id="255" name=""/>
              <p:cNvSpPr/>
              <p:nvPr/>
            </p:nvSpPr>
            <p:spPr>
              <a:xfrm>
                <a:off x="7493040" y="289548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1668600" y="2554200"/>
                <a:ext cx="5494320" cy="939960"/>
              </a:xfrm>
              <a:custGeom>
                <a:avLst/>
                <a:gdLst/>
                <a:ahLst/>
                <a:rect l="l" t="t" r="r" b="b"/>
                <a:pathLst>
                  <a:path w="14421" h="2467">
                    <a:moveTo>
                      <a:pt x="88" y="0"/>
                    </a:moveTo>
                    <a:lnTo>
                      <a:pt x="87" y="334"/>
                    </a:lnTo>
                    <a:lnTo>
                      <a:pt x="4" y="333"/>
                    </a:lnTo>
                    <a:lnTo>
                      <a:pt x="5" y="0"/>
                    </a:lnTo>
                    <a:lnTo>
                      <a:pt x="88" y="0"/>
                    </a:lnTo>
                    <a:close/>
                    <a:moveTo>
                      <a:pt x="87" y="584"/>
                    </a:moveTo>
                    <a:lnTo>
                      <a:pt x="86" y="917"/>
                    </a:lnTo>
                    <a:lnTo>
                      <a:pt x="3" y="917"/>
                    </a:lnTo>
                    <a:lnTo>
                      <a:pt x="4" y="583"/>
                    </a:lnTo>
                    <a:lnTo>
                      <a:pt x="87" y="584"/>
                    </a:lnTo>
                    <a:close/>
                    <a:moveTo>
                      <a:pt x="86" y="1167"/>
                    </a:moveTo>
                    <a:lnTo>
                      <a:pt x="85" y="1500"/>
                    </a:lnTo>
                    <a:lnTo>
                      <a:pt x="2" y="1500"/>
                    </a:lnTo>
                    <a:lnTo>
                      <a:pt x="3" y="1167"/>
                    </a:lnTo>
                    <a:lnTo>
                      <a:pt x="86" y="1167"/>
                    </a:lnTo>
                    <a:close/>
                    <a:moveTo>
                      <a:pt x="85" y="1750"/>
                    </a:moveTo>
                    <a:lnTo>
                      <a:pt x="84" y="2084"/>
                    </a:lnTo>
                    <a:lnTo>
                      <a:pt x="1" y="2083"/>
                    </a:lnTo>
                    <a:lnTo>
                      <a:pt x="2" y="1750"/>
                    </a:lnTo>
                    <a:lnTo>
                      <a:pt x="85" y="1750"/>
                    </a:lnTo>
                    <a:close/>
                    <a:moveTo>
                      <a:pt x="84" y="2334"/>
                    </a:moveTo>
                    <a:lnTo>
                      <a:pt x="84" y="2388"/>
                    </a:lnTo>
                    <a:lnTo>
                      <a:pt x="42" y="2346"/>
                    </a:lnTo>
                    <a:lnTo>
                      <a:pt x="321" y="2347"/>
                    </a:lnTo>
                    <a:lnTo>
                      <a:pt x="321" y="2430"/>
                    </a:lnTo>
                    <a:lnTo>
                      <a:pt x="42" y="2429"/>
                    </a:lnTo>
                    <a:cubicBezTo>
                      <a:pt x="19" y="2429"/>
                      <a:pt x="0" y="2411"/>
                      <a:pt x="0" y="2388"/>
                    </a:cubicBezTo>
                    <a:lnTo>
                      <a:pt x="1" y="2333"/>
                    </a:lnTo>
                    <a:lnTo>
                      <a:pt x="84" y="2334"/>
                    </a:lnTo>
                    <a:close/>
                    <a:moveTo>
                      <a:pt x="571" y="2347"/>
                    </a:moveTo>
                    <a:lnTo>
                      <a:pt x="905" y="2348"/>
                    </a:lnTo>
                    <a:lnTo>
                      <a:pt x="905" y="2432"/>
                    </a:lnTo>
                    <a:lnTo>
                      <a:pt x="571" y="2431"/>
                    </a:lnTo>
                    <a:lnTo>
                      <a:pt x="571" y="2347"/>
                    </a:lnTo>
                    <a:close/>
                    <a:moveTo>
                      <a:pt x="1155" y="2349"/>
                    </a:moveTo>
                    <a:lnTo>
                      <a:pt x="1488" y="2350"/>
                    </a:lnTo>
                    <a:lnTo>
                      <a:pt x="1488" y="2433"/>
                    </a:lnTo>
                    <a:lnTo>
                      <a:pt x="1155" y="2432"/>
                    </a:lnTo>
                    <a:lnTo>
                      <a:pt x="1155" y="2349"/>
                    </a:lnTo>
                    <a:close/>
                    <a:moveTo>
                      <a:pt x="1738" y="2350"/>
                    </a:moveTo>
                    <a:lnTo>
                      <a:pt x="2071" y="2351"/>
                    </a:lnTo>
                    <a:lnTo>
                      <a:pt x="2071" y="2435"/>
                    </a:lnTo>
                    <a:lnTo>
                      <a:pt x="1738" y="2434"/>
                    </a:lnTo>
                    <a:lnTo>
                      <a:pt x="1738" y="2350"/>
                    </a:lnTo>
                    <a:close/>
                    <a:moveTo>
                      <a:pt x="2321" y="2352"/>
                    </a:moveTo>
                    <a:lnTo>
                      <a:pt x="2655" y="2353"/>
                    </a:lnTo>
                    <a:lnTo>
                      <a:pt x="2655" y="2436"/>
                    </a:lnTo>
                    <a:lnTo>
                      <a:pt x="2321" y="2435"/>
                    </a:lnTo>
                    <a:lnTo>
                      <a:pt x="2321" y="2352"/>
                    </a:lnTo>
                    <a:close/>
                    <a:moveTo>
                      <a:pt x="2905" y="2353"/>
                    </a:moveTo>
                    <a:lnTo>
                      <a:pt x="3238" y="2354"/>
                    </a:lnTo>
                    <a:lnTo>
                      <a:pt x="3238" y="2438"/>
                    </a:lnTo>
                    <a:lnTo>
                      <a:pt x="2905" y="2437"/>
                    </a:lnTo>
                    <a:lnTo>
                      <a:pt x="2905" y="2353"/>
                    </a:lnTo>
                    <a:close/>
                    <a:moveTo>
                      <a:pt x="3488" y="2355"/>
                    </a:moveTo>
                    <a:lnTo>
                      <a:pt x="3821" y="2356"/>
                    </a:lnTo>
                    <a:lnTo>
                      <a:pt x="3821" y="2439"/>
                    </a:lnTo>
                    <a:lnTo>
                      <a:pt x="3488" y="2438"/>
                    </a:lnTo>
                    <a:lnTo>
                      <a:pt x="3488" y="2355"/>
                    </a:lnTo>
                    <a:close/>
                    <a:moveTo>
                      <a:pt x="4071" y="2357"/>
                    </a:moveTo>
                    <a:lnTo>
                      <a:pt x="4405" y="2357"/>
                    </a:lnTo>
                    <a:lnTo>
                      <a:pt x="4405" y="2441"/>
                    </a:lnTo>
                    <a:lnTo>
                      <a:pt x="4071" y="2440"/>
                    </a:lnTo>
                    <a:lnTo>
                      <a:pt x="4071" y="2357"/>
                    </a:lnTo>
                    <a:close/>
                    <a:moveTo>
                      <a:pt x="4655" y="2358"/>
                    </a:moveTo>
                    <a:lnTo>
                      <a:pt x="4988" y="2359"/>
                    </a:lnTo>
                    <a:lnTo>
                      <a:pt x="4988" y="2442"/>
                    </a:lnTo>
                    <a:lnTo>
                      <a:pt x="4655" y="2441"/>
                    </a:lnTo>
                    <a:lnTo>
                      <a:pt x="4655" y="2358"/>
                    </a:lnTo>
                    <a:close/>
                    <a:moveTo>
                      <a:pt x="5238" y="2360"/>
                    </a:moveTo>
                    <a:lnTo>
                      <a:pt x="5571" y="2361"/>
                    </a:lnTo>
                    <a:lnTo>
                      <a:pt x="5571" y="2444"/>
                    </a:lnTo>
                    <a:lnTo>
                      <a:pt x="5238" y="2443"/>
                    </a:lnTo>
                    <a:lnTo>
                      <a:pt x="5238" y="2360"/>
                    </a:lnTo>
                    <a:close/>
                    <a:moveTo>
                      <a:pt x="5821" y="2361"/>
                    </a:moveTo>
                    <a:lnTo>
                      <a:pt x="6155" y="2362"/>
                    </a:lnTo>
                    <a:lnTo>
                      <a:pt x="6154" y="2445"/>
                    </a:lnTo>
                    <a:lnTo>
                      <a:pt x="5821" y="2445"/>
                    </a:lnTo>
                    <a:lnTo>
                      <a:pt x="5821" y="2361"/>
                    </a:lnTo>
                    <a:close/>
                    <a:moveTo>
                      <a:pt x="6405" y="2363"/>
                    </a:moveTo>
                    <a:lnTo>
                      <a:pt x="6738" y="2364"/>
                    </a:lnTo>
                    <a:lnTo>
                      <a:pt x="6738" y="2447"/>
                    </a:lnTo>
                    <a:lnTo>
                      <a:pt x="6404" y="2446"/>
                    </a:lnTo>
                    <a:lnTo>
                      <a:pt x="6405" y="2363"/>
                    </a:lnTo>
                    <a:close/>
                    <a:moveTo>
                      <a:pt x="6988" y="2364"/>
                    </a:moveTo>
                    <a:lnTo>
                      <a:pt x="7321" y="2365"/>
                    </a:lnTo>
                    <a:lnTo>
                      <a:pt x="7321" y="2448"/>
                    </a:lnTo>
                    <a:lnTo>
                      <a:pt x="6988" y="2448"/>
                    </a:lnTo>
                    <a:lnTo>
                      <a:pt x="6988" y="2364"/>
                    </a:lnTo>
                    <a:close/>
                    <a:moveTo>
                      <a:pt x="7571" y="2366"/>
                    </a:moveTo>
                    <a:lnTo>
                      <a:pt x="7905" y="2367"/>
                    </a:lnTo>
                    <a:lnTo>
                      <a:pt x="7904" y="2450"/>
                    </a:lnTo>
                    <a:lnTo>
                      <a:pt x="7571" y="2449"/>
                    </a:lnTo>
                    <a:lnTo>
                      <a:pt x="7571" y="2366"/>
                    </a:lnTo>
                    <a:close/>
                    <a:moveTo>
                      <a:pt x="8155" y="2367"/>
                    </a:moveTo>
                    <a:lnTo>
                      <a:pt x="8488" y="2368"/>
                    </a:lnTo>
                    <a:lnTo>
                      <a:pt x="8488" y="2452"/>
                    </a:lnTo>
                    <a:lnTo>
                      <a:pt x="8154" y="2451"/>
                    </a:lnTo>
                    <a:lnTo>
                      <a:pt x="8155" y="2367"/>
                    </a:lnTo>
                    <a:close/>
                    <a:moveTo>
                      <a:pt x="8738" y="2369"/>
                    </a:moveTo>
                    <a:lnTo>
                      <a:pt x="9071" y="2370"/>
                    </a:lnTo>
                    <a:lnTo>
                      <a:pt x="9071" y="2453"/>
                    </a:lnTo>
                    <a:lnTo>
                      <a:pt x="8738" y="2452"/>
                    </a:lnTo>
                    <a:lnTo>
                      <a:pt x="8738" y="2369"/>
                    </a:lnTo>
                    <a:close/>
                    <a:moveTo>
                      <a:pt x="9321" y="2370"/>
                    </a:moveTo>
                    <a:lnTo>
                      <a:pt x="9655" y="2371"/>
                    </a:lnTo>
                    <a:lnTo>
                      <a:pt x="9654" y="2455"/>
                    </a:lnTo>
                    <a:lnTo>
                      <a:pt x="9321" y="2454"/>
                    </a:lnTo>
                    <a:lnTo>
                      <a:pt x="9321" y="2370"/>
                    </a:lnTo>
                    <a:close/>
                    <a:moveTo>
                      <a:pt x="9905" y="2372"/>
                    </a:moveTo>
                    <a:lnTo>
                      <a:pt x="10238" y="2373"/>
                    </a:lnTo>
                    <a:lnTo>
                      <a:pt x="10238" y="2456"/>
                    </a:lnTo>
                    <a:lnTo>
                      <a:pt x="9904" y="2455"/>
                    </a:lnTo>
                    <a:lnTo>
                      <a:pt x="9905" y="2372"/>
                    </a:lnTo>
                    <a:close/>
                    <a:moveTo>
                      <a:pt x="10488" y="2373"/>
                    </a:moveTo>
                    <a:lnTo>
                      <a:pt x="10821" y="2374"/>
                    </a:lnTo>
                    <a:lnTo>
                      <a:pt x="10821" y="2458"/>
                    </a:lnTo>
                    <a:lnTo>
                      <a:pt x="10488" y="2457"/>
                    </a:lnTo>
                    <a:lnTo>
                      <a:pt x="10488" y="2373"/>
                    </a:lnTo>
                    <a:close/>
                    <a:moveTo>
                      <a:pt x="11071" y="2375"/>
                    </a:moveTo>
                    <a:lnTo>
                      <a:pt x="11405" y="2376"/>
                    </a:lnTo>
                    <a:lnTo>
                      <a:pt x="11404" y="2459"/>
                    </a:lnTo>
                    <a:lnTo>
                      <a:pt x="11071" y="2458"/>
                    </a:lnTo>
                    <a:lnTo>
                      <a:pt x="11071" y="2375"/>
                    </a:lnTo>
                    <a:close/>
                    <a:moveTo>
                      <a:pt x="11655" y="2377"/>
                    </a:moveTo>
                    <a:lnTo>
                      <a:pt x="11988" y="2377"/>
                    </a:lnTo>
                    <a:lnTo>
                      <a:pt x="11988" y="2461"/>
                    </a:lnTo>
                    <a:lnTo>
                      <a:pt x="11654" y="2460"/>
                    </a:lnTo>
                    <a:lnTo>
                      <a:pt x="11655" y="2377"/>
                    </a:lnTo>
                    <a:close/>
                    <a:moveTo>
                      <a:pt x="12238" y="2378"/>
                    </a:moveTo>
                    <a:lnTo>
                      <a:pt x="12571" y="2379"/>
                    </a:lnTo>
                    <a:lnTo>
                      <a:pt x="12571" y="2462"/>
                    </a:lnTo>
                    <a:lnTo>
                      <a:pt x="12238" y="2461"/>
                    </a:lnTo>
                    <a:lnTo>
                      <a:pt x="12238" y="2378"/>
                    </a:lnTo>
                    <a:close/>
                    <a:moveTo>
                      <a:pt x="12821" y="2380"/>
                    </a:moveTo>
                    <a:lnTo>
                      <a:pt x="13155" y="2380"/>
                    </a:lnTo>
                    <a:lnTo>
                      <a:pt x="13154" y="2464"/>
                    </a:lnTo>
                    <a:lnTo>
                      <a:pt x="12821" y="2463"/>
                    </a:lnTo>
                    <a:lnTo>
                      <a:pt x="12821" y="2380"/>
                    </a:lnTo>
                    <a:close/>
                    <a:moveTo>
                      <a:pt x="13405" y="2381"/>
                    </a:moveTo>
                    <a:lnTo>
                      <a:pt x="13738" y="2382"/>
                    </a:lnTo>
                    <a:lnTo>
                      <a:pt x="13738" y="2465"/>
                    </a:lnTo>
                    <a:lnTo>
                      <a:pt x="13404" y="2464"/>
                    </a:lnTo>
                    <a:lnTo>
                      <a:pt x="13405" y="2381"/>
                    </a:lnTo>
                    <a:close/>
                    <a:moveTo>
                      <a:pt x="13988" y="2383"/>
                    </a:moveTo>
                    <a:lnTo>
                      <a:pt x="14296" y="2383"/>
                    </a:lnTo>
                    <a:lnTo>
                      <a:pt x="14255" y="2425"/>
                    </a:lnTo>
                    <a:lnTo>
                      <a:pt x="14255" y="2400"/>
                    </a:lnTo>
                    <a:lnTo>
                      <a:pt x="14338" y="2400"/>
                    </a:lnTo>
                    <a:lnTo>
                      <a:pt x="14338" y="2425"/>
                    </a:lnTo>
                    <a:cubicBezTo>
                      <a:pt x="14338" y="2436"/>
                      <a:pt x="14334" y="2447"/>
                      <a:pt x="14326" y="2455"/>
                    </a:cubicBezTo>
                    <a:cubicBezTo>
                      <a:pt x="14318" y="2462"/>
                      <a:pt x="14307" y="2467"/>
                      <a:pt x="14296" y="2467"/>
                    </a:cubicBezTo>
                    <a:lnTo>
                      <a:pt x="13988" y="2466"/>
                    </a:lnTo>
                    <a:lnTo>
                      <a:pt x="13988" y="2383"/>
                    </a:lnTo>
                    <a:close/>
                    <a:moveTo>
                      <a:pt x="14255" y="2150"/>
                    </a:moveTo>
                    <a:lnTo>
                      <a:pt x="14255" y="1817"/>
                    </a:lnTo>
                    <a:lnTo>
                      <a:pt x="14338" y="1817"/>
                    </a:lnTo>
                    <a:lnTo>
                      <a:pt x="14338" y="2150"/>
                    </a:lnTo>
                    <a:lnTo>
                      <a:pt x="14255" y="2150"/>
                    </a:lnTo>
                    <a:close/>
                    <a:moveTo>
                      <a:pt x="14255" y="1567"/>
                    </a:moveTo>
                    <a:lnTo>
                      <a:pt x="14255" y="1234"/>
                    </a:lnTo>
                    <a:lnTo>
                      <a:pt x="14338" y="1234"/>
                    </a:lnTo>
                    <a:lnTo>
                      <a:pt x="14338" y="1567"/>
                    </a:lnTo>
                    <a:lnTo>
                      <a:pt x="14255" y="1567"/>
                    </a:lnTo>
                    <a:close/>
                    <a:moveTo>
                      <a:pt x="14255" y="984"/>
                    </a:moveTo>
                    <a:lnTo>
                      <a:pt x="14255" y="650"/>
                    </a:lnTo>
                    <a:lnTo>
                      <a:pt x="14338" y="650"/>
                    </a:lnTo>
                    <a:lnTo>
                      <a:pt x="14338" y="984"/>
                    </a:lnTo>
                    <a:lnTo>
                      <a:pt x="14255" y="984"/>
                    </a:lnTo>
                    <a:close/>
                    <a:moveTo>
                      <a:pt x="14255" y="400"/>
                    </a:moveTo>
                    <a:lnTo>
                      <a:pt x="14255" y="267"/>
                    </a:lnTo>
                    <a:lnTo>
                      <a:pt x="14338" y="267"/>
                    </a:lnTo>
                    <a:lnTo>
                      <a:pt x="14338" y="400"/>
                    </a:lnTo>
                    <a:lnTo>
                      <a:pt x="14255" y="400"/>
                    </a:lnTo>
                    <a:close/>
                    <a:moveTo>
                      <a:pt x="14171" y="308"/>
                    </a:moveTo>
                    <a:lnTo>
                      <a:pt x="14296" y="58"/>
                    </a:lnTo>
                    <a:lnTo>
                      <a:pt x="14421" y="308"/>
                    </a:lnTo>
                    <a:lnTo>
                      <a:pt x="14171" y="3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54320" y="31878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58" name=""/>
              <p:cNvSpPr/>
              <p:nvPr/>
            </p:nvSpPr>
            <p:spPr>
              <a:xfrm>
                <a:off x="7302600" y="3029040"/>
                <a:ext cx="436320" cy="172800"/>
              </a:xfrm>
              <a:custGeom>
                <a:avLst/>
                <a:gdLst/>
                <a:ahLst/>
                <a:rect l="l" t="t" r="r" b="b"/>
                <a:pathLst>
                  <a:path w="275" h="109">
                    <a:moveTo>
                      <a:pt x="275" y="19"/>
                    </a:moveTo>
                    <a:lnTo>
                      <a:pt x="51" y="94"/>
                    </a:lnTo>
                    <a:lnTo>
                      <a:pt x="44" y="75"/>
                    </a:lnTo>
                    <a:lnTo>
                      <a:pt x="269" y="0"/>
                    </a:lnTo>
                    <a:lnTo>
                      <a:pt x="275" y="19"/>
                    </a:lnTo>
                    <a:close/>
                    <a:moveTo>
                      <a:pt x="66" y="109"/>
                    </a:moveTo>
                    <a:lnTo>
                      <a:pt x="0" y="100"/>
                    </a:lnTo>
                    <a:lnTo>
                      <a:pt x="47" y="52"/>
                    </a:lnTo>
                    <a:lnTo>
                      <a:pt x="66" y="10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92320" y="273996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nvGrpSpPr>
            <p:cNvPr id="260" name=""/>
            <p:cNvGrpSpPr/>
            <p:nvPr/>
          </p:nvGrpSpPr>
          <p:grpSpPr>
            <a:xfrm>
              <a:off x="1670040" y="4195800"/>
              <a:ext cx="6594120" cy="955800"/>
              <a:chOff x="1670040" y="4195800"/>
              <a:chExt cx="6594120" cy="955800"/>
            </a:xfrm>
          </p:grpSpPr>
          <p:sp>
            <p:nvSpPr>
              <p:cNvPr id="261" name=""/>
              <p:cNvSpPr/>
              <p:nvPr/>
            </p:nvSpPr>
            <p:spPr>
              <a:xfrm>
                <a:off x="1670040" y="4195800"/>
                <a:ext cx="5492880" cy="955800"/>
              </a:xfrm>
              <a:custGeom>
                <a:avLst/>
                <a:gdLst/>
                <a:ahLst/>
                <a:rect l="l" t="t" r="r" b="b"/>
                <a:pathLst>
                  <a:path w="14416" h="2509">
                    <a:moveTo>
                      <a:pt x="87" y="1"/>
                    </a:moveTo>
                    <a:lnTo>
                      <a:pt x="87" y="334"/>
                    </a:lnTo>
                    <a:lnTo>
                      <a:pt x="3" y="334"/>
                    </a:lnTo>
                    <a:lnTo>
                      <a:pt x="4" y="0"/>
                    </a:lnTo>
                    <a:lnTo>
                      <a:pt x="87" y="1"/>
                    </a:lnTo>
                    <a:close/>
                    <a:moveTo>
                      <a:pt x="86" y="584"/>
                    </a:moveTo>
                    <a:lnTo>
                      <a:pt x="86" y="917"/>
                    </a:lnTo>
                    <a:lnTo>
                      <a:pt x="2" y="917"/>
                    </a:lnTo>
                    <a:lnTo>
                      <a:pt x="3" y="584"/>
                    </a:lnTo>
                    <a:lnTo>
                      <a:pt x="86" y="584"/>
                    </a:lnTo>
                    <a:close/>
                    <a:moveTo>
                      <a:pt x="85" y="1167"/>
                    </a:moveTo>
                    <a:lnTo>
                      <a:pt x="85" y="1501"/>
                    </a:lnTo>
                    <a:lnTo>
                      <a:pt x="1" y="1500"/>
                    </a:lnTo>
                    <a:lnTo>
                      <a:pt x="2" y="1167"/>
                    </a:lnTo>
                    <a:lnTo>
                      <a:pt x="85" y="1167"/>
                    </a:lnTo>
                    <a:close/>
                    <a:moveTo>
                      <a:pt x="84" y="1751"/>
                    </a:moveTo>
                    <a:lnTo>
                      <a:pt x="84" y="2084"/>
                    </a:lnTo>
                    <a:lnTo>
                      <a:pt x="0" y="2084"/>
                    </a:lnTo>
                    <a:lnTo>
                      <a:pt x="1" y="1750"/>
                    </a:lnTo>
                    <a:lnTo>
                      <a:pt x="84" y="1751"/>
                    </a:lnTo>
                    <a:close/>
                    <a:moveTo>
                      <a:pt x="83" y="2334"/>
                    </a:moveTo>
                    <a:lnTo>
                      <a:pt x="83" y="2429"/>
                    </a:lnTo>
                    <a:lnTo>
                      <a:pt x="41" y="2387"/>
                    </a:lnTo>
                    <a:lnTo>
                      <a:pt x="280" y="2388"/>
                    </a:lnTo>
                    <a:lnTo>
                      <a:pt x="279" y="2471"/>
                    </a:lnTo>
                    <a:lnTo>
                      <a:pt x="41" y="2471"/>
                    </a:lnTo>
                    <a:cubicBezTo>
                      <a:pt x="18" y="2471"/>
                      <a:pt x="0" y="2452"/>
                      <a:pt x="0" y="2429"/>
                    </a:cubicBezTo>
                    <a:lnTo>
                      <a:pt x="0" y="2334"/>
                    </a:lnTo>
                    <a:lnTo>
                      <a:pt x="83" y="2334"/>
                    </a:lnTo>
                    <a:close/>
                    <a:moveTo>
                      <a:pt x="530" y="2389"/>
                    </a:moveTo>
                    <a:lnTo>
                      <a:pt x="863" y="2390"/>
                    </a:lnTo>
                    <a:lnTo>
                      <a:pt x="863" y="2473"/>
                    </a:lnTo>
                    <a:lnTo>
                      <a:pt x="529" y="2472"/>
                    </a:lnTo>
                    <a:lnTo>
                      <a:pt x="530" y="2389"/>
                    </a:lnTo>
                    <a:close/>
                    <a:moveTo>
                      <a:pt x="1113" y="2390"/>
                    </a:moveTo>
                    <a:lnTo>
                      <a:pt x="1446" y="2391"/>
                    </a:lnTo>
                    <a:lnTo>
                      <a:pt x="1446" y="2474"/>
                    </a:lnTo>
                    <a:lnTo>
                      <a:pt x="1113" y="2474"/>
                    </a:lnTo>
                    <a:lnTo>
                      <a:pt x="1113" y="2390"/>
                    </a:lnTo>
                    <a:close/>
                    <a:moveTo>
                      <a:pt x="1696" y="2392"/>
                    </a:moveTo>
                    <a:lnTo>
                      <a:pt x="2030" y="2393"/>
                    </a:lnTo>
                    <a:lnTo>
                      <a:pt x="2029" y="2476"/>
                    </a:lnTo>
                    <a:lnTo>
                      <a:pt x="1696" y="2475"/>
                    </a:lnTo>
                    <a:lnTo>
                      <a:pt x="1696" y="2392"/>
                    </a:lnTo>
                    <a:close/>
                    <a:moveTo>
                      <a:pt x="2280" y="2393"/>
                    </a:moveTo>
                    <a:lnTo>
                      <a:pt x="2613" y="2394"/>
                    </a:lnTo>
                    <a:lnTo>
                      <a:pt x="2613" y="2478"/>
                    </a:lnTo>
                    <a:lnTo>
                      <a:pt x="2279" y="2477"/>
                    </a:lnTo>
                    <a:lnTo>
                      <a:pt x="2280" y="2393"/>
                    </a:lnTo>
                    <a:close/>
                    <a:moveTo>
                      <a:pt x="2863" y="2395"/>
                    </a:moveTo>
                    <a:lnTo>
                      <a:pt x="3196" y="2396"/>
                    </a:lnTo>
                    <a:lnTo>
                      <a:pt x="3196" y="2479"/>
                    </a:lnTo>
                    <a:lnTo>
                      <a:pt x="2863" y="2478"/>
                    </a:lnTo>
                    <a:lnTo>
                      <a:pt x="2863" y="2395"/>
                    </a:lnTo>
                    <a:close/>
                    <a:moveTo>
                      <a:pt x="3446" y="2396"/>
                    </a:moveTo>
                    <a:lnTo>
                      <a:pt x="3780" y="2397"/>
                    </a:lnTo>
                    <a:lnTo>
                      <a:pt x="3779" y="2481"/>
                    </a:lnTo>
                    <a:lnTo>
                      <a:pt x="3446" y="2480"/>
                    </a:lnTo>
                    <a:lnTo>
                      <a:pt x="3446" y="2396"/>
                    </a:lnTo>
                    <a:close/>
                    <a:moveTo>
                      <a:pt x="4030" y="2398"/>
                    </a:moveTo>
                    <a:lnTo>
                      <a:pt x="4363" y="2399"/>
                    </a:lnTo>
                    <a:lnTo>
                      <a:pt x="4363" y="2482"/>
                    </a:lnTo>
                    <a:lnTo>
                      <a:pt x="4029" y="2481"/>
                    </a:lnTo>
                    <a:lnTo>
                      <a:pt x="4030" y="2398"/>
                    </a:lnTo>
                    <a:close/>
                    <a:moveTo>
                      <a:pt x="4613" y="2400"/>
                    </a:moveTo>
                    <a:lnTo>
                      <a:pt x="4946" y="2400"/>
                    </a:lnTo>
                    <a:lnTo>
                      <a:pt x="4946" y="2484"/>
                    </a:lnTo>
                    <a:lnTo>
                      <a:pt x="4613" y="2483"/>
                    </a:lnTo>
                    <a:lnTo>
                      <a:pt x="4613" y="2400"/>
                    </a:lnTo>
                    <a:close/>
                    <a:moveTo>
                      <a:pt x="5196" y="2401"/>
                    </a:moveTo>
                    <a:lnTo>
                      <a:pt x="5530" y="2402"/>
                    </a:lnTo>
                    <a:lnTo>
                      <a:pt x="5529" y="2485"/>
                    </a:lnTo>
                    <a:lnTo>
                      <a:pt x="5196" y="2484"/>
                    </a:lnTo>
                    <a:lnTo>
                      <a:pt x="5196" y="2401"/>
                    </a:lnTo>
                    <a:close/>
                    <a:moveTo>
                      <a:pt x="5780" y="2403"/>
                    </a:moveTo>
                    <a:lnTo>
                      <a:pt x="6113" y="2404"/>
                    </a:lnTo>
                    <a:lnTo>
                      <a:pt x="6113" y="2487"/>
                    </a:lnTo>
                    <a:lnTo>
                      <a:pt x="5779" y="2486"/>
                    </a:lnTo>
                    <a:lnTo>
                      <a:pt x="5780" y="2403"/>
                    </a:lnTo>
                    <a:close/>
                    <a:moveTo>
                      <a:pt x="6363" y="2404"/>
                    </a:moveTo>
                    <a:lnTo>
                      <a:pt x="6696" y="2405"/>
                    </a:lnTo>
                    <a:lnTo>
                      <a:pt x="6696" y="2488"/>
                    </a:lnTo>
                    <a:lnTo>
                      <a:pt x="6363" y="2488"/>
                    </a:lnTo>
                    <a:lnTo>
                      <a:pt x="6363" y="2404"/>
                    </a:lnTo>
                    <a:close/>
                    <a:moveTo>
                      <a:pt x="6946" y="2406"/>
                    </a:moveTo>
                    <a:lnTo>
                      <a:pt x="7280" y="2407"/>
                    </a:lnTo>
                    <a:lnTo>
                      <a:pt x="7279" y="2490"/>
                    </a:lnTo>
                    <a:lnTo>
                      <a:pt x="6946" y="2489"/>
                    </a:lnTo>
                    <a:lnTo>
                      <a:pt x="6946" y="2406"/>
                    </a:lnTo>
                    <a:close/>
                    <a:moveTo>
                      <a:pt x="7530" y="2407"/>
                    </a:moveTo>
                    <a:lnTo>
                      <a:pt x="7863" y="2408"/>
                    </a:lnTo>
                    <a:lnTo>
                      <a:pt x="7863" y="2492"/>
                    </a:lnTo>
                    <a:lnTo>
                      <a:pt x="7529" y="2491"/>
                    </a:lnTo>
                    <a:lnTo>
                      <a:pt x="7530" y="2407"/>
                    </a:lnTo>
                    <a:close/>
                    <a:moveTo>
                      <a:pt x="8113" y="2409"/>
                    </a:moveTo>
                    <a:lnTo>
                      <a:pt x="8446" y="2410"/>
                    </a:lnTo>
                    <a:lnTo>
                      <a:pt x="8446" y="2493"/>
                    </a:lnTo>
                    <a:lnTo>
                      <a:pt x="8113" y="2492"/>
                    </a:lnTo>
                    <a:lnTo>
                      <a:pt x="8113" y="2409"/>
                    </a:lnTo>
                    <a:close/>
                    <a:moveTo>
                      <a:pt x="8696" y="2410"/>
                    </a:moveTo>
                    <a:lnTo>
                      <a:pt x="9030" y="2411"/>
                    </a:lnTo>
                    <a:lnTo>
                      <a:pt x="9029" y="2495"/>
                    </a:lnTo>
                    <a:lnTo>
                      <a:pt x="8696" y="2494"/>
                    </a:lnTo>
                    <a:lnTo>
                      <a:pt x="8696" y="2410"/>
                    </a:lnTo>
                    <a:close/>
                    <a:moveTo>
                      <a:pt x="9280" y="2412"/>
                    </a:moveTo>
                    <a:lnTo>
                      <a:pt x="9613" y="2413"/>
                    </a:lnTo>
                    <a:lnTo>
                      <a:pt x="9613" y="2496"/>
                    </a:lnTo>
                    <a:lnTo>
                      <a:pt x="9279" y="2495"/>
                    </a:lnTo>
                    <a:lnTo>
                      <a:pt x="9280" y="2412"/>
                    </a:lnTo>
                    <a:close/>
                    <a:moveTo>
                      <a:pt x="9863" y="2414"/>
                    </a:moveTo>
                    <a:lnTo>
                      <a:pt x="10196" y="2414"/>
                    </a:lnTo>
                    <a:lnTo>
                      <a:pt x="10196" y="2498"/>
                    </a:lnTo>
                    <a:lnTo>
                      <a:pt x="9863" y="2497"/>
                    </a:lnTo>
                    <a:lnTo>
                      <a:pt x="9863" y="2414"/>
                    </a:lnTo>
                    <a:close/>
                    <a:moveTo>
                      <a:pt x="10446" y="2415"/>
                    </a:moveTo>
                    <a:lnTo>
                      <a:pt x="10780" y="2416"/>
                    </a:lnTo>
                    <a:lnTo>
                      <a:pt x="10779" y="2499"/>
                    </a:lnTo>
                    <a:lnTo>
                      <a:pt x="10446" y="2499"/>
                    </a:lnTo>
                    <a:lnTo>
                      <a:pt x="10446" y="2415"/>
                    </a:lnTo>
                    <a:close/>
                    <a:moveTo>
                      <a:pt x="11030" y="2417"/>
                    </a:moveTo>
                    <a:lnTo>
                      <a:pt x="11363" y="2418"/>
                    </a:lnTo>
                    <a:lnTo>
                      <a:pt x="11363" y="2501"/>
                    </a:lnTo>
                    <a:lnTo>
                      <a:pt x="11029" y="2500"/>
                    </a:lnTo>
                    <a:lnTo>
                      <a:pt x="11030" y="2417"/>
                    </a:lnTo>
                    <a:close/>
                    <a:moveTo>
                      <a:pt x="11613" y="2418"/>
                    </a:moveTo>
                    <a:lnTo>
                      <a:pt x="11946" y="2419"/>
                    </a:lnTo>
                    <a:lnTo>
                      <a:pt x="11946" y="2503"/>
                    </a:lnTo>
                    <a:lnTo>
                      <a:pt x="11613" y="2502"/>
                    </a:lnTo>
                    <a:lnTo>
                      <a:pt x="11613" y="2418"/>
                    </a:lnTo>
                    <a:close/>
                    <a:moveTo>
                      <a:pt x="12196" y="2420"/>
                    </a:moveTo>
                    <a:lnTo>
                      <a:pt x="12530" y="2421"/>
                    </a:lnTo>
                    <a:lnTo>
                      <a:pt x="12529" y="2504"/>
                    </a:lnTo>
                    <a:lnTo>
                      <a:pt x="12196" y="2503"/>
                    </a:lnTo>
                    <a:lnTo>
                      <a:pt x="12196" y="2420"/>
                    </a:lnTo>
                    <a:close/>
                    <a:moveTo>
                      <a:pt x="12780" y="2421"/>
                    </a:moveTo>
                    <a:lnTo>
                      <a:pt x="13113" y="2422"/>
                    </a:lnTo>
                    <a:lnTo>
                      <a:pt x="13113" y="2506"/>
                    </a:lnTo>
                    <a:lnTo>
                      <a:pt x="12779" y="2505"/>
                    </a:lnTo>
                    <a:lnTo>
                      <a:pt x="12780" y="2421"/>
                    </a:lnTo>
                    <a:close/>
                    <a:moveTo>
                      <a:pt x="13363" y="2423"/>
                    </a:moveTo>
                    <a:lnTo>
                      <a:pt x="13696" y="2424"/>
                    </a:lnTo>
                    <a:lnTo>
                      <a:pt x="13696" y="2507"/>
                    </a:lnTo>
                    <a:lnTo>
                      <a:pt x="13363" y="2506"/>
                    </a:lnTo>
                    <a:lnTo>
                      <a:pt x="13363" y="2423"/>
                    </a:lnTo>
                    <a:close/>
                    <a:moveTo>
                      <a:pt x="13946" y="2425"/>
                    </a:moveTo>
                    <a:lnTo>
                      <a:pt x="14280" y="2425"/>
                    </a:lnTo>
                    <a:lnTo>
                      <a:pt x="14279" y="2509"/>
                    </a:lnTo>
                    <a:lnTo>
                      <a:pt x="13946" y="2508"/>
                    </a:lnTo>
                    <a:lnTo>
                      <a:pt x="13946" y="2425"/>
                    </a:lnTo>
                    <a:close/>
                    <a:moveTo>
                      <a:pt x="14250" y="2229"/>
                    </a:moveTo>
                    <a:lnTo>
                      <a:pt x="14250" y="1896"/>
                    </a:lnTo>
                    <a:lnTo>
                      <a:pt x="14333" y="1896"/>
                    </a:lnTo>
                    <a:lnTo>
                      <a:pt x="14333" y="2229"/>
                    </a:lnTo>
                    <a:lnTo>
                      <a:pt x="14250" y="2229"/>
                    </a:lnTo>
                    <a:close/>
                    <a:moveTo>
                      <a:pt x="14250" y="1646"/>
                    </a:moveTo>
                    <a:lnTo>
                      <a:pt x="14250" y="1312"/>
                    </a:lnTo>
                    <a:lnTo>
                      <a:pt x="14333" y="1312"/>
                    </a:lnTo>
                    <a:lnTo>
                      <a:pt x="14333" y="1646"/>
                    </a:lnTo>
                    <a:lnTo>
                      <a:pt x="14250" y="1646"/>
                    </a:lnTo>
                    <a:close/>
                    <a:moveTo>
                      <a:pt x="14250" y="1062"/>
                    </a:moveTo>
                    <a:lnTo>
                      <a:pt x="14250" y="729"/>
                    </a:lnTo>
                    <a:lnTo>
                      <a:pt x="14333" y="729"/>
                    </a:lnTo>
                    <a:lnTo>
                      <a:pt x="14333" y="1062"/>
                    </a:lnTo>
                    <a:lnTo>
                      <a:pt x="14250" y="1062"/>
                    </a:lnTo>
                    <a:close/>
                    <a:moveTo>
                      <a:pt x="14250" y="479"/>
                    </a:moveTo>
                    <a:lnTo>
                      <a:pt x="14250" y="268"/>
                    </a:lnTo>
                    <a:lnTo>
                      <a:pt x="14333" y="268"/>
                    </a:lnTo>
                    <a:lnTo>
                      <a:pt x="14333" y="479"/>
                    </a:lnTo>
                    <a:lnTo>
                      <a:pt x="14250" y="479"/>
                    </a:lnTo>
                    <a:close/>
                    <a:moveTo>
                      <a:pt x="14166" y="310"/>
                    </a:moveTo>
                    <a:lnTo>
                      <a:pt x="14291" y="60"/>
                    </a:lnTo>
                    <a:lnTo>
                      <a:pt x="14416" y="310"/>
                    </a:lnTo>
                    <a:lnTo>
                      <a:pt x="14166" y="3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54320" y="4844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63" name=""/>
              <p:cNvSpPr/>
              <p:nvPr/>
            </p:nvSpPr>
            <p:spPr>
              <a:xfrm>
                <a:off x="7302600" y="4613400"/>
                <a:ext cx="436320" cy="174600"/>
              </a:xfrm>
              <a:custGeom>
                <a:avLst/>
                <a:gdLst/>
                <a:ahLst/>
                <a:rect l="l" t="t" r="r" b="b"/>
                <a:pathLst>
                  <a:path w="275" h="110">
                    <a:moveTo>
                      <a:pt x="275" y="20"/>
                    </a:moveTo>
                    <a:lnTo>
                      <a:pt x="51" y="94"/>
                    </a:lnTo>
                    <a:lnTo>
                      <a:pt x="44" y="75"/>
                    </a:lnTo>
                    <a:lnTo>
                      <a:pt x="269" y="0"/>
                    </a:lnTo>
                    <a:lnTo>
                      <a:pt x="275" y="20"/>
                    </a:lnTo>
                    <a:close/>
                    <a:moveTo>
                      <a:pt x="66" y="110"/>
                    </a:moveTo>
                    <a:lnTo>
                      <a:pt x="0" y="100"/>
                    </a:lnTo>
                    <a:lnTo>
                      <a:pt x="47" y="53"/>
                    </a:lnTo>
                    <a:lnTo>
                      <a:pt x="66" y="11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92320" y="432432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sp>
        <p:nvSpPr>
          <p:cNvPr id="265" name=""/>
          <p:cNvSpPr/>
          <p:nvPr/>
        </p:nvSpPr>
        <p:spPr>
          <a:xfrm>
            <a:off x="7493040" y="447984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6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Lin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 descr=""/>
          <p:cNvPicPr/>
          <p:nvPr/>
        </p:nvPicPr>
        <p:blipFill>
          <a:blip r:embed="rId1"/>
          <a:stretch/>
        </p:blipFill>
        <p:spPr>
          <a:xfrm>
            <a:off x="736560" y="2120760"/>
            <a:ext cx="7645320" cy="30607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0000"/>
                </a:solidFill>
                <a:latin typeface="Arial Black"/>
              </a:rPr>
              <a:t>Case Study – PHIPA Compliance at Ontario Hospital</a:t>
            </a:r>
            <a:endParaRPr b="0" lang="en-US" sz="1800" spc="-1" strike="noStrike">
              <a:solidFill>
                <a:srgbClr val="990000"/>
              </a:solidFill>
              <a:latin typeface="Arial Black"/>
            </a:endParaRPr>
          </a:p>
        </p:txBody>
      </p:sp>
      <p:grpSp>
        <p:nvGrpSpPr>
          <p:cNvPr id="270" name=""/>
          <p:cNvGrpSpPr/>
          <p:nvPr/>
        </p:nvGrpSpPr>
        <p:grpSpPr>
          <a:xfrm>
            <a:off x="5094360" y="2246400"/>
            <a:ext cx="3897360" cy="3108240"/>
            <a:chOff x="5094360" y="2246400"/>
            <a:chExt cx="3897360" cy="3108240"/>
          </a:xfrm>
        </p:grpSpPr>
        <p:grpSp>
          <p:nvGrpSpPr>
            <p:cNvPr id="271" name=""/>
            <p:cNvGrpSpPr/>
            <p:nvPr/>
          </p:nvGrpSpPr>
          <p:grpSpPr>
            <a:xfrm>
              <a:off x="8001000" y="2590920"/>
              <a:ext cx="990720" cy="1143000"/>
              <a:chOff x="8001000" y="2590920"/>
              <a:chExt cx="990720" cy="1143000"/>
            </a:xfrm>
          </p:grpSpPr>
          <p:sp>
            <p:nvSpPr>
              <p:cNvPr id="272" name=""/>
              <p:cNvSpPr/>
              <p:nvPr/>
            </p:nvSpPr>
            <p:spPr>
              <a:xfrm flipH="1">
                <a:off x="8077320" y="3276720"/>
                <a:ext cx="28872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1000" y="2590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PHIPA</a:t>
                </a:r>
                <a:endParaRPr b="0" lang="en-US" sz="1200" spc="-1" strike="noStrike">
                  <a:solidFill>
                    <a:srgbClr val="000000"/>
                  </a:solidFill>
                  <a:latin typeface="Times New Roman"/>
                </a:endParaRPr>
              </a:p>
            </p:txBody>
          </p:sp>
        </p:grpSp>
        <p:grpSp>
          <p:nvGrpSpPr>
            <p:cNvPr id="274" name=""/>
            <p:cNvGrpSpPr/>
            <p:nvPr/>
          </p:nvGrpSpPr>
          <p:grpSpPr>
            <a:xfrm>
              <a:off x="5094360" y="2246400"/>
              <a:ext cx="3039840" cy="3108240"/>
              <a:chOff x="5094360" y="2246400"/>
              <a:chExt cx="3039840" cy="3108240"/>
            </a:xfrm>
          </p:grpSpPr>
          <p:sp>
            <p:nvSpPr>
              <p:cNvPr id="275" name=""/>
              <p:cNvSpPr/>
              <p:nvPr/>
            </p:nvSpPr>
            <p:spPr>
              <a:xfrm>
                <a:off x="5489640" y="4672080"/>
                <a:ext cx="2252520" cy="682560"/>
              </a:xfrm>
              <a:custGeom>
                <a:avLst/>
                <a:gdLst/>
                <a:ahLst/>
                <a:rect l="l" t="t" r="r" b="b"/>
                <a:pathLst>
                  <a:path w="1419" h="430">
                    <a:moveTo>
                      <a:pt x="745" y="7"/>
                    </a:moveTo>
                    <a:lnTo>
                      <a:pt x="709" y="6"/>
                    </a:lnTo>
                    <a:lnTo>
                      <a:pt x="695" y="6"/>
                    </a:lnTo>
                    <a:lnTo>
                      <a:pt x="695" y="0"/>
                    </a:lnTo>
                    <a:lnTo>
                      <a:pt x="709" y="0"/>
                    </a:lnTo>
                    <a:lnTo>
                      <a:pt x="745" y="0"/>
                    </a:lnTo>
                    <a:lnTo>
                      <a:pt x="745" y="7"/>
                    </a:lnTo>
                    <a:close/>
                    <a:moveTo>
                      <a:pt x="677" y="7"/>
                    </a:moveTo>
                    <a:lnTo>
                      <a:pt x="673" y="7"/>
                    </a:lnTo>
                    <a:lnTo>
                      <a:pt x="637" y="8"/>
                    </a:lnTo>
                    <a:lnTo>
                      <a:pt x="627" y="8"/>
                    </a:lnTo>
                    <a:lnTo>
                      <a:pt x="627" y="2"/>
                    </a:lnTo>
                    <a:lnTo>
                      <a:pt x="637" y="1"/>
                    </a:lnTo>
                    <a:lnTo>
                      <a:pt x="673" y="0"/>
                    </a:lnTo>
                    <a:lnTo>
                      <a:pt x="677" y="0"/>
                    </a:lnTo>
                    <a:lnTo>
                      <a:pt x="677" y="7"/>
                    </a:lnTo>
                    <a:close/>
                    <a:moveTo>
                      <a:pt x="608" y="9"/>
                    </a:moveTo>
                    <a:lnTo>
                      <a:pt x="601" y="9"/>
                    </a:lnTo>
                    <a:lnTo>
                      <a:pt x="567" y="11"/>
                    </a:lnTo>
                    <a:lnTo>
                      <a:pt x="559" y="11"/>
                    </a:lnTo>
                    <a:lnTo>
                      <a:pt x="558" y="5"/>
                    </a:lnTo>
                    <a:lnTo>
                      <a:pt x="566" y="5"/>
                    </a:lnTo>
                    <a:lnTo>
                      <a:pt x="601" y="3"/>
                    </a:lnTo>
                    <a:lnTo>
                      <a:pt x="608" y="2"/>
                    </a:lnTo>
                    <a:lnTo>
                      <a:pt x="608" y="9"/>
                    </a:lnTo>
                    <a:close/>
                    <a:moveTo>
                      <a:pt x="540" y="13"/>
                    </a:moveTo>
                    <a:lnTo>
                      <a:pt x="532" y="13"/>
                    </a:lnTo>
                    <a:lnTo>
                      <a:pt x="499" y="16"/>
                    </a:lnTo>
                    <a:lnTo>
                      <a:pt x="490" y="17"/>
                    </a:lnTo>
                    <a:lnTo>
                      <a:pt x="490" y="11"/>
                    </a:lnTo>
                    <a:lnTo>
                      <a:pt x="498" y="10"/>
                    </a:lnTo>
                    <a:lnTo>
                      <a:pt x="532" y="7"/>
                    </a:lnTo>
                    <a:lnTo>
                      <a:pt x="540" y="6"/>
                    </a:lnTo>
                    <a:lnTo>
                      <a:pt x="540" y="13"/>
                    </a:lnTo>
                    <a:close/>
                    <a:moveTo>
                      <a:pt x="472" y="19"/>
                    </a:moveTo>
                    <a:lnTo>
                      <a:pt x="466" y="19"/>
                    </a:lnTo>
                    <a:lnTo>
                      <a:pt x="434" y="23"/>
                    </a:lnTo>
                    <a:lnTo>
                      <a:pt x="422" y="25"/>
                    </a:lnTo>
                    <a:lnTo>
                      <a:pt x="422" y="18"/>
                    </a:lnTo>
                    <a:lnTo>
                      <a:pt x="434" y="17"/>
                    </a:lnTo>
                    <a:lnTo>
                      <a:pt x="466" y="13"/>
                    </a:lnTo>
                    <a:lnTo>
                      <a:pt x="471" y="12"/>
                    </a:lnTo>
                    <a:lnTo>
                      <a:pt x="472" y="19"/>
                    </a:lnTo>
                    <a:close/>
                    <a:moveTo>
                      <a:pt x="404" y="27"/>
                    </a:moveTo>
                    <a:lnTo>
                      <a:pt x="403" y="27"/>
                    </a:lnTo>
                    <a:lnTo>
                      <a:pt x="373" y="32"/>
                    </a:lnTo>
                    <a:lnTo>
                      <a:pt x="355" y="35"/>
                    </a:lnTo>
                    <a:lnTo>
                      <a:pt x="354" y="29"/>
                    </a:lnTo>
                    <a:lnTo>
                      <a:pt x="372" y="26"/>
                    </a:lnTo>
                    <a:lnTo>
                      <a:pt x="402" y="21"/>
                    </a:lnTo>
                    <a:lnTo>
                      <a:pt x="403" y="21"/>
                    </a:lnTo>
                    <a:lnTo>
                      <a:pt x="404" y="27"/>
                    </a:lnTo>
                    <a:close/>
                    <a:moveTo>
                      <a:pt x="336" y="38"/>
                    </a:moveTo>
                    <a:lnTo>
                      <a:pt x="314" y="43"/>
                    </a:lnTo>
                    <a:lnTo>
                      <a:pt x="288" y="48"/>
                    </a:lnTo>
                    <a:lnTo>
                      <a:pt x="286" y="42"/>
                    </a:lnTo>
                    <a:lnTo>
                      <a:pt x="313" y="36"/>
                    </a:lnTo>
                    <a:lnTo>
                      <a:pt x="335" y="32"/>
                    </a:lnTo>
                    <a:lnTo>
                      <a:pt x="336" y="38"/>
                    </a:lnTo>
                    <a:close/>
                    <a:moveTo>
                      <a:pt x="269" y="52"/>
                    </a:moveTo>
                    <a:lnTo>
                      <a:pt x="260" y="55"/>
                    </a:lnTo>
                    <a:lnTo>
                      <a:pt x="235" y="61"/>
                    </a:lnTo>
                    <a:lnTo>
                      <a:pt x="221" y="65"/>
                    </a:lnTo>
                    <a:lnTo>
                      <a:pt x="220" y="59"/>
                    </a:lnTo>
                    <a:lnTo>
                      <a:pt x="233" y="55"/>
                    </a:lnTo>
                    <a:lnTo>
                      <a:pt x="259" y="49"/>
                    </a:lnTo>
                    <a:lnTo>
                      <a:pt x="268" y="46"/>
                    </a:lnTo>
                    <a:lnTo>
                      <a:pt x="269" y="52"/>
                    </a:lnTo>
                    <a:close/>
                    <a:moveTo>
                      <a:pt x="204" y="70"/>
                    </a:moveTo>
                    <a:lnTo>
                      <a:pt x="187" y="76"/>
                    </a:lnTo>
                    <a:lnTo>
                      <a:pt x="165" y="83"/>
                    </a:lnTo>
                    <a:lnTo>
                      <a:pt x="156" y="87"/>
                    </a:lnTo>
                    <a:lnTo>
                      <a:pt x="154" y="81"/>
                    </a:lnTo>
                    <a:lnTo>
                      <a:pt x="163" y="78"/>
                    </a:lnTo>
                    <a:lnTo>
                      <a:pt x="185" y="70"/>
                    </a:lnTo>
                    <a:lnTo>
                      <a:pt x="202" y="64"/>
                    </a:lnTo>
                    <a:lnTo>
                      <a:pt x="204" y="70"/>
                    </a:lnTo>
                    <a:close/>
                    <a:moveTo>
                      <a:pt x="139" y="93"/>
                    </a:moveTo>
                    <a:lnTo>
                      <a:pt x="124" y="100"/>
                    </a:lnTo>
                    <a:lnTo>
                      <a:pt x="106" y="108"/>
                    </a:lnTo>
                    <a:lnTo>
                      <a:pt x="94" y="114"/>
                    </a:lnTo>
                    <a:lnTo>
                      <a:pt x="91" y="109"/>
                    </a:lnTo>
                    <a:lnTo>
                      <a:pt x="103" y="103"/>
                    </a:lnTo>
                    <a:lnTo>
                      <a:pt x="122" y="94"/>
                    </a:lnTo>
                    <a:lnTo>
                      <a:pt x="137" y="88"/>
                    </a:lnTo>
                    <a:lnTo>
                      <a:pt x="139" y="93"/>
                    </a:lnTo>
                    <a:close/>
                    <a:moveTo>
                      <a:pt x="78" y="123"/>
                    </a:moveTo>
                    <a:lnTo>
                      <a:pt x="73" y="126"/>
                    </a:lnTo>
                    <a:lnTo>
                      <a:pt x="66" y="131"/>
                    </a:lnTo>
                    <a:lnTo>
                      <a:pt x="60" y="135"/>
                    </a:lnTo>
                    <a:lnTo>
                      <a:pt x="53" y="140"/>
                    </a:lnTo>
                    <a:lnTo>
                      <a:pt x="47" y="145"/>
                    </a:lnTo>
                    <a:lnTo>
                      <a:pt x="41" y="150"/>
                    </a:lnTo>
                    <a:lnTo>
                      <a:pt x="38" y="152"/>
                    </a:lnTo>
                    <a:lnTo>
                      <a:pt x="34" y="148"/>
                    </a:lnTo>
                    <a:lnTo>
                      <a:pt x="37" y="145"/>
                    </a:lnTo>
                    <a:lnTo>
                      <a:pt x="43" y="140"/>
                    </a:lnTo>
                    <a:lnTo>
                      <a:pt x="49" y="135"/>
                    </a:lnTo>
                    <a:lnTo>
                      <a:pt x="56" y="130"/>
                    </a:lnTo>
                    <a:lnTo>
                      <a:pt x="63" y="125"/>
                    </a:lnTo>
                    <a:lnTo>
                      <a:pt x="70" y="121"/>
                    </a:lnTo>
                    <a:lnTo>
                      <a:pt x="75" y="118"/>
                    </a:lnTo>
                    <a:lnTo>
                      <a:pt x="78" y="123"/>
                    </a:lnTo>
                    <a:close/>
                    <a:moveTo>
                      <a:pt x="26" y="166"/>
                    </a:moveTo>
                    <a:lnTo>
                      <a:pt x="23" y="169"/>
                    </a:lnTo>
                    <a:lnTo>
                      <a:pt x="19" y="174"/>
                    </a:lnTo>
                    <a:lnTo>
                      <a:pt x="16" y="179"/>
                    </a:lnTo>
                    <a:lnTo>
                      <a:pt x="13" y="184"/>
                    </a:lnTo>
                    <a:lnTo>
                      <a:pt x="11" y="190"/>
                    </a:lnTo>
                    <a:lnTo>
                      <a:pt x="9" y="195"/>
                    </a:lnTo>
                    <a:lnTo>
                      <a:pt x="7" y="200"/>
                    </a:lnTo>
                    <a:lnTo>
                      <a:pt x="6" y="205"/>
                    </a:lnTo>
                    <a:lnTo>
                      <a:pt x="6" y="208"/>
                    </a:lnTo>
                    <a:lnTo>
                      <a:pt x="0" y="208"/>
                    </a:lnTo>
                    <a:lnTo>
                      <a:pt x="0" y="204"/>
                    </a:lnTo>
                    <a:lnTo>
                      <a:pt x="1" y="198"/>
                    </a:lnTo>
                    <a:lnTo>
                      <a:pt x="3" y="193"/>
                    </a:lnTo>
                    <a:lnTo>
                      <a:pt x="5" y="187"/>
                    </a:lnTo>
                    <a:lnTo>
                      <a:pt x="8" y="181"/>
                    </a:lnTo>
                    <a:lnTo>
                      <a:pt x="11" y="176"/>
                    </a:lnTo>
                    <a:lnTo>
                      <a:pt x="14" y="171"/>
                    </a:lnTo>
                    <a:lnTo>
                      <a:pt x="18" y="165"/>
                    </a:lnTo>
                    <a:lnTo>
                      <a:pt x="21" y="162"/>
                    </a:lnTo>
                    <a:lnTo>
                      <a:pt x="26" y="166"/>
                    </a:lnTo>
                    <a:close/>
                    <a:moveTo>
                      <a:pt x="6" y="226"/>
                    </a:moveTo>
                    <a:lnTo>
                      <a:pt x="7" y="231"/>
                    </a:lnTo>
                    <a:lnTo>
                      <a:pt x="9" y="236"/>
                    </a:lnTo>
                    <a:lnTo>
                      <a:pt x="11" y="241"/>
                    </a:lnTo>
                    <a:lnTo>
                      <a:pt x="13" y="246"/>
                    </a:lnTo>
                    <a:lnTo>
                      <a:pt x="16" y="251"/>
                    </a:lnTo>
                    <a:lnTo>
                      <a:pt x="19" y="256"/>
                    </a:lnTo>
                    <a:lnTo>
                      <a:pt x="23" y="261"/>
                    </a:lnTo>
                    <a:lnTo>
                      <a:pt x="27" y="266"/>
                    </a:lnTo>
                    <a:lnTo>
                      <a:pt x="29" y="268"/>
                    </a:lnTo>
                    <a:lnTo>
                      <a:pt x="24" y="272"/>
                    </a:lnTo>
                    <a:lnTo>
                      <a:pt x="22" y="270"/>
                    </a:lnTo>
                    <a:lnTo>
                      <a:pt x="18" y="265"/>
                    </a:lnTo>
                    <a:lnTo>
                      <a:pt x="14" y="260"/>
                    </a:lnTo>
                    <a:lnTo>
                      <a:pt x="11" y="254"/>
                    </a:lnTo>
                    <a:lnTo>
                      <a:pt x="8" y="249"/>
                    </a:lnTo>
                    <a:lnTo>
                      <a:pt x="5" y="243"/>
                    </a:lnTo>
                    <a:lnTo>
                      <a:pt x="3" y="238"/>
                    </a:lnTo>
                    <a:lnTo>
                      <a:pt x="1" y="232"/>
                    </a:lnTo>
                    <a:lnTo>
                      <a:pt x="0" y="227"/>
                    </a:lnTo>
                    <a:lnTo>
                      <a:pt x="6" y="226"/>
                    </a:lnTo>
                    <a:close/>
                    <a:moveTo>
                      <a:pt x="42" y="281"/>
                    </a:moveTo>
                    <a:lnTo>
                      <a:pt x="47" y="286"/>
                    </a:lnTo>
                    <a:lnTo>
                      <a:pt x="53" y="291"/>
                    </a:lnTo>
                    <a:lnTo>
                      <a:pt x="60" y="295"/>
                    </a:lnTo>
                    <a:lnTo>
                      <a:pt x="67" y="300"/>
                    </a:lnTo>
                    <a:lnTo>
                      <a:pt x="74" y="305"/>
                    </a:lnTo>
                    <a:lnTo>
                      <a:pt x="82" y="309"/>
                    </a:lnTo>
                    <a:lnTo>
                      <a:pt x="79" y="315"/>
                    </a:lnTo>
                    <a:lnTo>
                      <a:pt x="70" y="310"/>
                    </a:lnTo>
                    <a:lnTo>
                      <a:pt x="63" y="305"/>
                    </a:lnTo>
                    <a:lnTo>
                      <a:pt x="56" y="300"/>
                    </a:lnTo>
                    <a:lnTo>
                      <a:pt x="49" y="295"/>
                    </a:lnTo>
                    <a:lnTo>
                      <a:pt x="43" y="291"/>
                    </a:lnTo>
                    <a:lnTo>
                      <a:pt x="38" y="286"/>
                    </a:lnTo>
                    <a:lnTo>
                      <a:pt x="42" y="281"/>
                    </a:lnTo>
                    <a:close/>
                    <a:moveTo>
                      <a:pt x="98" y="318"/>
                    </a:moveTo>
                    <a:lnTo>
                      <a:pt x="106" y="322"/>
                    </a:lnTo>
                    <a:lnTo>
                      <a:pt x="124" y="331"/>
                    </a:lnTo>
                    <a:lnTo>
                      <a:pt x="143" y="339"/>
                    </a:lnTo>
                    <a:lnTo>
                      <a:pt x="141" y="345"/>
                    </a:lnTo>
                    <a:lnTo>
                      <a:pt x="122" y="337"/>
                    </a:lnTo>
                    <a:lnTo>
                      <a:pt x="103" y="328"/>
                    </a:lnTo>
                    <a:lnTo>
                      <a:pt x="95" y="324"/>
                    </a:lnTo>
                    <a:lnTo>
                      <a:pt x="98" y="318"/>
                    </a:lnTo>
                    <a:close/>
                    <a:moveTo>
                      <a:pt x="161" y="345"/>
                    </a:moveTo>
                    <a:lnTo>
                      <a:pt x="165" y="347"/>
                    </a:lnTo>
                    <a:lnTo>
                      <a:pt x="187" y="355"/>
                    </a:lnTo>
                    <a:lnTo>
                      <a:pt x="208" y="361"/>
                    </a:lnTo>
                    <a:lnTo>
                      <a:pt x="206" y="367"/>
                    </a:lnTo>
                    <a:lnTo>
                      <a:pt x="185" y="361"/>
                    </a:lnTo>
                    <a:lnTo>
                      <a:pt x="162" y="353"/>
                    </a:lnTo>
                    <a:lnTo>
                      <a:pt x="158" y="351"/>
                    </a:lnTo>
                    <a:lnTo>
                      <a:pt x="161" y="345"/>
                    </a:lnTo>
                    <a:close/>
                    <a:moveTo>
                      <a:pt x="225" y="367"/>
                    </a:moveTo>
                    <a:lnTo>
                      <a:pt x="235" y="369"/>
                    </a:lnTo>
                    <a:lnTo>
                      <a:pt x="260" y="376"/>
                    </a:lnTo>
                    <a:lnTo>
                      <a:pt x="274" y="379"/>
                    </a:lnTo>
                    <a:lnTo>
                      <a:pt x="272" y="385"/>
                    </a:lnTo>
                    <a:lnTo>
                      <a:pt x="259" y="382"/>
                    </a:lnTo>
                    <a:lnTo>
                      <a:pt x="233" y="375"/>
                    </a:lnTo>
                    <a:lnTo>
                      <a:pt x="224" y="373"/>
                    </a:lnTo>
                    <a:lnTo>
                      <a:pt x="225" y="367"/>
                    </a:lnTo>
                    <a:close/>
                    <a:moveTo>
                      <a:pt x="292" y="383"/>
                    </a:moveTo>
                    <a:lnTo>
                      <a:pt x="314" y="388"/>
                    </a:lnTo>
                    <a:lnTo>
                      <a:pt x="341" y="393"/>
                    </a:lnTo>
                    <a:lnTo>
                      <a:pt x="340" y="399"/>
                    </a:lnTo>
                    <a:lnTo>
                      <a:pt x="313" y="394"/>
                    </a:lnTo>
                    <a:lnTo>
                      <a:pt x="291" y="389"/>
                    </a:lnTo>
                    <a:lnTo>
                      <a:pt x="292" y="383"/>
                    </a:lnTo>
                    <a:close/>
                    <a:moveTo>
                      <a:pt x="359" y="396"/>
                    </a:moveTo>
                    <a:lnTo>
                      <a:pt x="373" y="399"/>
                    </a:lnTo>
                    <a:lnTo>
                      <a:pt x="403" y="403"/>
                    </a:lnTo>
                    <a:lnTo>
                      <a:pt x="408" y="404"/>
                    </a:lnTo>
                    <a:lnTo>
                      <a:pt x="407" y="410"/>
                    </a:lnTo>
                    <a:lnTo>
                      <a:pt x="402" y="409"/>
                    </a:lnTo>
                    <a:lnTo>
                      <a:pt x="371" y="405"/>
                    </a:lnTo>
                    <a:lnTo>
                      <a:pt x="358" y="402"/>
                    </a:lnTo>
                    <a:lnTo>
                      <a:pt x="359" y="396"/>
                    </a:lnTo>
                    <a:close/>
                    <a:moveTo>
                      <a:pt x="427" y="406"/>
                    </a:moveTo>
                    <a:lnTo>
                      <a:pt x="434" y="407"/>
                    </a:lnTo>
                    <a:lnTo>
                      <a:pt x="466" y="411"/>
                    </a:lnTo>
                    <a:lnTo>
                      <a:pt x="476" y="412"/>
                    </a:lnTo>
                    <a:lnTo>
                      <a:pt x="475" y="418"/>
                    </a:lnTo>
                    <a:lnTo>
                      <a:pt x="466" y="417"/>
                    </a:lnTo>
                    <a:lnTo>
                      <a:pt x="433" y="414"/>
                    </a:lnTo>
                    <a:lnTo>
                      <a:pt x="426" y="413"/>
                    </a:lnTo>
                    <a:lnTo>
                      <a:pt x="427" y="406"/>
                    </a:lnTo>
                    <a:close/>
                    <a:moveTo>
                      <a:pt x="495" y="414"/>
                    </a:moveTo>
                    <a:lnTo>
                      <a:pt x="499" y="414"/>
                    </a:lnTo>
                    <a:lnTo>
                      <a:pt x="532" y="417"/>
                    </a:lnTo>
                    <a:lnTo>
                      <a:pt x="544" y="418"/>
                    </a:lnTo>
                    <a:lnTo>
                      <a:pt x="544" y="424"/>
                    </a:lnTo>
                    <a:lnTo>
                      <a:pt x="532" y="424"/>
                    </a:lnTo>
                    <a:lnTo>
                      <a:pt x="498" y="421"/>
                    </a:lnTo>
                    <a:lnTo>
                      <a:pt x="494" y="420"/>
                    </a:lnTo>
                    <a:lnTo>
                      <a:pt x="495" y="414"/>
                    </a:lnTo>
                    <a:close/>
                    <a:moveTo>
                      <a:pt x="563" y="420"/>
                    </a:moveTo>
                    <a:lnTo>
                      <a:pt x="567" y="420"/>
                    </a:lnTo>
                    <a:lnTo>
                      <a:pt x="601" y="422"/>
                    </a:lnTo>
                    <a:lnTo>
                      <a:pt x="613" y="422"/>
                    </a:lnTo>
                    <a:lnTo>
                      <a:pt x="612" y="428"/>
                    </a:lnTo>
                    <a:lnTo>
                      <a:pt x="601" y="428"/>
                    </a:lnTo>
                    <a:lnTo>
                      <a:pt x="566" y="426"/>
                    </a:lnTo>
                    <a:lnTo>
                      <a:pt x="562" y="426"/>
                    </a:lnTo>
                    <a:lnTo>
                      <a:pt x="563" y="420"/>
                    </a:lnTo>
                    <a:close/>
                    <a:moveTo>
                      <a:pt x="631" y="423"/>
                    </a:moveTo>
                    <a:lnTo>
                      <a:pt x="637" y="423"/>
                    </a:lnTo>
                    <a:lnTo>
                      <a:pt x="673" y="424"/>
                    </a:lnTo>
                    <a:lnTo>
                      <a:pt x="681" y="424"/>
                    </a:lnTo>
                    <a:lnTo>
                      <a:pt x="681" y="430"/>
                    </a:lnTo>
                    <a:lnTo>
                      <a:pt x="673" y="430"/>
                    </a:lnTo>
                    <a:lnTo>
                      <a:pt x="636" y="429"/>
                    </a:lnTo>
                    <a:lnTo>
                      <a:pt x="631" y="429"/>
                    </a:lnTo>
                    <a:lnTo>
                      <a:pt x="631" y="423"/>
                    </a:lnTo>
                    <a:close/>
                    <a:moveTo>
                      <a:pt x="700" y="424"/>
                    </a:moveTo>
                    <a:lnTo>
                      <a:pt x="709" y="424"/>
                    </a:lnTo>
                    <a:lnTo>
                      <a:pt x="745" y="424"/>
                    </a:lnTo>
                    <a:lnTo>
                      <a:pt x="750" y="424"/>
                    </a:lnTo>
                    <a:lnTo>
                      <a:pt x="750" y="430"/>
                    </a:lnTo>
                    <a:lnTo>
                      <a:pt x="745" y="430"/>
                    </a:lnTo>
                    <a:lnTo>
                      <a:pt x="709" y="430"/>
                    </a:lnTo>
                    <a:lnTo>
                      <a:pt x="700" y="430"/>
                    </a:lnTo>
                    <a:lnTo>
                      <a:pt x="700" y="424"/>
                    </a:lnTo>
                    <a:close/>
                    <a:moveTo>
                      <a:pt x="768" y="423"/>
                    </a:moveTo>
                    <a:lnTo>
                      <a:pt x="781" y="423"/>
                    </a:lnTo>
                    <a:lnTo>
                      <a:pt x="816" y="422"/>
                    </a:lnTo>
                    <a:lnTo>
                      <a:pt x="818" y="422"/>
                    </a:lnTo>
                    <a:lnTo>
                      <a:pt x="818" y="428"/>
                    </a:lnTo>
                    <a:lnTo>
                      <a:pt x="817" y="428"/>
                    </a:lnTo>
                    <a:lnTo>
                      <a:pt x="781" y="429"/>
                    </a:lnTo>
                    <a:lnTo>
                      <a:pt x="768" y="429"/>
                    </a:lnTo>
                    <a:lnTo>
                      <a:pt x="768" y="423"/>
                    </a:lnTo>
                    <a:close/>
                    <a:moveTo>
                      <a:pt x="837" y="420"/>
                    </a:moveTo>
                    <a:lnTo>
                      <a:pt x="851" y="420"/>
                    </a:lnTo>
                    <a:lnTo>
                      <a:pt x="885" y="417"/>
                    </a:lnTo>
                    <a:lnTo>
                      <a:pt x="886" y="417"/>
                    </a:lnTo>
                    <a:lnTo>
                      <a:pt x="887" y="423"/>
                    </a:lnTo>
                    <a:lnTo>
                      <a:pt x="886" y="424"/>
                    </a:lnTo>
                    <a:lnTo>
                      <a:pt x="851" y="426"/>
                    </a:lnTo>
                    <a:lnTo>
                      <a:pt x="837" y="427"/>
                    </a:lnTo>
                    <a:lnTo>
                      <a:pt x="837" y="420"/>
                    </a:lnTo>
                    <a:close/>
                    <a:moveTo>
                      <a:pt x="905" y="416"/>
                    </a:moveTo>
                    <a:lnTo>
                      <a:pt x="919" y="414"/>
                    </a:lnTo>
                    <a:lnTo>
                      <a:pt x="951" y="411"/>
                    </a:lnTo>
                    <a:lnTo>
                      <a:pt x="954" y="411"/>
                    </a:lnTo>
                    <a:lnTo>
                      <a:pt x="955" y="417"/>
                    </a:lnTo>
                    <a:lnTo>
                      <a:pt x="952" y="417"/>
                    </a:lnTo>
                    <a:lnTo>
                      <a:pt x="919" y="421"/>
                    </a:lnTo>
                    <a:lnTo>
                      <a:pt x="906" y="422"/>
                    </a:lnTo>
                    <a:lnTo>
                      <a:pt x="905" y="416"/>
                    </a:lnTo>
                    <a:close/>
                    <a:moveTo>
                      <a:pt x="973" y="409"/>
                    </a:moveTo>
                    <a:lnTo>
                      <a:pt x="984" y="407"/>
                    </a:lnTo>
                    <a:lnTo>
                      <a:pt x="1015" y="403"/>
                    </a:lnTo>
                    <a:lnTo>
                      <a:pt x="1022" y="402"/>
                    </a:lnTo>
                    <a:lnTo>
                      <a:pt x="1023" y="408"/>
                    </a:lnTo>
                    <a:lnTo>
                      <a:pt x="1016" y="409"/>
                    </a:lnTo>
                    <a:lnTo>
                      <a:pt x="984" y="414"/>
                    </a:lnTo>
                    <a:lnTo>
                      <a:pt x="974" y="415"/>
                    </a:lnTo>
                    <a:lnTo>
                      <a:pt x="973" y="409"/>
                    </a:lnTo>
                    <a:close/>
                    <a:moveTo>
                      <a:pt x="1041" y="399"/>
                    </a:moveTo>
                    <a:lnTo>
                      <a:pt x="1045" y="399"/>
                    </a:lnTo>
                    <a:lnTo>
                      <a:pt x="1075" y="393"/>
                    </a:lnTo>
                    <a:lnTo>
                      <a:pt x="1090" y="391"/>
                    </a:lnTo>
                    <a:lnTo>
                      <a:pt x="1091" y="397"/>
                    </a:lnTo>
                    <a:lnTo>
                      <a:pt x="1076" y="400"/>
                    </a:lnTo>
                    <a:lnTo>
                      <a:pt x="1046" y="405"/>
                    </a:lnTo>
                    <a:lnTo>
                      <a:pt x="1042" y="405"/>
                    </a:lnTo>
                    <a:lnTo>
                      <a:pt x="1041" y="399"/>
                    </a:lnTo>
                    <a:close/>
                    <a:moveTo>
                      <a:pt x="1108" y="387"/>
                    </a:moveTo>
                    <a:lnTo>
                      <a:pt x="1131" y="382"/>
                    </a:lnTo>
                    <a:lnTo>
                      <a:pt x="1157" y="376"/>
                    </a:lnTo>
                    <a:lnTo>
                      <a:pt x="1158" y="382"/>
                    </a:lnTo>
                    <a:lnTo>
                      <a:pt x="1132" y="388"/>
                    </a:lnTo>
                    <a:lnTo>
                      <a:pt x="1109" y="393"/>
                    </a:lnTo>
                    <a:lnTo>
                      <a:pt x="1108" y="387"/>
                    </a:lnTo>
                    <a:close/>
                    <a:moveTo>
                      <a:pt x="1175" y="371"/>
                    </a:moveTo>
                    <a:lnTo>
                      <a:pt x="1183" y="369"/>
                    </a:lnTo>
                    <a:lnTo>
                      <a:pt x="1208" y="362"/>
                    </a:lnTo>
                    <a:lnTo>
                      <a:pt x="1222" y="357"/>
                    </a:lnTo>
                    <a:lnTo>
                      <a:pt x="1224" y="363"/>
                    </a:lnTo>
                    <a:lnTo>
                      <a:pt x="1209" y="368"/>
                    </a:lnTo>
                    <a:lnTo>
                      <a:pt x="1185" y="375"/>
                    </a:lnTo>
                    <a:lnTo>
                      <a:pt x="1176" y="377"/>
                    </a:lnTo>
                    <a:lnTo>
                      <a:pt x="1175" y="371"/>
                    </a:lnTo>
                    <a:close/>
                    <a:moveTo>
                      <a:pt x="1240" y="352"/>
                    </a:moveTo>
                    <a:lnTo>
                      <a:pt x="1253" y="347"/>
                    </a:lnTo>
                    <a:lnTo>
                      <a:pt x="1274" y="339"/>
                    </a:lnTo>
                    <a:lnTo>
                      <a:pt x="1286" y="334"/>
                    </a:lnTo>
                    <a:lnTo>
                      <a:pt x="1289" y="340"/>
                    </a:lnTo>
                    <a:lnTo>
                      <a:pt x="1276" y="345"/>
                    </a:lnTo>
                    <a:lnTo>
                      <a:pt x="1255" y="353"/>
                    </a:lnTo>
                    <a:lnTo>
                      <a:pt x="1242" y="357"/>
                    </a:lnTo>
                    <a:lnTo>
                      <a:pt x="1240" y="352"/>
                    </a:lnTo>
                    <a:close/>
                    <a:moveTo>
                      <a:pt x="1303" y="326"/>
                    </a:moveTo>
                    <a:lnTo>
                      <a:pt x="1312" y="322"/>
                    </a:lnTo>
                    <a:lnTo>
                      <a:pt x="1329" y="314"/>
                    </a:lnTo>
                    <a:lnTo>
                      <a:pt x="1344" y="304"/>
                    </a:lnTo>
                    <a:lnTo>
                      <a:pt x="1347" y="303"/>
                    </a:lnTo>
                    <a:lnTo>
                      <a:pt x="1350" y="308"/>
                    </a:lnTo>
                    <a:lnTo>
                      <a:pt x="1348" y="310"/>
                    </a:lnTo>
                    <a:lnTo>
                      <a:pt x="1332" y="319"/>
                    </a:lnTo>
                    <a:lnTo>
                      <a:pt x="1315" y="328"/>
                    </a:lnTo>
                    <a:lnTo>
                      <a:pt x="1306" y="332"/>
                    </a:lnTo>
                    <a:lnTo>
                      <a:pt x="1303" y="326"/>
                    </a:lnTo>
                    <a:close/>
                    <a:moveTo>
                      <a:pt x="1362" y="292"/>
                    </a:moveTo>
                    <a:lnTo>
                      <a:pt x="1365" y="291"/>
                    </a:lnTo>
                    <a:lnTo>
                      <a:pt x="1371" y="286"/>
                    </a:lnTo>
                    <a:lnTo>
                      <a:pt x="1376" y="281"/>
                    </a:lnTo>
                    <a:lnTo>
                      <a:pt x="1382" y="276"/>
                    </a:lnTo>
                    <a:lnTo>
                      <a:pt x="1387" y="271"/>
                    </a:lnTo>
                    <a:lnTo>
                      <a:pt x="1391" y="266"/>
                    </a:lnTo>
                    <a:lnTo>
                      <a:pt x="1395" y="261"/>
                    </a:lnTo>
                    <a:lnTo>
                      <a:pt x="1397" y="258"/>
                    </a:lnTo>
                    <a:lnTo>
                      <a:pt x="1402" y="262"/>
                    </a:lnTo>
                    <a:lnTo>
                      <a:pt x="1400" y="265"/>
                    </a:lnTo>
                    <a:lnTo>
                      <a:pt x="1396" y="270"/>
                    </a:lnTo>
                    <a:lnTo>
                      <a:pt x="1391" y="275"/>
                    </a:lnTo>
                    <a:lnTo>
                      <a:pt x="1386" y="281"/>
                    </a:lnTo>
                    <a:lnTo>
                      <a:pt x="1380" y="286"/>
                    </a:lnTo>
                    <a:lnTo>
                      <a:pt x="1375" y="291"/>
                    </a:lnTo>
                    <a:lnTo>
                      <a:pt x="1368" y="296"/>
                    </a:lnTo>
                    <a:lnTo>
                      <a:pt x="1366" y="297"/>
                    </a:lnTo>
                    <a:lnTo>
                      <a:pt x="1362" y="292"/>
                    </a:lnTo>
                    <a:close/>
                    <a:moveTo>
                      <a:pt x="1406" y="243"/>
                    </a:moveTo>
                    <a:lnTo>
                      <a:pt x="1407" y="241"/>
                    </a:lnTo>
                    <a:lnTo>
                      <a:pt x="1409" y="236"/>
                    </a:lnTo>
                    <a:lnTo>
                      <a:pt x="1411" y="231"/>
                    </a:lnTo>
                    <a:lnTo>
                      <a:pt x="1412" y="225"/>
                    </a:lnTo>
                    <a:lnTo>
                      <a:pt x="1412" y="220"/>
                    </a:lnTo>
                    <a:lnTo>
                      <a:pt x="1412" y="215"/>
                    </a:lnTo>
                    <a:lnTo>
                      <a:pt x="1412" y="210"/>
                    </a:lnTo>
                    <a:lnTo>
                      <a:pt x="1411" y="205"/>
                    </a:lnTo>
                    <a:lnTo>
                      <a:pt x="1410" y="200"/>
                    </a:lnTo>
                    <a:lnTo>
                      <a:pt x="1409" y="196"/>
                    </a:lnTo>
                    <a:lnTo>
                      <a:pt x="1415" y="195"/>
                    </a:lnTo>
                    <a:lnTo>
                      <a:pt x="1417" y="198"/>
                    </a:lnTo>
                    <a:lnTo>
                      <a:pt x="1418" y="204"/>
                    </a:lnTo>
                    <a:lnTo>
                      <a:pt x="1418" y="210"/>
                    </a:lnTo>
                    <a:lnTo>
                      <a:pt x="1419" y="215"/>
                    </a:lnTo>
                    <a:lnTo>
                      <a:pt x="1418" y="221"/>
                    </a:lnTo>
                    <a:lnTo>
                      <a:pt x="1418" y="227"/>
                    </a:lnTo>
                    <a:lnTo>
                      <a:pt x="1417" y="232"/>
                    </a:lnTo>
                    <a:lnTo>
                      <a:pt x="1415" y="238"/>
                    </a:lnTo>
                    <a:lnTo>
                      <a:pt x="1413" y="244"/>
                    </a:lnTo>
                    <a:lnTo>
                      <a:pt x="1412" y="245"/>
                    </a:lnTo>
                    <a:lnTo>
                      <a:pt x="1406" y="243"/>
                    </a:lnTo>
                    <a:close/>
                    <a:moveTo>
                      <a:pt x="1402" y="180"/>
                    </a:moveTo>
                    <a:lnTo>
                      <a:pt x="1402" y="179"/>
                    </a:lnTo>
                    <a:lnTo>
                      <a:pt x="1399" y="174"/>
                    </a:lnTo>
                    <a:lnTo>
                      <a:pt x="1395" y="169"/>
                    </a:lnTo>
                    <a:lnTo>
                      <a:pt x="1391" y="164"/>
                    </a:lnTo>
                    <a:lnTo>
                      <a:pt x="1386" y="159"/>
                    </a:lnTo>
                    <a:lnTo>
                      <a:pt x="1382" y="154"/>
                    </a:lnTo>
                    <a:lnTo>
                      <a:pt x="1376" y="150"/>
                    </a:lnTo>
                    <a:lnTo>
                      <a:pt x="1371" y="145"/>
                    </a:lnTo>
                    <a:lnTo>
                      <a:pt x="1370" y="144"/>
                    </a:lnTo>
                    <a:lnTo>
                      <a:pt x="1374" y="139"/>
                    </a:lnTo>
                    <a:lnTo>
                      <a:pt x="1375" y="140"/>
                    </a:lnTo>
                    <a:lnTo>
                      <a:pt x="1381" y="145"/>
                    </a:lnTo>
                    <a:lnTo>
                      <a:pt x="1386" y="150"/>
                    </a:lnTo>
                    <a:lnTo>
                      <a:pt x="1391" y="155"/>
                    </a:lnTo>
                    <a:lnTo>
                      <a:pt x="1396" y="160"/>
                    </a:lnTo>
                    <a:lnTo>
                      <a:pt x="1400" y="166"/>
                    </a:lnTo>
                    <a:lnTo>
                      <a:pt x="1404" y="171"/>
                    </a:lnTo>
                    <a:lnTo>
                      <a:pt x="1407" y="176"/>
                    </a:lnTo>
                    <a:lnTo>
                      <a:pt x="1408" y="177"/>
                    </a:lnTo>
                    <a:lnTo>
                      <a:pt x="1402" y="180"/>
                    </a:lnTo>
                    <a:close/>
                    <a:moveTo>
                      <a:pt x="1355" y="133"/>
                    </a:moveTo>
                    <a:lnTo>
                      <a:pt x="1351" y="131"/>
                    </a:lnTo>
                    <a:lnTo>
                      <a:pt x="1344" y="126"/>
                    </a:lnTo>
                    <a:lnTo>
                      <a:pt x="1329" y="117"/>
                    </a:lnTo>
                    <a:lnTo>
                      <a:pt x="1312" y="108"/>
                    </a:lnTo>
                    <a:lnTo>
                      <a:pt x="1315" y="103"/>
                    </a:lnTo>
                    <a:lnTo>
                      <a:pt x="1332" y="112"/>
                    </a:lnTo>
                    <a:lnTo>
                      <a:pt x="1348" y="121"/>
                    </a:lnTo>
                    <a:lnTo>
                      <a:pt x="1355" y="125"/>
                    </a:lnTo>
                    <a:lnTo>
                      <a:pt x="1359" y="128"/>
                    </a:lnTo>
                    <a:lnTo>
                      <a:pt x="1355" y="133"/>
                    </a:lnTo>
                    <a:close/>
                    <a:moveTo>
                      <a:pt x="1295" y="100"/>
                    </a:moveTo>
                    <a:lnTo>
                      <a:pt x="1293" y="100"/>
                    </a:lnTo>
                    <a:lnTo>
                      <a:pt x="1274" y="91"/>
                    </a:lnTo>
                    <a:lnTo>
                      <a:pt x="1253" y="83"/>
                    </a:lnTo>
                    <a:lnTo>
                      <a:pt x="1249" y="82"/>
                    </a:lnTo>
                    <a:lnTo>
                      <a:pt x="1251" y="76"/>
                    </a:lnTo>
                    <a:lnTo>
                      <a:pt x="1255" y="78"/>
                    </a:lnTo>
                    <a:lnTo>
                      <a:pt x="1276" y="86"/>
                    </a:lnTo>
                    <a:lnTo>
                      <a:pt x="1296" y="94"/>
                    </a:lnTo>
                    <a:lnTo>
                      <a:pt x="1298" y="95"/>
                    </a:lnTo>
                    <a:lnTo>
                      <a:pt x="1295" y="100"/>
                    </a:lnTo>
                    <a:close/>
                    <a:moveTo>
                      <a:pt x="1232" y="76"/>
                    </a:moveTo>
                    <a:lnTo>
                      <a:pt x="1231" y="76"/>
                    </a:lnTo>
                    <a:lnTo>
                      <a:pt x="1208" y="68"/>
                    </a:lnTo>
                    <a:lnTo>
                      <a:pt x="1184" y="62"/>
                    </a:lnTo>
                    <a:lnTo>
                      <a:pt x="1186" y="56"/>
                    </a:lnTo>
                    <a:lnTo>
                      <a:pt x="1210" y="62"/>
                    </a:lnTo>
                    <a:lnTo>
                      <a:pt x="1233" y="70"/>
                    </a:lnTo>
                    <a:lnTo>
                      <a:pt x="1234" y="70"/>
                    </a:lnTo>
                    <a:lnTo>
                      <a:pt x="1232" y="76"/>
                    </a:lnTo>
                    <a:close/>
                    <a:moveTo>
                      <a:pt x="1166" y="57"/>
                    </a:moveTo>
                    <a:lnTo>
                      <a:pt x="1158" y="55"/>
                    </a:lnTo>
                    <a:lnTo>
                      <a:pt x="1131" y="49"/>
                    </a:lnTo>
                    <a:lnTo>
                      <a:pt x="1118" y="46"/>
                    </a:lnTo>
                    <a:lnTo>
                      <a:pt x="1119" y="40"/>
                    </a:lnTo>
                    <a:lnTo>
                      <a:pt x="1132" y="42"/>
                    </a:lnTo>
                    <a:lnTo>
                      <a:pt x="1159" y="49"/>
                    </a:lnTo>
                    <a:lnTo>
                      <a:pt x="1168" y="51"/>
                    </a:lnTo>
                    <a:lnTo>
                      <a:pt x="1166" y="57"/>
                    </a:lnTo>
                    <a:close/>
                    <a:moveTo>
                      <a:pt x="1099" y="42"/>
                    </a:moveTo>
                    <a:lnTo>
                      <a:pt x="1075" y="37"/>
                    </a:lnTo>
                    <a:lnTo>
                      <a:pt x="1050" y="33"/>
                    </a:lnTo>
                    <a:lnTo>
                      <a:pt x="1052" y="27"/>
                    </a:lnTo>
                    <a:lnTo>
                      <a:pt x="1076" y="31"/>
                    </a:lnTo>
                    <a:lnTo>
                      <a:pt x="1101" y="36"/>
                    </a:lnTo>
                    <a:lnTo>
                      <a:pt x="1099" y="42"/>
                    </a:lnTo>
                    <a:close/>
                    <a:moveTo>
                      <a:pt x="1032" y="30"/>
                    </a:moveTo>
                    <a:lnTo>
                      <a:pt x="1015" y="27"/>
                    </a:lnTo>
                    <a:lnTo>
                      <a:pt x="983" y="23"/>
                    </a:lnTo>
                    <a:lnTo>
                      <a:pt x="983" y="23"/>
                    </a:lnTo>
                    <a:lnTo>
                      <a:pt x="983" y="17"/>
                    </a:lnTo>
                    <a:lnTo>
                      <a:pt x="984" y="17"/>
                    </a:lnTo>
                    <a:lnTo>
                      <a:pt x="1016" y="21"/>
                    </a:lnTo>
                    <a:lnTo>
                      <a:pt x="1033" y="24"/>
                    </a:lnTo>
                    <a:lnTo>
                      <a:pt x="1032" y="30"/>
                    </a:lnTo>
                    <a:close/>
                    <a:moveTo>
                      <a:pt x="964" y="21"/>
                    </a:moveTo>
                    <a:lnTo>
                      <a:pt x="951" y="19"/>
                    </a:lnTo>
                    <a:lnTo>
                      <a:pt x="919" y="16"/>
                    </a:lnTo>
                    <a:lnTo>
                      <a:pt x="915" y="16"/>
                    </a:lnTo>
                    <a:lnTo>
                      <a:pt x="915" y="9"/>
                    </a:lnTo>
                    <a:lnTo>
                      <a:pt x="919" y="10"/>
                    </a:lnTo>
                    <a:lnTo>
                      <a:pt x="952" y="13"/>
                    </a:lnTo>
                    <a:lnTo>
                      <a:pt x="965" y="15"/>
                    </a:lnTo>
                    <a:lnTo>
                      <a:pt x="964" y="21"/>
                    </a:lnTo>
                    <a:close/>
                    <a:moveTo>
                      <a:pt x="896" y="14"/>
                    </a:moveTo>
                    <a:lnTo>
                      <a:pt x="885" y="13"/>
                    </a:lnTo>
                    <a:lnTo>
                      <a:pt x="851" y="11"/>
                    </a:lnTo>
                    <a:lnTo>
                      <a:pt x="846" y="11"/>
                    </a:lnTo>
                    <a:lnTo>
                      <a:pt x="847" y="4"/>
                    </a:lnTo>
                    <a:lnTo>
                      <a:pt x="851" y="5"/>
                    </a:lnTo>
                    <a:lnTo>
                      <a:pt x="886" y="7"/>
                    </a:lnTo>
                    <a:lnTo>
                      <a:pt x="897" y="8"/>
                    </a:lnTo>
                    <a:lnTo>
                      <a:pt x="896" y="14"/>
                    </a:lnTo>
                    <a:close/>
                    <a:moveTo>
                      <a:pt x="828" y="9"/>
                    </a:moveTo>
                    <a:lnTo>
                      <a:pt x="816" y="9"/>
                    </a:lnTo>
                    <a:lnTo>
                      <a:pt x="781" y="8"/>
                    </a:lnTo>
                    <a:lnTo>
                      <a:pt x="778" y="7"/>
                    </a:lnTo>
                    <a:lnTo>
                      <a:pt x="778" y="1"/>
                    </a:lnTo>
                    <a:lnTo>
                      <a:pt x="781" y="1"/>
                    </a:lnTo>
                    <a:lnTo>
                      <a:pt x="817" y="3"/>
                    </a:lnTo>
                    <a:lnTo>
                      <a:pt x="828" y="3"/>
                    </a:lnTo>
                    <a:lnTo>
                      <a:pt x="828" y="9"/>
                    </a:lnTo>
                    <a:close/>
                    <a:moveTo>
                      <a:pt x="759" y="7"/>
                    </a:moveTo>
                    <a:lnTo>
                      <a:pt x="745" y="7"/>
                    </a:lnTo>
                    <a:lnTo>
                      <a:pt x="745" y="0"/>
                    </a:lnTo>
                    <a:lnTo>
                      <a:pt x="759" y="1"/>
                    </a:lnTo>
                    <a:lnTo>
                      <a:pt x="75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094360" y="2246400"/>
                <a:ext cx="3039840" cy="2958840"/>
                <a:chOff x="5094360" y="2246400"/>
                <a:chExt cx="3039840" cy="2958840"/>
              </a:xfrm>
            </p:grpSpPr>
            <p:grpSp>
              <p:nvGrpSpPr>
                <p:cNvPr id="277" name=""/>
                <p:cNvGrpSpPr/>
                <p:nvPr/>
              </p:nvGrpSpPr>
              <p:grpSpPr>
                <a:xfrm>
                  <a:off x="5548320" y="2246400"/>
                  <a:ext cx="954000" cy="392040"/>
                  <a:chOff x="5548320" y="2246400"/>
                  <a:chExt cx="954000" cy="392040"/>
                </a:xfrm>
              </p:grpSpPr>
              <p:sp>
                <p:nvSpPr>
                  <p:cNvPr id="27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28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grpSp>
            <p:grpSp>
              <p:nvGrpSpPr>
                <p:cNvPr id="281" name=""/>
                <p:cNvGrpSpPr/>
                <p:nvPr/>
              </p:nvGrpSpPr>
              <p:grpSpPr>
                <a:xfrm>
                  <a:off x="6670800" y="2246400"/>
                  <a:ext cx="954000" cy="392040"/>
                  <a:chOff x="6670800" y="2246400"/>
                  <a:chExt cx="954000" cy="392040"/>
                </a:xfrm>
              </p:grpSpPr>
              <p:sp>
                <p:nvSpPr>
                  <p:cNvPr id="282"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284"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grpSp>
            <p:grpSp>
              <p:nvGrpSpPr>
                <p:cNvPr id="285" name=""/>
                <p:cNvGrpSpPr/>
                <p:nvPr/>
              </p:nvGrpSpPr>
              <p:grpSpPr>
                <a:xfrm>
                  <a:off x="6110280" y="2806560"/>
                  <a:ext cx="954000" cy="392400"/>
                  <a:chOff x="6110280" y="2806560"/>
                  <a:chExt cx="954000" cy="392400"/>
                </a:xfrm>
              </p:grpSpPr>
              <p:sp>
                <p:nvSpPr>
                  <p:cNvPr id="286"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288"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289"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290"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291"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grpSp>
            <p:grpSp>
              <p:nvGrpSpPr>
                <p:cNvPr id="292" name=""/>
                <p:cNvGrpSpPr/>
                <p:nvPr/>
              </p:nvGrpSpPr>
              <p:grpSpPr>
                <a:xfrm>
                  <a:off x="5267160" y="4013280"/>
                  <a:ext cx="841680" cy="385560"/>
                  <a:chOff x="5267160" y="4013280"/>
                  <a:chExt cx="841680" cy="385560"/>
                </a:xfrm>
              </p:grpSpPr>
              <p:sp>
                <p:nvSpPr>
                  <p:cNvPr id="29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29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29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grpSp>
            <p:grpSp>
              <p:nvGrpSpPr>
                <p:cNvPr id="297" name=""/>
                <p:cNvGrpSpPr/>
                <p:nvPr/>
              </p:nvGrpSpPr>
              <p:grpSpPr>
                <a:xfrm>
                  <a:off x="7062840" y="4013280"/>
                  <a:ext cx="841320" cy="385560"/>
                  <a:chOff x="7062840" y="4013280"/>
                  <a:chExt cx="841320" cy="385560"/>
                </a:xfrm>
              </p:grpSpPr>
              <p:sp>
                <p:nvSpPr>
                  <p:cNvPr id="298"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299"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00"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01"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661000" y="4819680"/>
                  <a:ext cx="841320" cy="385560"/>
                  <a:chOff x="5661000" y="4819680"/>
                  <a:chExt cx="841320" cy="385560"/>
                </a:xfrm>
              </p:grpSpPr>
              <p:sp>
                <p:nvSpPr>
                  <p:cNvPr id="309"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0"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11"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12"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726240" y="4819680"/>
                  <a:ext cx="841320" cy="385560"/>
                  <a:chOff x="6726240" y="4819680"/>
                  <a:chExt cx="841320" cy="385560"/>
                </a:xfrm>
              </p:grpSpPr>
              <p:sp>
                <p:nvSpPr>
                  <p:cNvPr id="314"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5"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316"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317"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321" name=""/>
                <p:cNvGrpSpPr/>
                <p:nvPr/>
              </p:nvGrpSpPr>
              <p:grpSpPr>
                <a:xfrm>
                  <a:off x="6477120" y="4395960"/>
                  <a:ext cx="230400" cy="141120"/>
                  <a:chOff x="6477120" y="4395960"/>
                  <a:chExt cx="230400" cy="141120"/>
                </a:xfrm>
              </p:grpSpPr>
              <p:sp>
                <p:nvSpPr>
                  <p:cNvPr id="322"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5" name=""/>
                <p:cNvGrpSpPr/>
                <p:nvPr/>
              </p:nvGrpSpPr>
              <p:grpSpPr>
                <a:xfrm>
                  <a:off x="6454800" y="3713040"/>
                  <a:ext cx="230400" cy="139680"/>
                  <a:chOff x="6454800" y="3713040"/>
                  <a:chExt cx="230400" cy="139680"/>
                </a:xfrm>
              </p:grpSpPr>
              <p:sp>
                <p:nvSpPr>
                  <p:cNvPr id="32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9" name=""/>
                <p:cNvGrpSpPr/>
                <p:nvPr/>
              </p:nvGrpSpPr>
              <p:grpSpPr>
                <a:xfrm>
                  <a:off x="6164280" y="4013280"/>
                  <a:ext cx="841320" cy="385560"/>
                  <a:chOff x="6164280" y="4013280"/>
                  <a:chExt cx="841320" cy="385560"/>
                </a:xfrm>
              </p:grpSpPr>
              <p:sp>
                <p:nvSpPr>
                  <p:cNvPr id="330"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32"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333"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grpSp>
            <p:sp>
              <p:nvSpPr>
                <p:cNvPr id="334"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grpSp>
              <p:nvGrpSpPr>
                <p:cNvPr id="341" name=""/>
                <p:cNvGrpSpPr/>
                <p:nvPr/>
              </p:nvGrpSpPr>
              <p:grpSpPr>
                <a:xfrm>
                  <a:off x="6159600" y="3371760"/>
                  <a:ext cx="834480" cy="357120"/>
                  <a:chOff x="6159600" y="3371760"/>
                  <a:chExt cx="834480" cy="357120"/>
                </a:xfrm>
              </p:grpSpPr>
              <p:sp>
                <p:nvSpPr>
                  <p:cNvPr id="342"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343"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344"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47"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4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5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51"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3"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4"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6"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7"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59"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0"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1"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2"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3"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65"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6"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7"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8"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9"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1"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2"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7"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78"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79"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0"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82"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83"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4"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2"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3"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4"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6"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7"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8"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0"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1"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2"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4"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5"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6"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410" name=""/>
                <p:cNvGrpSpPr/>
                <p:nvPr/>
              </p:nvGrpSpPr>
              <p:grpSpPr>
                <a:xfrm>
                  <a:off x="6477120" y="4395960"/>
                  <a:ext cx="230400" cy="141120"/>
                  <a:chOff x="6477120" y="4395960"/>
                  <a:chExt cx="230400" cy="141120"/>
                </a:xfrm>
              </p:grpSpPr>
              <p:sp>
                <p:nvSpPr>
                  <p:cNvPr id="411"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414" name=""/>
                <p:cNvGrpSpPr/>
                <p:nvPr/>
              </p:nvGrpSpPr>
              <p:grpSpPr>
                <a:xfrm>
                  <a:off x="6454800" y="3713040"/>
                  <a:ext cx="230400" cy="139680"/>
                  <a:chOff x="6454800" y="3713040"/>
                  <a:chExt cx="230400" cy="139680"/>
                </a:xfrm>
              </p:grpSpPr>
              <p:sp>
                <p:nvSpPr>
                  <p:cNvPr id="415"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sp>
              <p:nvSpPr>
                <p:cNvPr id="418"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0"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1"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2"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4"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5"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6"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sp>
              <p:nvSpPr>
                <p:cNvPr id="433"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4"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5"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7"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8"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39" name=""/>
          <p:cNvGrpSpPr/>
          <p:nvPr/>
        </p:nvGrpSpPr>
        <p:grpSpPr>
          <a:xfrm>
            <a:off x="0" y="2127240"/>
            <a:ext cx="4927680" cy="2401920"/>
            <a:chOff x="0" y="2127240"/>
            <a:chExt cx="4927680" cy="2401920"/>
          </a:xfrm>
        </p:grpSpPr>
        <p:grpSp>
          <p:nvGrpSpPr>
            <p:cNvPr id="440" name=""/>
            <p:cNvGrpSpPr/>
            <p:nvPr/>
          </p:nvGrpSpPr>
          <p:grpSpPr>
            <a:xfrm>
              <a:off x="0" y="2209680"/>
              <a:ext cx="1066680" cy="990720"/>
              <a:chOff x="0" y="2209680"/>
              <a:chExt cx="1066680" cy="990720"/>
            </a:xfrm>
          </p:grpSpPr>
          <p:sp>
            <p:nvSpPr>
              <p:cNvPr id="441" name=""/>
              <p:cNvSpPr/>
              <p:nvPr/>
            </p:nvSpPr>
            <p:spPr>
              <a:xfrm>
                <a:off x="0" y="22096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Hospital</a:t>
                </a:r>
                <a:endParaRPr b="0" lang="en-US" sz="1200" spc="-1" strike="noStrike">
                  <a:solidFill>
                    <a:srgbClr val="000000"/>
                  </a:solidFill>
                  <a:latin typeface="Times New Roman"/>
                </a:endParaRPr>
              </a:p>
            </p:txBody>
          </p:sp>
          <p:sp>
            <p:nvSpPr>
              <p:cNvPr id="442" name=""/>
              <p:cNvSpPr/>
              <p:nvPr/>
            </p:nvSpPr>
            <p:spPr>
              <a:xfrm>
                <a:off x="609480" y="2895480"/>
                <a:ext cx="381240" cy="3049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00080" y="2127240"/>
              <a:ext cx="3927600" cy="2401920"/>
              <a:chOff x="1000080" y="2127240"/>
              <a:chExt cx="3927600" cy="2401920"/>
            </a:xfrm>
          </p:grpSpPr>
          <p:sp>
            <p:nvSpPr>
              <p:cNvPr id="444"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46"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47"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48"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50"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51"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52"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3"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4"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5"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7"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8"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9"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1"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2"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3"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5"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6"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7"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19400" y="2558880"/>
                <a:ext cx="1290600" cy="238320"/>
              </a:xfrm>
              <a:custGeom>
                <a:avLst/>
                <a:gdLst/>
                <a:ahLst/>
                <a:rect l="l" t="t" r="r" b="b"/>
                <a:pathLst>
                  <a:path w="8694" h="1605">
                    <a:moveTo>
                      <a:pt x="8679" y="1605"/>
                    </a:moveTo>
                    <a:lnTo>
                      <a:pt x="95" y="349"/>
                    </a:lnTo>
                    <a:lnTo>
                      <a:pt x="109" y="250"/>
                    </a:lnTo>
                    <a:lnTo>
                      <a:pt x="8694" y="1506"/>
                    </a:lnTo>
                    <a:lnTo>
                      <a:pt x="8679" y="1605"/>
                    </a:lnTo>
                    <a:close/>
                    <a:moveTo>
                      <a:pt x="617" y="756"/>
                    </a:moveTo>
                    <a:lnTo>
                      <a:pt x="0" y="285"/>
                    </a:lnTo>
                    <a:lnTo>
                      <a:pt x="726" y="10"/>
                    </a:lnTo>
                    <a:cubicBezTo>
                      <a:pt x="752" y="0"/>
                      <a:pt x="781" y="13"/>
                      <a:pt x="790" y="39"/>
                    </a:cubicBezTo>
                    <a:cubicBezTo>
                      <a:pt x="800" y="65"/>
                      <a:pt x="787" y="93"/>
                      <a:pt x="761" y="103"/>
                    </a:cubicBezTo>
                    <a:lnTo>
                      <a:pt x="119" y="346"/>
                    </a:lnTo>
                    <a:lnTo>
                      <a:pt x="132" y="260"/>
                    </a:lnTo>
                    <a:lnTo>
                      <a:pt x="678" y="676"/>
                    </a:lnTo>
                    <a:cubicBezTo>
                      <a:pt x="699" y="693"/>
                      <a:pt x="704" y="725"/>
                      <a:pt x="687" y="746"/>
                    </a:cubicBezTo>
                    <a:cubicBezTo>
                      <a:pt x="670" y="768"/>
                      <a:pt x="639" y="773"/>
                      <a:pt x="617" y="7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135160" y="2604960"/>
                <a:ext cx="114480" cy="236520"/>
              </a:xfrm>
              <a:custGeom>
                <a:avLst/>
                <a:gdLst/>
                <a:ahLst/>
                <a:rect l="l" t="t" r="r" b="b"/>
                <a:pathLst>
                  <a:path w="763" h="1589">
                    <a:moveTo>
                      <a:pt x="139" y="1568"/>
                    </a:moveTo>
                    <a:lnTo>
                      <a:pt x="461" y="90"/>
                    </a:lnTo>
                    <a:lnTo>
                      <a:pt x="558" y="111"/>
                    </a:lnTo>
                    <a:lnTo>
                      <a:pt x="237" y="1589"/>
                    </a:lnTo>
                    <a:lnTo>
                      <a:pt x="139" y="1568"/>
                    </a:lnTo>
                    <a:close/>
                    <a:moveTo>
                      <a:pt x="19" y="583"/>
                    </a:moveTo>
                    <a:lnTo>
                      <a:pt x="531" y="0"/>
                    </a:lnTo>
                    <a:lnTo>
                      <a:pt x="755" y="743"/>
                    </a:lnTo>
                    <a:cubicBezTo>
                      <a:pt x="763" y="770"/>
                      <a:pt x="748" y="797"/>
                      <a:pt x="722" y="805"/>
                    </a:cubicBezTo>
                    <a:cubicBezTo>
                      <a:pt x="696" y="813"/>
                      <a:pt x="668" y="798"/>
                      <a:pt x="660" y="772"/>
                    </a:cubicBezTo>
                    <a:lnTo>
                      <a:pt x="462" y="115"/>
                    </a:lnTo>
                    <a:lnTo>
                      <a:pt x="547" y="133"/>
                    </a:lnTo>
                    <a:lnTo>
                      <a:pt x="94" y="649"/>
                    </a:lnTo>
                    <a:cubicBezTo>
                      <a:pt x="75" y="670"/>
                      <a:pt x="44" y="672"/>
                      <a:pt x="23" y="653"/>
                    </a:cubicBezTo>
                    <a:cubicBezTo>
                      <a:pt x="2" y="635"/>
                      <a:pt x="0" y="604"/>
                      <a:pt x="19" y="58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2"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3"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4"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6"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7"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8"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0"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1"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2"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4"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5"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6"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88"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89"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0"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92"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93"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4"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496"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497"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498"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500"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501"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502"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4"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5"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06"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8"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9"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10" name=""/>
              <p:cNvSpPr/>
              <p:nvPr/>
            </p:nvSpPr>
            <p:spPr>
              <a:xfrm>
                <a:off x="2117880" y="3265560"/>
                <a:ext cx="128520" cy="703080"/>
              </a:xfrm>
              <a:custGeom>
                <a:avLst/>
                <a:gdLst/>
                <a:ahLst/>
                <a:rect l="l" t="t" r="r" b="b"/>
                <a:pathLst>
                  <a:path w="869" h="4734">
                    <a:moveTo>
                      <a:pt x="769" y="4734"/>
                    </a:moveTo>
                    <a:lnTo>
                      <a:pt x="275" y="108"/>
                    </a:lnTo>
                    <a:lnTo>
                      <a:pt x="375" y="97"/>
                    </a:lnTo>
                    <a:lnTo>
                      <a:pt x="869" y="4723"/>
                    </a:lnTo>
                    <a:lnTo>
                      <a:pt x="769" y="4734"/>
                    </a:lnTo>
                    <a:close/>
                    <a:moveTo>
                      <a:pt x="11" y="715"/>
                    </a:moveTo>
                    <a:lnTo>
                      <a:pt x="314" y="0"/>
                    </a:lnTo>
                    <a:lnTo>
                      <a:pt x="761" y="635"/>
                    </a:lnTo>
                    <a:cubicBezTo>
                      <a:pt x="777" y="658"/>
                      <a:pt x="772" y="689"/>
                      <a:pt x="749" y="705"/>
                    </a:cubicBezTo>
                    <a:cubicBezTo>
                      <a:pt x="726" y="721"/>
                      <a:pt x="695" y="715"/>
                      <a:pt x="679" y="693"/>
                    </a:cubicBezTo>
                    <a:lnTo>
                      <a:pt x="284" y="132"/>
                    </a:lnTo>
                    <a:lnTo>
                      <a:pt x="371" y="122"/>
                    </a:lnTo>
                    <a:lnTo>
                      <a:pt x="103" y="754"/>
                    </a:lnTo>
                    <a:cubicBezTo>
                      <a:pt x="93" y="780"/>
                      <a:pt x="63" y="792"/>
                      <a:pt x="38" y="781"/>
                    </a:cubicBezTo>
                    <a:cubicBezTo>
                      <a:pt x="12" y="770"/>
                      <a:pt x="0" y="741"/>
                      <a:pt x="11" y="71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54040" y="3263760"/>
                <a:ext cx="187560" cy="115920"/>
              </a:xfrm>
              <a:custGeom>
                <a:avLst/>
                <a:gdLst/>
                <a:ahLst/>
                <a:rect l="l" t="t" r="r" b="b"/>
                <a:pathLst>
                  <a:path w="1258" h="785">
                    <a:moveTo>
                      <a:pt x="0" y="700"/>
                    </a:moveTo>
                    <a:lnTo>
                      <a:pt x="1144" y="10"/>
                    </a:lnTo>
                    <a:lnTo>
                      <a:pt x="1196" y="96"/>
                    </a:lnTo>
                    <a:lnTo>
                      <a:pt x="52" y="785"/>
                    </a:lnTo>
                    <a:lnTo>
                      <a:pt x="0" y="700"/>
                    </a:lnTo>
                    <a:close/>
                    <a:moveTo>
                      <a:pt x="482" y="27"/>
                    </a:moveTo>
                    <a:lnTo>
                      <a:pt x="1258" y="0"/>
                    </a:lnTo>
                    <a:lnTo>
                      <a:pt x="871" y="673"/>
                    </a:lnTo>
                    <a:cubicBezTo>
                      <a:pt x="858" y="697"/>
                      <a:pt x="827" y="705"/>
                      <a:pt x="803" y="692"/>
                    </a:cubicBezTo>
                    <a:cubicBezTo>
                      <a:pt x="779" y="678"/>
                      <a:pt x="771" y="647"/>
                      <a:pt x="785" y="623"/>
                    </a:cubicBezTo>
                    <a:lnTo>
                      <a:pt x="1127" y="28"/>
                    </a:lnTo>
                    <a:lnTo>
                      <a:pt x="1172" y="103"/>
                    </a:lnTo>
                    <a:lnTo>
                      <a:pt x="486" y="127"/>
                    </a:lnTo>
                    <a:cubicBezTo>
                      <a:pt x="458" y="128"/>
                      <a:pt x="435" y="107"/>
                      <a:pt x="434" y="79"/>
                    </a:cubicBezTo>
                    <a:cubicBezTo>
                      <a:pt x="433" y="51"/>
                      <a:pt x="455" y="28"/>
                      <a:pt x="482" y="2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40080" y="3214800"/>
                <a:ext cx="166680" cy="163440"/>
              </a:xfrm>
              <a:custGeom>
                <a:avLst/>
                <a:gdLst/>
                <a:ahLst/>
                <a:rect l="l" t="t" r="r" b="b"/>
                <a:pathLst>
                  <a:path w="1122" h="1106">
                    <a:moveTo>
                      <a:pt x="0" y="1035"/>
                    </a:moveTo>
                    <a:lnTo>
                      <a:pt x="1013" y="37"/>
                    </a:lnTo>
                    <a:lnTo>
                      <a:pt x="1084" y="108"/>
                    </a:lnTo>
                    <a:lnTo>
                      <a:pt x="70" y="1106"/>
                    </a:lnTo>
                    <a:lnTo>
                      <a:pt x="0" y="1035"/>
                    </a:lnTo>
                    <a:close/>
                    <a:moveTo>
                      <a:pt x="374" y="208"/>
                    </a:moveTo>
                    <a:lnTo>
                      <a:pt x="1122" y="0"/>
                    </a:lnTo>
                    <a:lnTo>
                      <a:pt x="903" y="745"/>
                    </a:lnTo>
                    <a:cubicBezTo>
                      <a:pt x="895" y="771"/>
                      <a:pt x="867" y="787"/>
                      <a:pt x="841" y="779"/>
                    </a:cubicBezTo>
                    <a:cubicBezTo>
                      <a:pt x="814" y="771"/>
                      <a:pt x="799" y="743"/>
                      <a:pt x="807" y="717"/>
                    </a:cubicBezTo>
                    <a:lnTo>
                      <a:pt x="1001" y="58"/>
                    </a:lnTo>
                    <a:lnTo>
                      <a:pt x="1062" y="121"/>
                    </a:lnTo>
                    <a:lnTo>
                      <a:pt x="400" y="304"/>
                    </a:lnTo>
                    <a:cubicBezTo>
                      <a:pt x="374" y="311"/>
                      <a:pt x="346" y="296"/>
                      <a:pt x="339" y="269"/>
                    </a:cubicBezTo>
                    <a:cubicBezTo>
                      <a:pt x="332" y="243"/>
                      <a:pt x="347" y="215"/>
                      <a:pt x="374" y="20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0560" y="3208320"/>
                <a:ext cx="327240" cy="171360"/>
              </a:xfrm>
              <a:custGeom>
                <a:avLst/>
                <a:gdLst/>
                <a:ahLst/>
                <a:rect l="l" t="t" r="r" b="b"/>
                <a:pathLst>
                  <a:path w="2195" h="1160">
                    <a:moveTo>
                      <a:pt x="2151" y="1160"/>
                    </a:moveTo>
                    <a:lnTo>
                      <a:pt x="70" y="128"/>
                    </a:lnTo>
                    <a:lnTo>
                      <a:pt x="115" y="38"/>
                    </a:lnTo>
                    <a:lnTo>
                      <a:pt x="2195" y="1071"/>
                    </a:lnTo>
                    <a:lnTo>
                      <a:pt x="2151" y="1160"/>
                    </a:lnTo>
                    <a:close/>
                    <a:moveTo>
                      <a:pt x="441" y="677"/>
                    </a:moveTo>
                    <a:lnTo>
                      <a:pt x="0" y="37"/>
                    </a:lnTo>
                    <a:lnTo>
                      <a:pt x="776" y="1"/>
                    </a:lnTo>
                    <a:cubicBezTo>
                      <a:pt x="803" y="0"/>
                      <a:pt x="827" y="21"/>
                      <a:pt x="828" y="49"/>
                    </a:cubicBezTo>
                    <a:cubicBezTo>
                      <a:pt x="829" y="76"/>
                      <a:pt x="808" y="100"/>
                      <a:pt x="781" y="101"/>
                    </a:cubicBezTo>
                    <a:lnTo>
                      <a:pt x="95" y="133"/>
                    </a:lnTo>
                    <a:lnTo>
                      <a:pt x="134" y="55"/>
                    </a:lnTo>
                    <a:lnTo>
                      <a:pt x="523" y="620"/>
                    </a:lnTo>
                    <a:cubicBezTo>
                      <a:pt x="539" y="643"/>
                      <a:pt x="533" y="674"/>
                      <a:pt x="510" y="690"/>
                    </a:cubicBezTo>
                    <a:cubicBezTo>
                      <a:pt x="487" y="705"/>
                      <a:pt x="456" y="699"/>
                      <a:pt x="441" y="67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8840" y="3230640"/>
                <a:ext cx="115920" cy="677880"/>
              </a:xfrm>
              <a:custGeom>
                <a:avLst/>
                <a:gdLst/>
                <a:ahLst/>
                <a:rect l="l" t="t" r="r" b="b"/>
                <a:pathLst>
                  <a:path w="781" h="4562">
                    <a:moveTo>
                      <a:pt x="334" y="4561"/>
                    </a:moveTo>
                    <a:lnTo>
                      <a:pt x="342" y="103"/>
                    </a:lnTo>
                    <a:lnTo>
                      <a:pt x="442" y="103"/>
                    </a:lnTo>
                    <a:lnTo>
                      <a:pt x="434" y="4562"/>
                    </a:lnTo>
                    <a:lnTo>
                      <a:pt x="334" y="4561"/>
                    </a:lnTo>
                    <a:close/>
                    <a:moveTo>
                      <a:pt x="14" y="678"/>
                    </a:moveTo>
                    <a:lnTo>
                      <a:pt x="392" y="0"/>
                    </a:lnTo>
                    <a:lnTo>
                      <a:pt x="768" y="680"/>
                    </a:lnTo>
                    <a:cubicBezTo>
                      <a:pt x="781" y="704"/>
                      <a:pt x="773" y="734"/>
                      <a:pt x="748" y="747"/>
                    </a:cubicBezTo>
                    <a:cubicBezTo>
                      <a:pt x="724" y="761"/>
                      <a:pt x="694" y="752"/>
                      <a:pt x="680" y="728"/>
                    </a:cubicBezTo>
                    <a:lnTo>
                      <a:pt x="348" y="127"/>
                    </a:lnTo>
                    <a:lnTo>
                      <a:pt x="436" y="127"/>
                    </a:lnTo>
                    <a:lnTo>
                      <a:pt x="101" y="727"/>
                    </a:lnTo>
                    <a:cubicBezTo>
                      <a:pt x="88" y="751"/>
                      <a:pt x="57" y="760"/>
                      <a:pt x="33" y="746"/>
                    </a:cubicBezTo>
                    <a:cubicBezTo>
                      <a:pt x="9" y="733"/>
                      <a:pt x="0" y="702"/>
                      <a:pt x="14" y="67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0040" y="2716200"/>
                <a:ext cx="2087640" cy="1730520"/>
              </a:xfrm>
              <a:custGeom>
                <a:avLst/>
                <a:gdLst/>
                <a:ahLst/>
                <a:rect l="l" t="t" r="r" b="b"/>
                <a:pathLst>
                  <a:path w="1315" h="1090">
                    <a:moveTo>
                      <a:pt x="691" y="7"/>
                    </a:moveTo>
                    <a:lnTo>
                      <a:pt x="658" y="6"/>
                    </a:lnTo>
                    <a:lnTo>
                      <a:pt x="641" y="6"/>
                    </a:lnTo>
                    <a:lnTo>
                      <a:pt x="641" y="0"/>
                    </a:lnTo>
                    <a:lnTo>
                      <a:pt x="658" y="0"/>
                    </a:lnTo>
                    <a:lnTo>
                      <a:pt x="691" y="0"/>
                    </a:lnTo>
                    <a:lnTo>
                      <a:pt x="691" y="7"/>
                    </a:lnTo>
                    <a:close/>
                    <a:moveTo>
                      <a:pt x="623" y="7"/>
                    </a:moveTo>
                    <a:lnTo>
                      <a:pt x="591" y="9"/>
                    </a:lnTo>
                    <a:lnTo>
                      <a:pt x="573" y="10"/>
                    </a:lnTo>
                    <a:lnTo>
                      <a:pt x="573" y="4"/>
                    </a:lnTo>
                    <a:lnTo>
                      <a:pt x="591" y="2"/>
                    </a:lnTo>
                    <a:lnTo>
                      <a:pt x="622" y="0"/>
                    </a:lnTo>
                    <a:lnTo>
                      <a:pt x="623" y="7"/>
                    </a:lnTo>
                    <a:close/>
                    <a:moveTo>
                      <a:pt x="555" y="13"/>
                    </a:moveTo>
                    <a:lnTo>
                      <a:pt x="526" y="17"/>
                    </a:lnTo>
                    <a:lnTo>
                      <a:pt x="506" y="21"/>
                    </a:lnTo>
                    <a:lnTo>
                      <a:pt x="505" y="15"/>
                    </a:lnTo>
                    <a:lnTo>
                      <a:pt x="525" y="11"/>
                    </a:lnTo>
                    <a:lnTo>
                      <a:pt x="554" y="6"/>
                    </a:lnTo>
                    <a:lnTo>
                      <a:pt x="555" y="13"/>
                    </a:lnTo>
                    <a:close/>
                    <a:moveTo>
                      <a:pt x="488" y="24"/>
                    </a:moveTo>
                    <a:lnTo>
                      <a:pt x="464" y="30"/>
                    </a:lnTo>
                    <a:lnTo>
                      <a:pt x="440" y="37"/>
                    </a:lnTo>
                    <a:lnTo>
                      <a:pt x="438" y="31"/>
                    </a:lnTo>
                    <a:lnTo>
                      <a:pt x="462" y="24"/>
                    </a:lnTo>
                    <a:lnTo>
                      <a:pt x="486" y="18"/>
                    </a:lnTo>
                    <a:lnTo>
                      <a:pt x="488" y="24"/>
                    </a:lnTo>
                    <a:close/>
                    <a:moveTo>
                      <a:pt x="422" y="42"/>
                    </a:moveTo>
                    <a:lnTo>
                      <a:pt x="404" y="48"/>
                    </a:lnTo>
                    <a:lnTo>
                      <a:pt x="375" y="59"/>
                    </a:lnTo>
                    <a:lnTo>
                      <a:pt x="373" y="53"/>
                    </a:lnTo>
                    <a:lnTo>
                      <a:pt x="402" y="42"/>
                    </a:lnTo>
                    <a:lnTo>
                      <a:pt x="420" y="37"/>
                    </a:lnTo>
                    <a:lnTo>
                      <a:pt x="422" y="42"/>
                    </a:lnTo>
                    <a:close/>
                    <a:moveTo>
                      <a:pt x="358" y="66"/>
                    </a:moveTo>
                    <a:lnTo>
                      <a:pt x="347" y="71"/>
                    </a:lnTo>
                    <a:lnTo>
                      <a:pt x="320" y="84"/>
                    </a:lnTo>
                    <a:lnTo>
                      <a:pt x="313" y="87"/>
                    </a:lnTo>
                    <a:lnTo>
                      <a:pt x="310" y="82"/>
                    </a:lnTo>
                    <a:lnTo>
                      <a:pt x="317" y="78"/>
                    </a:lnTo>
                    <a:lnTo>
                      <a:pt x="344" y="65"/>
                    </a:lnTo>
                    <a:lnTo>
                      <a:pt x="355" y="61"/>
                    </a:lnTo>
                    <a:lnTo>
                      <a:pt x="358" y="66"/>
                    </a:lnTo>
                    <a:close/>
                    <a:moveTo>
                      <a:pt x="297" y="96"/>
                    </a:moveTo>
                    <a:lnTo>
                      <a:pt x="293" y="98"/>
                    </a:lnTo>
                    <a:lnTo>
                      <a:pt x="268" y="113"/>
                    </a:lnTo>
                    <a:lnTo>
                      <a:pt x="254" y="122"/>
                    </a:lnTo>
                    <a:lnTo>
                      <a:pt x="251" y="117"/>
                    </a:lnTo>
                    <a:lnTo>
                      <a:pt x="264" y="108"/>
                    </a:lnTo>
                    <a:lnTo>
                      <a:pt x="290" y="93"/>
                    </a:lnTo>
                    <a:lnTo>
                      <a:pt x="294" y="91"/>
                    </a:lnTo>
                    <a:lnTo>
                      <a:pt x="297" y="96"/>
                    </a:lnTo>
                    <a:close/>
                    <a:moveTo>
                      <a:pt x="239" y="132"/>
                    </a:moveTo>
                    <a:lnTo>
                      <a:pt x="219" y="146"/>
                    </a:lnTo>
                    <a:lnTo>
                      <a:pt x="199" y="162"/>
                    </a:lnTo>
                    <a:lnTo>
                      <a:pt x="195" y="157"/>
                    </a:lnTo>
                    <a:lnTo>
                      <a:pt x="216" y="141"/>
                    </a:lnTo>
                    <a:lnTo>
                      <a:pt x="235" y="127"/>
                    </a:lnTo>
                    <a:lnTo>
                      <a:pt x="239" y="132"/>
                    </a:lnTo>
                    <a:close/>
                    <a:moveTo>
                      <a:pt x="185" y="174"/>
                    </a:moveTo>
                    <a:lnTo>
                      <a:pt x="175" y="183"/>
                    </a:lnTo>
                    <a:lnTo>
                      <a:pt x="155" y="202"/>
                    </a:lnTo>
                    <a:lnTo>
                      <a:pt x="149" y="208"/>
                    </a:lnTo>
                    <a:lnTo>
                      <a:pt x="144" y="204"/>
                    </a:lnTo>
                    <a:lnTo>
                      <a:pt x="150" y="198"/>
                    </a:lnTo>
                    <a:lnTo>
                      <a:pt x="171" y="178"/>
                    </a:lnTo>
                    <a:lnTo>
                      <a:pt x="181" y="170"/>
                    </a:lnTo>
                    <a:lnTo>
                      <a:pt x="185" y="174"/>
                    </a:lnTo>
                    <a:close/>
                    <a:moveTo>
                      <a:pt x="136" y="222"/>
                    </a:moveTo>
                    <a:lnTo>
                      <a:pt x="135" y="223"/>
                    </a:lnTo>
                    <a:lnTo>
                      <a:pt x="117" y="244"/>
                    </a:lnTo>
                    <a:lnTo>
                      <a:pt x="105" y="260"/>
                    </a:lnTo>
                    <a:lnTo>
                      <a:pt x="100" y="256"/>
                    </a:lnTo>
                    <a:lnTo>
                      <a:pt x="113" y="240"/>
                    </a:lnTo>
                    <a:lnTo>
                      <a:pt x="131" y="218"/>
                    </a:lnTo>
                    <a:lnTo>
                      <a:pt x="132" y="218"/>
                    </a:lnTo>
                    <a:lnTo>
                      <a:pt x="136" y="222"/>
                    </a:lnTo>
                    <a:close/>
                    <a:moveTo>
                      <a:pt x="94" y="275"/>
                    </a:moveTo>
                    <a:lnTo>
                      <a:pt x="85" y="288"/>
                    </a:lnTo>
                    <a:lnTo>
                      <a:pt x="70" y="311"/>
                    </a:lnTo>
                    <a:lnTo>
                      <a:pt x="67" y="317"/>
                    </a:lnTo>
                    <a:lnTo>
                      <a:pt x="62" y="314"/>
                    </a:lnTo>
                    <a:lnTo>
                      <a:pt x="65" y="308"/>
                    </a:lnTo>
                    <a:lnTo>
                      <a:pt x="80" y="285"/>
                    </a:lnTo>
                    <a:lnTo>
                      <a:pt x="89" y="272"/>
                    </a:lnTo>
                    <a:lnTo>
                      <a:pt x="94" y="275"/>
                    </a:lnTo>
                    <a:close/>
                    <a:moveTo>
                      <a:pt x="58" y="333"/>
                    </a:moveTo>
                    <a:lnTo>
                      <a:pt x="57" y="335"/>
                    </a:lnTo>
                    <a:lnTo>
                      <a:pt x="46" y="360"/>
                    </a:lnTo>
                    <a:lnTo>
                      <a:pt x="38" y="379"/>
                    </a:lnTo>
                    <a:lnTo>
                      <a:pt x="32" y="376"/>
                    </a:lnTo>
                    <a:lnTo>
                      <a:pt x="40" y="357"/>
                    </a:lnTo>
                    <a:lnTo>
                      <a:pt x="52" y="332"/>
                    </a:lnTo>
                    <a:lnTo>
                      <a:pt x="53" y="330"/>
                    </a:lnTo>
                    <a:lnTo>
                      <a:pt x="58" y="333"/>
                    </a:lnTo>
                    <a:close/>
                    <a:moveTo>
                      <a:pt x="32" y="396"/>
                    </a:moveTo>
                    <a:lnTo>
                      <a:pt x="31" y="398"/>
                    </a:lnTo>
                    <a:lnTo>
                      <a:pt x="27" y="410"/>
                    </a:lnTo>
                    <a:lnTo>
                      <a:pt x="23" y="423"/>
                    </a:lnTo>
                    <a:lnTo>
                      <a:pt x="19" y="436"/>
                    </a:lnTo>
                    <a:lnTo>
                      <a:pt x="18" y="444"/>
                    </a:lnTo>
                    <a:lnTo>
                      <a:pt x="12" y="442"/>
                    </a:lnTo>
                    <a:lnTo>
                      <a:pt x="13" y="435"/>
                    </a:lnTo>
                    <a:lnTo>
                      <a:pt x="17" y="422"/>
                    </a:lnTo>
                    <a:lnTo>
                      <a:pt x="21" y="409"/>
                    </a:lnTo>
                    <a:lnTo>
                      <a:pt x="25" y="395"/>
                    </a:lnTo>
                    <a:lnTo>
                      <a:pt x="26" y="394"/>
                    </a:lnTo>
                    <a:lnTo>
                      <a:pt x="32" y="396"/>
                    </a:lnTo>
                    <a:close/>
                    <a:moveTo>
                      <a:pt x="14" y="462"/>
                    </a:moveTo>
                    <a:lnTo>
                      <a:pt x="14" y="463"/>
                    </a:lnTo>
                    <a:lnTo>
                      <a:pt x="12" y="476"/>
                    </a:lnTo>
                    <a:lnTo>
                      <a:pt x="10" y="490"/>
                    </a:lnTo>
                    <a:lnTo>
                      <a:pt x="8" y="504"/>
                    </a:lnTo>
                    <a:lnTo>
                      <a:pt x="8" y="511"/>
                    </a:lnTo>
                    <a:lnTo>
                      <a:pt x="1" y="510"/>
                    </a:lnTo>
                    <a:lnTo>
                      <a:pt x="2" y="503"/>
                    </a:lnTo>
                    <a:lnTo>
                      <a:pt x="3" y="489"/>
                    </a:lnTo>
                    <a:lnTo>
                      <a:pt x="5" y="475"/>
                    </a:lnTo>
                    <a:lnTo>
                      <a:pt x="8" y="462"/>
                    </a:lnTo>
                    <a:lnTo>
                      <a:pt x="8" y="460"/>
                    </a:lnTo>
                    <a:lnTo>
                      <a:pt x="14" y="462"/>
                    </a:lnTo>
                    <a:close/>
                    <a:moveTo>
                      <a:pt x="7" y="529"/>
                    </a:moveTo>
                    <a:lnTo>
                      <a:pt x="6" y="531"/>
                    </a:lnTo>
                    <a:lnTo>
                      <a:pt x="6" y="545"/>
                    </a:lnTo>
                    <a:lnTo>
                      <a:pt x="6" y="559"/>
                    </a:lnTo>
                    <a:lnTo>
                      <a:pt x="7" y="573"/>
                    </a:lnTo>
                    <a:lnTo>
                      <a:pt x="8" y="579"/>
                    </a:lnTo>
                    <a:lnTo>
                      <a:pt x="1" y="579"/>
                    </a:lnTo>
                    <a:lnTo>
                      <a:pt x="1" y="573"/>
                    </a:lnTo>
                    <a:lnTo>
                      <a:pt x="0" y="559"/>
                    </a:lnTo>
                    <a:lnTo>
                      <a:pt x="0" y="545"/>
                    </a:lnTo>
                    <a:lnTo>
                      <a:pt x="0" y="531"/>
                    </a:lnTo>
                    <a:lnTo>
                      <a:pt x="0" y="529"/>
                    </a:lnTo>
                    <a:lnTo>
                      <a:pt x="7" y="529"/>
                    </a:lnTo>
                    <a:close/>
                    <a:moveTo>
                      <a:pt x="9" y="597"/>
                    </a:moveTo>
                    <a:lnTo>
                      <a:pt x="10" y="600"/>
                    </a:lnTo>
                    <a:lnTo>
                      <a:pt x="12" y="614"/>
                    </a:lnTo>
                    <a:lnTo>
                      <a:pt x="14" y="627"/>
                    </a:lnTo>
                    <a:lnTo>
                      <a:pt x="16" y="640"/>
                    </a:lnTo>
                    <a:lnTo>
                      <a:pt x="18" y="646"/>
                    </a:lnTo>
                    <a:lnTo>
                      <a:pt x="12" y="647"/>
                    </a:lnTo>
                    <a:lnTo>
                      <a:pt x="10" y="642"/>
                    </a:lnTo>
                    <a:lnTo>
                      <a:pt x="8" y="628"/>
                    </a:lnTo>
                    <a:lnTo>
                      <a:pt x="5" y="615"/>
                    </a:lnTo>
                    <a:lnTo>
                      <a:pt x="3" y="601"/>
                    </a:lnTo>
                    <a:lnTo>
                      <a:pt x="3" y="598"/>
                    </a:lnTo>
                    <a:lnTo>
                      <a:pt x="9" y="597"/>
                    </a:lnTo>
                    <a:close/>
                    <a:moveTo>
                      <a:pt x="22" y="664"/>
                    </a:moveTo>
                    <a:lnTo>
                      <a:pt x="23" y="667"/>
                    </a:lnTo>
                    <a:lnTo>
                      <a:pt x="27" y="680"/>
                    </a:lnTo>
                    <a:lnTo>
                      <a:pt x="31" y="692"/>
                    </a:lnTo>
                    <a:lnTo>
                      <a:pt x="36" y="705"/>
                    </a:lnTo>
                    <a:lnTo>
                      <a:pt x="38" y="711"/>
                    </a:lnTo>
                    <a:lnTo>
                      <a:pt x="32" y="713"/>
                    </a:lnTo>
                    <a:lnTo>
                      <a:pt x="30" y="707"/>
                    </a:lnTo>
                    <a:lnTo>
                      <a:pt x="25" y="694"/>
                    </a:lnTo>
                    <a:lnTo>
                      <a:pt x="21" y="681"/>
                    </a:lnTo>
                    <a:lnTo>
                      <a:pt x="17" y="668"/>
                    </a:lnTo>
                    <a:lnTo>
                      <a:pt x="16" y="666"/>
                    </a:lnTo>
                    <a:lnTo>
                      <a:pt x="22" y="664"/>
                    </a:lnTo>
                    <a:close/>
                    <a:moveTo>
                      <a:pt x="45" y="728"/>
                    </a:moveTo>
                    <a:lnTo>
                      <a:pt x="46" y="730"/>
                    </a:lnTo>
                    <a:lnTo>
                      <a:pt x="57" y="755"/>
                    </a:lnTo>
                    <a:lnTo>
                      <a:pt x="67" y="773"/>
                    </a:lnTo>
                    <a:lnTo>
                      <a:pt x="62" y="776"/>
                    </a:lnTo>
                    <a:lnTo>
                      <a:pt x="52" y="757"/>
                    </a:lnTo>
                    <a:lnTo>
                      <a:pt x="40" y="733"/>
                    </a:lnTo>
                    <a:lnTo>
                      <a:pt x="39" y="731"/>
                    </a:lnTo>
                    <a:lnTo>
                      <a:pt x="45" y="728"/>
                    </a:lnTo>
                    <a:close/>
                    <a:moveTo>
                      <a:pt x="76" y="788"/>
                    </a:moveTo>
                    <a:lnTo>
                      <a:pt x="85" y="802"/>
                    </a:lnTo>
                    <a:lnTo>
                      <a:pt x="100" y="824"/>
                    </a:lnTo>
                    <a:lnTo>
                      <a:pt x="104" y="829"/>
                    </a:lnTo>
                    <a:lnTo>
                      <a:pt x="99" y="833"/>
                    </a:lnTo>
                    <a:lnTo>
                      <a:pt x="95" y="828"/>
                    </a:lnTo>
                    <a:lnTo>
                      <a:pt x="79" y="805"/>
                    </a:lnTo>
                    <a:lnTo>
                      <a:pt x="71" y="792"/>
                    </a:lnTo>
                    <a:lnTo>
                      <a:pt x="76" y="788"/>
                    </a:lnTo>
                    <a:close/>
                    <a:moveTo>
                      <a:pt x="116" y="844"/>
                    </a:moveTo>
                    <a:lnTo>
                      <a:pt x="117" y="846"/>
                    </a:lnTo>
                    <a:lnTo>
                      <a:pt x="136" y="867"/>
                    </a:lnTo>
                    <a:lnTo>
                      <a:pt x="149" y="881"/>
                    </a:lnTo>
                    <a:lnTo>
                      <a:pt x="144" y="886"/>
                    </a:lnTo>
                    <a:lnTo>
                      <a:pt x="131" y="871"/>
                    </a:lnTo>
                    <a:lnTo>
                      <a:pt x="112" y="850"/>
                    </a:lnTo>
                    <a:lnTo>
                      <a:pt x="111" y="848"/>
                    </a:lnTo>
                    <a:lnTo>
                      <a:pt x="116" y="844"/>
                    </a:lnTo>
                    <a:close/>
                    <a:moveTo>
                      <a:pt x="162" y="894"/>
                    </a:moveTo>
                    <a:lnTo>
                      <a:pt x="175" y="907"/>
                    </a:lnTo>
                    <a:lnTo>
                      <a:pt x="197" y="926"/>
                    </a:lnTo>
                    <a:lnTo>
                      <a:pt x="199" y="927"/>
                    </a:lnTo>
                    <a:lnTo>
                      <a:pt x="195" y="932"/>
                    </a:lnTo>
                    <a:lnTo>
                      <a:pt x="193" y="931"/>
                    </a:lnTo>
                    <a:lnTo>
                      <a:pt x="171" y="912"/>
                    </a:lnTo>
                    <a:lnTo>
                      <a:pt x="157" y="899"/>
                    </a:lnTo>
                    <a:lnTo>
                      <a:pt x="162" y="894"/>
                    </a:lnTo>
                    <a:close/>
                    <a:moveTo>
                      <a:pt x="213" y="939"/>
                    </a:moveTo>
                    <a:lnTo>
                      <a:pt x="219" y="944"/>
                    </a:lnTo>
                    <a:lnTo>
                      <a:pt x="243" y="961"/>
                    </a:lnTo>
                    <a:lnTo>
                      <a:pt x="254" y="968"/>
                    </a:lnTo>
                    <a:lnTo>
                      <a:pt x="250" y="973"/>
                    </a:lnTo>
                    <a:lnTo>
                      <a:pt x="239" y="966"/>
                    </a:lnTo>
                    <a:lnTo>
                      <a:pt x="216" y="949"/>
                    </a:lnTo>
                    <a:lnTo>
                      <a:pt x="209" y="944"/>
                    </a:lnTo>
                    <a:lnTo>
                      <a:pt x="213" y="939"/>
                    </a:lnTo>
                    <a:close/>
                    <a:moveTo>
                      <a:pt x="269" y="978"/>
                    </a:moveTo>
                    <a:lnTo>
                      <a:pt x="293" y="992"/>
                    </a:lnTo>
                    <a:lnTo>
                      <a:pt x="313" y="1002"/>
                    </a:lnTo>
                    <a:lnTo>
                      <a:pt x="310" y="1008"/>
                    </a:lnTo>
                    <a:lnTo>
                      <a:pt x="290" y="997"/>
                    </a:lnTo>
                    <a:lnTo>
                      <a:pt x="266" y="983"/>
                    </a:lnTo>
                    <a:lnTo>
                      <a:pt x="269" y="978"/>
                    </a:lnTo>
                    <a:close/>
                    <a:moveTo>
                      <a:pt x="329" y="1011"/>
                    </a:moveTo>
                    <a:lnTo>
                      <a:pt x="347" y="1019"/>
                    </a:lnTo>
                    <a:lnTo>
                      <a:pt x="375" y="1031"/>
                    </a:lnTo>
                    <a:lnTo>
                      <a:pt x="372" y="1036"/>
                    </a:lnTo>
                    <a:lnTo>
                      <a:pt x="344" y="1025"/>
                    </a:lnTo>
                    <a:lnTo>
                      <a:pt x="326" y="1016"/>
                    </a:lnTo>
                    <a:lnTo>
                      <a:pt x="329" y="1011"/>
                    </a:lnTo>
                    <a:close/>
                    <a:moveTo>
                      <a:pt x="392" y="1037"/>
                    </a:moveTo>
                    <a:lnTo>
                      <a:pt x="404" y="1042"/>
                    </a:lnTo>
                    <a:lnTo>
                      <a:pt x="434" y="1051"/>
                    </a:lnTo>
                    <a:lnTo>
                      <a:pt x="439" y="1053"/>
                    </a:lnTo>
                    <a:lnTo>
                      <a:pt x="437" y="1059"/>
                    </a:lnTo>
                    <a:lnTo>
                      <a:pt x="432" y="1057"/>
                    </a:lnTo>
                    <a:lnTo>
                      <a:pt x="402" y="1048"/>
                    </a:lnTo>
                    <a:lnTo>
                      <a:pt x="390" y="1043"/>
                    </a:lnTo>
                    <a:lnTo>
                      <a:pt x="392" y="1037"/>
                    </a:lnTo>
                    <a:close/>
                    <a:moveTo>
                      <a:pt x="457" y="1058"/>
                    </a:moveTo>
                    <a:lnTo>
                      <a:pt x="464" y="1060"/>
                    </a:lnTo>
                    <a:lnTo>
                      <a:pt x="495" y="1067"/>
                    </a:lnTo>
                    <a:lnTo>
                      <a:pt x="505" y="1069"/>
                    </a:lnTo>
                    <a:lnTo>
                      <a:pt x="504" y="1075"/>
                    </a:lnTo>
                    <a:lnTo>
                      <a:pt x="493" y="1073"/>
                    </a:lnTo>
                    <a:lnTo>
                      <a:pt x="462" y="1066"/>
                    </a:lnTo>
                    <a:lnTo>
                      <a:pt x="455" y="1064"/>
                    </a:lnTo>
                    <a:lnTo>
                      <a:pt x="457" y="1058"/>
                    </a:lnTo>
                    <a:close/>
                    <a:moveTo>
                      <a:pt x="524" y="1073"/>
                    </a:moveTo>
                    <a:lnTo>
                      <a:pt x="526" y="1073"/>
                    </a:lnTo>
                    <a:lnTo>
                      <a:pt x="558" y="1078"/>
                    </a:lnTo>
                    <a:lnTo>
                      <a:pt x="573" y="1079"/>
                    </a:lnTo>
                    <a:lnTo>
                      <a:pt x="572" y="1086"/>
                    </a:lnTo>
                    <a:lnTo>
                      <a:pt x="558" y="1084"/>
                    </a:lnTo>
                    <a:lnTo>
                      <a:pt x="525" y="1079"/>
                    </a:lnTo>
                    <a:lnTo>
                      <a:pt x="523" y="1079"/>
                    </a:lnTo>
                    <a:lnTo>
                      <a:pt x="524" y="1073"/>
                    </a:lnTo>
                    <a:close/>
                    <a:moveTo>
                      <a:pt x="591" y="1081"/>
                    </a:moveTo>
                    <a:lnTo>
                      <a:pt x="624" y="1083"/>
                    </a:lnTo>
                    <a:lnTo>
                      <a:pt x="641" y="1084"/>
                    </a:lnTo>
                    <a:lnTo>
                      <a:pt x="641" y="1090"/>
                    </a:lnTo>
                    <a:lnTo>
                      <a:pt x="624" y="1090"/>
                    </a:lnTo>
                    <a:lnTo>
                      <a:pt x="591" y="1088"/>
                    </a:lnTo>
                    <a:lnTo>
                      <a:pt x="591" y="1081"/>
                    </a:lnTo>
                    <a:close/>
                    <a:moveTo>
                      <a:pt x="660" y="1084"/>
                    </a:moveTo>
                    <a:lnTo>
                      <a:pt x="691" y="1083"/>
                    </a:lnTo>
                    <a:lnTo>
                      <a:pt x="709" y="1082"/>
                    </a:lnTo>
                    <a:lnTo>
                      <a:pt x="710" y="1089"/>
                    </a:lnTo>
                    <a:lnTo>
                      <a:pt x="691" y="1090"/>
                    </a:lnTo>
                    <a:lnTo>
                      <a:pt x="660" y="1090"/>
                    </a:lnTo>
                    <a:lnTo>
                      <a:pt x="660" y="1084"/>
                    </a:lnTo>
                    <a:close/>
                    <a:moveTo>
                      <a:pt x="728" y="1081"/>
                    </a:moveTo>
                    <a:lnTo>
                      <a:pt x="757" y="1078"/>
                    </a:lnTo>
                    <a:lnTo>
                      <a:pt x="777" y="1075"/>
                    </a:lnTo>
                    <a:lnTo>
                      <a:pt x="778" y="1081"/>
                    </a:lnTo>
                    <a:lnTo>
                      <a:pt x="758" y="1084"/>
                    </a:lnTo>
                    <a:lnTo>
                      <a:pt x="728" y="1087"/>
                    </a:lnTo>
                    <a:lnTo>
                      <a:pt x="728" y="1081"/>
                    </a:lnTo>
                    <a:close/>
                    <a:moveTo>
                      <a:pt x="795" y="1072"/>
                    </a:moveTo>
                    <a:lnTo>
                      <a:pt x="821" y="1067"/>
                    </a:lnTo>
                    <a:lnTo>
                      <a:pt x="844" y="1062"/>
                    </a:lnTo>
                    <a:lnTo>
                      <a:pt x="845" y="1068"/>
                    </a:lnTo>
                    <a:lnTo>
                      <a:pt x="822" y="1073"/>
                    </a:lnTo>
                    <a:lnTo>
                      <a:pt x="797" y="1078"/>
                    </a:lnTo>
                    <a:lnTo>
                      <a:pt x="795" y="1072"/>
                    </a:lnTo>
                    <a:close/>
                    <a:moveTo>
                      <a:pt x="862" y="1057"/>
                    </a:moveTo>
                    <a:lnTo>
                      <a:pt x="882" y="1051"/>
                    </a:lnTo>
                    <a:lnTo>
                      <a:pt x="910" y="1042"/>
                    </a:lnTo>
                    <a:lnTo>
                      <a:pt x="911" y="1048"/>
                    </a:lnTo>
                    <a:lnTo>
                      <a:pt x="883" y="1057"/>
                    </a:lnTo>
                    <a:lnTo>
                      <a:pt x="864" y="1063"/>
                    </a:lnTo>
                    <a:lnTo>
                      <a:pt x="862" y="1057"/>
                    </a:lnTo>
                    <a:close/>
                    <a:moveTo>
                      <a:pt x="927" y="1036"/>
                    </a:moveTo>
                    <a:lnTo>
                      <a:pt x="940" y="1031"/>
                    </a:lnTo>
                    <a:lnTo>
                      <a:pt x="968" y="1019"/>
                    </a:lnTo>
                    <a:lnTo>
                      <a:pt x="973" y="1017"/>
                    </a:lnTo>
                    <a:lnTo>
                      <a:pt x="975" y="1023"/>
                    </a:lnTo>
                    <a:lnTo>
                      <a:pt x="971" y="1025"/>
                    </a:lnTo>
                    <a:lnTo>
                      <a:pt x="942" y="1037"/>
                    </a:lnTo>
                    <a:lnTo>
                      <a:pt x="929" y="1042"/>
                    </a:lnTo>
                    <a:lnTo>
                      <a:pt x="927" y="1036"/>
                    </a:lnTo>
                    <a:close/>
                    <a:moveTo>
                      <a:pt x="990" y="1009"/>
                    </a:moveTo>
                    <a:lnTo>
                      <a:pt x="996" y="1006"/>
                    </a:lnTo>
                    <a:lnTo>
                      <a:pt x="1022" y="992"/>
                    </a:lnTo>
                    <a:lnTo>
                      <a:pt x="1033" y="985"/>
                    </a:lnTo>
                    <a:lnTo>
                      <a:pt x="1036" y="991"/>
                    </a:lnTo>
                    <a:lnTo>
                      <a:pt x="1025" y="997"/>
                    </a:lnTo>
                    <a:lnTo>
                      <a:pt x="998" y="1012"/>
                    </a:lnTo>
                    <a:lnTo>
                      <a:pt x="992" y="1014"/>
                    </a:lnTo>
                    <a:lnTo>
                      <a:pt x="990" y="1009"/>
                    </a:lnTo>
                    <a:close/>
                    <a:moveTo>
                      <a:pt x="1049" y="976"/>
                    </a:moveTo>
                    <a:lnTo>
                      <a:pt x="1072" y="961"/>
                    </a:lnTo>
                    <a:lnTo>
                      <a:pt x="1090" y="948"/>
                    </a:lnTo>
                    <a:lnTo>
                      <a:pt x="1094" y="953"/>
                    </a:lnTo>
                    <a:lnTo>
                      <a:pt x="1076" y="966"/>
                    </a:lnTo>
                    <a:lnTo>
                      <a:pt x="1053" y="981"/>
                    </a:lnTo>
                    <a:lnTo>
                      <a:pt x="1049" y="976"/>
                    </a:lnTo>
                    <a:close/>
                    <a:moveTo>
                      <a:pt x="1105" y="937"/>
                    </a:moveTo>
                    <a:lnTo>
                      <a:pt x="1118" y="926"/>
                    </a:lnTo>
                    <a:lnTo>
                      <a:pt x="1140" y="907"/>
                    </a:lnTo>
                    <a:lnTo>
                      <a:pt x="1143" y="905"/>
                    </a:lnTo>
                    <a:lnTo>
                      <a:pt x="1147" y="909"/>
                    </a:lnTo>
                    <a:lnTo>
                      <a:pt x="1144" y="912"/>
                    </a:lnTo>
                    <a:lnTo>
                      <a:pt x="1122" y="931"/>
                    </a:lnTo>
                    <a:lnTo>
                      <a:pt x="1109" y="941"/>
                    </a:lnTo>
                    <a:lnTo>
                      <a:pt x="1105" y="937"/>
                    </a:lnTo>
                    <a:close/>
                    <a:moveTo>
                      <a:pt x="1156" y="892"/>
                    </a:moveTo>
                    <a:lnTo>
                      <a:pt x="1160" y="888"/>
                    </a:lnTo>
                    <a:lnTo>
                      <a:pt x="1180" y="867"/>
                    </a:lnTo>
                    <a:lnTo>
                      <a:pt x="1190" y="855"/>
                    </a:lnTo>
                    <a:lnTo>
                      <a:pt x="1195" y="859"/>
                    </a:lnTo>
                    <a:lnTo>
                      <a:pt x="1184" y="872"/>
                    </a:lnTo>
                    <a:lnTo>
                      <a:pt x="1165" y="892"/>
                    </a:lnTo>
                    <a:lnTo>
                      <a:pt x="1161" y="896"/>
                    </a:lnTo>
                    <a:lnTo>
                      <a:pt x="1156" y="892"/>
                    </a:lnTo>
                    <a:close/>
                    <a:moveTo>
                      <a:pt x="1202" y="841"/>
                    </a:moveTo>
                    <a:lnTo>
                      <a:pt x="1215" y="824"/>
                    </a:lnTo>
                    <a:lnTo>
                      <a:pt x="1230" y="802"/>
                    </a:lnTo>
                    <a:lnTo>
                      <a:pt x="1231" y="801"/>
                    </a:lnTo>
                    <a:lnTo>
                      <a:pt x="1236" y="804"/>
                    </a:lnTo>
                    <a:lnTo>
                      <a:pt x="1236" y="805"/>
                    </a:lnTo>
                    <a:lnTo>
                      <a:pt x="1220" y="828"/>
                    </a:lnTo>
                    <a:lnTo>
                      <a:pt x="1207" y="845"/>
                    </a:lnTo>
                    <a:lnTo>
                      <a:pt x="1202" y="841"/>
                    </a:lnTo>
                    <a:close/>
                    <a:moveTo>
                      <a:pt x="1241" y="785"/>
                    </a:moveTo>
                    <a:lnTo>
                      <a:pt x="1245" y="778"/>
                    </a:lnTo>
                    <a:lnTo>
                      <a:pt x="1258" y="755"/>
                    </a:lnTo>
                    <a:lnTo>
                      <a:pt x="1264" y="741"/>
                    </a:lnTo>
                    <a:lnTo>
                      <a:pt x="1270" y="744"/>
                    </a:lnTo>
                    <a:lnTo>
                      <a:pt x="1263" y="758"/>
                    </a:lnTo>
                    <a:lnTo>
                      <a:pt x="1250" y="782"/>
                    </a:lnTo>
                    <a:lnTo>
                      <a:pt x="1246" y="788"/>
                    </a:lnTo>
                    <a:lnTo>
                      <a:pt x="1241" y="785"/>
                    </a:lnTo>
                    <a:close/>
                    <a:moveTo>
                      <a:pt x="1272" y="725"/>
                    </a:moveTo>
                    <a:lnTo>
                      <a:pt x="1280" y="705"/>
                    </a:lnTo>
                    <a:lnTo>
                      <a:pt x="1284" y="692"/>
                    </a:lnTo>
                    <a:lnTo>
                      <a:pt x="1289" y="680"/>
                    </a:lnTo>
                    <a:lnTo>
                      <a:pt x="1289" y="678"/>
                    </a:lnTo>
                    <a:lnTo>
                      <a:pt x="1295" y="680"/>
                    </a:lnTo>
                    <a:lnTo>
                      <a:pt x="1294" y="681"/>
                    </a:lnTo>
                    <a:lnTo>
                      <a:pt x="1290" y="695"/>
                    </a:lnTo>
                    <a:lnTo>
                      <a:pt x="1286" y="707"/>
                    </a:lnTo>
                    <a:lnTo>
                      <a:pt x="1277" y="727"/>
                    </a:lnTo>
                    <a:lnTo>
                      <a:pt x="1272" y="725"/>
                    </a:lnTo>
                    <a:close/>
                    <a:moveTo>
                      <a:pt x="1294" y="660"/>
                    </a:moveTo>
                    <a:lnTo>
                      <a:pt x="1296" y="653"/>
                    </a:lnTo>
                    <a:lnTo>
                      <a:pt x="1299" y="640"/>
                    </a:lnTo>
                    <a:lnTo>
                      <a:pt x="1301" y="627"/>
                    </a:lnTo>
                    <a:lnTo>
                      <a:pt x="1304" y="614"/>
                    </a:lnTo>
                    <a:lnTo>
                      <a:pt x="1304" y="612"/>
                    </a:lnTo>
                    <a:lnTo>
                      <a:pt x="1310" y="613"/>
                    </a:lnTo>
                    <a:lnTo>
                      <a:pt x="1310" y="615"/>
                    </a:lnTo>
                    <a:lnTo>
                      <a:pt x="1308" y="628"/>
                    </a:lnTo>
                    <a:lnTo>
                      <a:pt x="1305" y="642"/>
                    </a:lnTo>
                    <a:lnTo>
                      <a:pt x="1302" y="655"/>
                    </a:lnTo>
                    <a:lnTo>
                      <a:pt x="1300" y="662"/>
                    </a:lnTo>
                    <a:lnTo>
                      <a:pt x="1294" y="660"/>
                    </a:lnTo>
                    <a:close/>
                    <a:moveTo>
                      <a:pt x="1306" y="593"/>
                    </a:moveTo>
                    <a:lnTo>
                      <a:pt x="1307" y="586"/>
                    </a:lnTo>
                    <a:lnTo>
                      <a:pt x="1308" y="573"/>
                    </a:lnTo>
                    <a:lnTo>
                      <a:pt x="1309" y="559"/>
                    </a:lnTo>
                    <a:lnTo>
                      <a:pt x="1309" y="545"/>
                    </a:lnTo>
                    <a:lnTo>
                      <a:pt x="1309" y="544"/>
                    </a:lnTo>
                    <a:lnTo>
                      <a:pt x="1315" y="544"/>
                    </a:lnTo>
                    <a:lnTo>
                      <a:pt x="1315" y="545"/>
                    </a:lnTo>
                    <a:lnTo>
                      <a:pt x="1315" y="559"/>
                    </a:lnTo>
                    <a:lnTo>
                      <a:pt x="1314" y="573"/>
                    </a:lnTo>
                    <a:lnTo>
                      <a:pt x="1313" y="587"/>
                    </a:lnTo>
                    <a:lnTo>
                      <a:pt x="1312" y="594"/>
                    </a:lnTo>
                    <a:lnTo>
                      <a:pt x="1306" y="593"/>
                    </a:lnTo>
                    <a:close/>
                    <a:moveTo>
                      <a:pt x="1308" y="525"/>
                    </a:moveTo>
                    <a:lnTo>
                      <a:pt x="1308" y="517"/>
                    </a:lnTo>
                    <a:lnTo>
                      <a:pt x="1307" y="504"/>
                    </a:lnTo>
                    <a:lnTo>
                      <a:pt x="1306" y="490"/>
                    </a:lnTo>
                    <a:lnTo>
                      <a:pt x="1304" y="476"/>
                    </a:lnTo>
                    <a:lnTo>
                      <a:pt x="1304" y="476"/>
                    </a:lnTo>
                    <a:lnTo>
                      <a:pt x="1310" y="475"/>
                    </a:lnTo>
                    <a:lnTo>
                      <a:pt x="1310" y="475"/>
                    </a:lnTo>
                    <a:lnTo>
                      <a:pt x="1312" y="489"/>
                    </a:lnTo>
                    <a:lnTo>
                      <a:pt x="1313" y="503"/>
                    </a:lnTo>
                    <a:lnTo>
                      <a:pt x="1314" y="517"/>
                    </a:lnTo>
                    <a:lnTo>
                      <a:pt x="1315" y="525"/>
                    </a:lnTo>
                    <a:lnTo>
                      <a:pt x="1308" y="525"/>
                    </a:lnTo>
                    <a:close/>
                    <a:moveTo>
                      <a:pt x="1300" y="458"/>
                    </a:moveTo>
                    <a:lnTo>
                      <a:pt x="1299" y="450"/>
                    </a:lnTo>
                    <a:lnTo>
                      <a:pt x="1296" y="436"/>
                    </a:lnTo>
                    <a:lnTo>
                      <a:pt x="1292" y="423"/>
                    </a:lnTo>
                    <a:lnTo>
                      <a:pt x="1288" y="410"/>
                    </a:lnTo>
                    <a:lnTo>
                      <a:pt x="1288" y="410"/>
                    </a:lnTo>
                    <a:lnTo>
                      <a:pt x="1294" y="408"/>
                    </a:lnTo>
                    <a:lnTo>
                      <a:pt x="1294" y="409"/>
                    </a:lnTo>
                    <a:lnTo>
                      <a:pt x="1298" y="422"/>
                    </a:lnTo>
                    <a:lnTo>
                      <a:pt x="1302" y="435"/>
                    </a:lnTo>
                    <a:lnTo>
                      <a:pt x="1305" y="448"/>
                    </a:lnTo>
                    <a:lnTo>
                      <a:pt x="1306" y="457"/>
                    </a:lnTo>
                    <a:lnTo>
                      <a:pt x="1300" y="458"/>
                    </a:lnTo>
                    <a:close/>
                    <a:moveTo>
                      <a:pt x="1282" y="392"/>
                    </a:moveTo>
                    <a:lnTo>
                      <a:pt x="1280" y="385"/>
                    </a:lnTo>
                    <a:lnTo>
                      <a:pt x="1269" y="360"/>
                    </a:lnTo>
                    <a:lnTo>
                      <a:pt x="1263" y="347"/>
                    </a:lnTo>
                    <a:lnTo>
                      <a:pt x="1269" y="344"/>
                    </a:lnTo>
                    <a:lnTo>
                      <a:pt x="1275" y="357"/>
                    </a:lnTo>
                    <a:lnTo>
                      <a:pt x="1286" y="383"/>
                    </a:lnTo>
                    <a:lnTo>
                      <a:pt x="1288" y="390"/>
                    </a:lnTo>
                    <a:lnTo>
                      <a:pt x="1282" y="392"/>
                    </a:lnTo>
                    <a:close/>
                    <a:moveTo>
                      <a:pt x="1255" y="330"/>
                    </a:moveTo>
                    <a:lnTo>
                      <a:pt x="1245" y="311"/>
                    </a:lnTo>
                    <a:lnTo>
                      <a:pt x="1230" y="288"/>
                    </a:lnTo>
                    <a:lnTo>
                      <a:pt x="1230" y="287"/>
                    </a:lnTo>
                    <a:lnTo>
                      <a:pt x="1235" y="284"/>
                    </a:lnTo>
                    <a:lnTo>
                      <a:pt x="1236" y="285"/>
                    </a:lnTo>
                    <a:lnTo>
                      <a:pt x="1250" y="308"/>
                    </a:lnTo>
                    <a:lnTo>
                      <a:pt x="1260" y="327"/>
                    </a:lnTo>
                    <a:lnTo>
                      <a:pt x="1255" y="330"/>
                    </a:lnTo>
                    <a:close/>
                    <a:moveTo>
                      <a:pt x="1219" y="272"/>
                    </a:moveTo>
                    <a:lnTo>
                      <a:pt x="1215" y="266"/>
                    </a:lnTo>
                    <a:lnTo>
                      <a:pt x="1198" y="244"/>
                    </a:lnTo>
                    <a:lnTo>
                      <a:pt x="1189" y="233"/>
                    </a:lnTo>
                    <a:lnTo>
                      <a:pt x="1193" y="229"/>
                    </a:lnTo>
                    <a:lnTo>
                      <a:pt x="1203" y="240"/>
                    </a:lnTo>
                    <a:lnTo>
                      <a:pt x="1220" y="262"/>
                    </a:lnTo>
                    <a:lnTo>
                      <a:pt x="1224" y="268"/>
                    </a:lnTo>
                    <a:lnTo>
                      <a:pt x="1219" y="272"/>
                    </a:lnTo>
                    <a:close/>
                    <a:moveTo>
                      <a:pt x="1176" y="219"/>
                    </a:moveTo>
                    <a:lnTo>
                      <a:pt x="1160" y="202"/>
                    </a:lnTo>
                    <a:lnTo>
                      <a:pt x="1141" y="184"/>
                    </a:lnTo>
                    <a:lnTo>
                      <a:pt x="1145" y="179"/>
                    </a:lnTo>
                    <a:lnTo>
                      <a:pt x="1165" y="198"/>
                    </a:lnTo>
                    <a:lnTo>
                      <a:pt x="1181" y="215"/>
                    </a:lnTo>
                    <a:lnTo>
                      <a:pt x="1176" y="219"/>
                    </a:lnTo>
                    <a:close/>
                    <a:moveTo>
                      <a:pt x="1127" y="172"/>
                    </a:moveTo>
                    <a:lnTo>
                      <a:pt x="1118" y="164"/>
                    </a:lnTo>
                    <a:lnTo>
                      <a:pt x="1096" y="146"/>
                    </a:lnTo>
                    <a:lnTo>
                      <a:pt x="1088" y="141"/>
                    </a:lnTo>
                    <a:lnTo>
                      <a:pt x="1092" y="136"/>
                    </a:lnTo>
                    <a:lnTo>
                      <a:pt x="1100" y="141"/>
                    </a:lnTo>
                    <a:lnTo>
                      <a:pt x="1122" y="159"/>
                    </a:lnTo>
                    <a:lnTo>
                      <a:pt x="1131" y="167"/>
                    </a:lnTo>
                    <a:lnTo>
                      <a:pt x="1127" y="172"/>
                    </a:lnTo>
                    <a:close/>
                    <a:moveTo>
                      <a:pt x="1073" y="130"/>
                    </a:moveTo>
                    <a:lnTo>
                      <a:pt x="1072" y="129"/>
                    </a:lnTo>
                    <a:lnTo>
                      <a:pt x="1048" y="113"/>
                    </a:lnTo>
                    <a:lnTo>
                      <a:pt x="1031" y="104"/>
                    </a:lnTo>
                    <a:lnTo>
                      <a:pt x="1034" y="98"/>
                    </a:lnTo>
                    <a:lnTo>
                      <a:pt x="1051" y="108"/>
                    </a:lnTo>
                    <a:lnTo>
                      <a:pt x="1076" y="124"/>
                    </a:lnTo>
                    <a:lnTo>
                      <a:pt x="1077" y="125"/>
                    </a:lnTo>
                    <a:lnTo>
                      <a:pt x="1073" y="130"/>
                    </a:lnTo>
                    <a:close/>
                    <a:moveTo>
                      <a:pt x="1015" y="94"/>
                    </a:moveTo>
                    <a:lnTo>
                      <a:pt x="996" y="84"/>
                    </a:lnTo>
                    <a:lnTo>
                      <a:pt x="971" y="72"/>
                    </a:lnTo>
                    <a:lnTo>
                      <a:pt x="973" y="67"/>
                    </a:lnTo>
                    <a:lnTo>
                      <a:pt x="998" y="79"/>
                    </a:lnTo>
                    <a:lnTo>
                      <a:pt x="1018" y="89"/>
                    </a:lnTo>
                    <a:lnTo>
                      <a:pt x="1015" y="94"/>
                    </a:lnTo>
                    <a:close/>
                    <a:moveTo>
                      <a:pt x="954" y="65"/>
                    </a:moveTo>
                    <a:lnTo>
                      <a:pt x="940" y="59"/>
                    </a:lnTo>
                    <a:lnTo>
                      <a:pt x="911" y="48"/>
                    </a:lnTo>
                    <a:lnTo>
                      <a:pt x="907" y="47"/>
                    </a:lnTo>
                    <a:lnTo>
                      <a:pt x="909" y="41"/>
                    </a:lnTo>
                    <a:lnTo>
                      <a:pt x="913" y="42"/>
                    </a:lnTo>
                    <a:lnTo>
                      <a:pt x="943" y="53"/>
                    </a:lnTo>
                    <a:lnTo>
                      <a:pt x="956" y="59"/>
                    </a:lnTo>
                    <a:lnTo>
                      <a:pt x="954" y="65"/>
                    </a:lnTo>
                    <a:close/>
                    <a:moveTo>
                      <a:pt x="890" y="41"/>
                    </a:moveTo>
                    <a:lnTo>
                      <a:pt x="882" y="39"/>
                    </a:lnTo>
                    <a:lnTo>
                      <a:pt x="851" y="30"/>
                    </a:lnTo>
                    <a:lnTo>
                      <a:pt x="842" y="28"/>
                    </a:lnTo>
                    <a:lnTo>
                      <a:pt x="843" y="22"/>
                    </a:lnTo>
                    <a:lnTo>
                      <a:pt x="853" y="24"/>
                    </a:lnTo>
                    <a:lnTo>
                      <a:pt x="884" y="33"/>
                    </a:lnTo>
                    <a:lnTo>
                      <a:pt x="892" y="35"/>
                    </a:lnTo>
                    <a:lnTo>
                      <a:pt x="890" y="41"/>
                    </a:lnTo>
                    <a:close/>
                    <a:moveTo>
                      <a:pt x="824" y="24"/>
                    </a:moveTo>
                    <a:lnTo>
                      <a:pt x="820" y="23"/>
                    </a:lnTo>
                    <a:lnTo>
                      <a:pt x="789" y="17"/>
                    </a:lnTo>
                    <a:lnTo>
                      <a:pt x="775" y="15"/>
                    </a:lnTo>
                    <a:lnTo>
                      <a:pt x="776" y="9"/>
                    </a:lnTo>
                    <a:lnTo>
                      <a:pt x="790" y="11"/>
                    </a:lnTo>
                    <a:lnTo>
                      <a:pt x="822" y="17"/>
                    </a:lnTo>
                    <a:lnTo>
                      <a:pt x="825" y="18"/>
                    </a:lnTo>
                    <a:lnTo>
                      <a:pt x="824" y="24"/>
                    </a:lnTo>
                    <a:close/>
                    <a:moveTo>
                      <a:pt x="756" y="12"/>
                    </a:moveTo>
                    <a:lnTo>
                      <a:pt x="724" y="9"/>
                    </a:lnTo>
                    <a:lnTo>
                      <a:pt x="707" y="8"/>
                    </a:lnTo>
                    <a:lnTo>
                      <a:pt x="707" y="1"/>
                    </a:lnTo>
                    <a:lnTo>
                      <a:pt x="725" y="2"/>
                    </a:lnTo>
                    <a:lnTo>
                      <a:pt x="757" y="6"/>
                    </a:lnTo>
                    <a:lnTo>
                      <a:pt x="756" y="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39440" y="2523960"/>
                <a:ext cx="86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DW Administrator</a:t>
                </a:r>
                <a:endParaRPr b="0" lang="en-US" sz="800" spc="-1" strike="noStrike">
                  <a:solidFill>
                    <a:srgbClr val="000000"/>
                  </a:solidFill>
                  <a:latin typeface="Times New Roman"/>
                </a:endParaRPr>
              </a:p>
            </p:txBody>
          </p:sp>
          <p:sp>
            <p:nvSpPr>
              <p:cNvPr id="517" name=""/>
              <p:cNvSpPr/>
              <p:nvPr/>
            </p:nvSpPr>
            <p:spPr>
              <a:xfrm>
                <a:off x="1000080" y="3249720"/>
                <a:ext cx="900000" cy="744480"/>
              </a:xfrm>
              <a:custGeom>
                <a:avLst/>
                <a:gdLst/>
                <a:ahLst/>
                <a:rect l="l" t="t" r="r" b="b"/>
                <a:pathLst>
                  <a:path w="6065" h="5016">
                    <a:moveTo>
                      <a:pt x="3045" y="3"/>
                    </a:moveTo>
                    <a:lnTo>
                      <a:pt x="3046" y="4"/>
                    </a:lnTo>
                    <a:cubicBezTo>
                      <a:pt x="3060" y="11"/>
                      <a:pt x="3067" y="26"/>
                      <a:pt x="3064" y="41"/>
                    </a:cubicBezTo>
                    <a:cubicBezTo>
                      <a:pt x="3060" y="56"/>
                      <a:pt x="3047" y="67"/>
                      <a:pt x="3032" y="67"/>
                    </a:cubicBezTo>
                    <a:lnTo>
                      <a:pt x="2954" y="68"/>
                    </a:lnTo>
                    <a:lnTo>
                      <a:pt x="2878" y="70"/>
                    </a:lnTo>
                    <a:lnTo>
                      <a:pt x="2802" y="74"/>
                    </a:lnTo>
                    <a:lnTo>
                      <a:pt x="2727" y="79"/>
                    </a:lnTo>
                    <a:lnTo>
                      <a:pt x="2653" y="87"/>
                    </a:lnTo>
                    <a:lnTo>
                      <a:pt x="2578" y="95"/>
                    </a:lnTo>
                    <a:lnTo>
                      <a:pt x="2506" y="105"/>
                    </a:lnTo>
                    <a:lnTo>
                      <a:pt x="2497" y="39"/>
                    </a:lnTo>
                    <a:lnTo>
                      <a:pt x="2571" y="29"/>
                    </a:lnTo>
                    <a:lnTo>
                      <a:pt x="2646" y="20"/>
                    </a:lnTo>
                    <a:lnTo>
                      <a:pt x="2722" y="13"/>
                    </a:lnTo>
                    <a:lnTo>
                      <a:pt x="2799" y="7"/>
                    </a:lnTo>
                    <a:lnTo>
                      <a:pt x="2876" y="3"/>
                    </a:lnTo>
                    <a:lnTo>
                      <a:pt x="2954" y="1"/>
                    </a:lnTo>
                    <a:lnTo>
                      <a:pt x="3031" y="0"/>
                    </a:lnTo>
                    <a:lnTo>
                      <a:pt x="3017" y="63"/>
                    </a:lnTo>
                    <a:lnTo>
                      <a:pt x="3016" y="63"/>
                    </a:lnTo>
                    <a:lnTo>
                      <a:pt x="3045" y="3"/>
                    </a:lnTo>
                    <a:close/>
                    <a:moveTo>
                      <a:pt x="2311" y="140"/>
                    </a:moveTo>
                    <a:lnTo>
                      <a:pt x="2288" y="144"/>
                    </a:lnTo>
                    <a:lnTo>
                      <a:pt x="2147" y="177"/>
                    </a:lnTo>
                    <a:lnTo>
                      <a:pt x="2009" y="216"/>
                    </a:lnTo>
                    <a:lnTo>
                      <a:pt x="1874" y="260"/>
                    </a:lnTo>
                    <a:lnTo>
                      <a:pt x="1804" y="286"/>
                    </a:lnTo>
                    <a:lnTo>
                      <a:pt x="1781" y="223"/>
                    </a:lnTo>
                    <a:lnTo>
                      <a:pt x="1853" y="196"/>
                    </a:lnTo>
                    <a:lnTo>
                      <a:pt x="1991" y="152"/>
                    </a:lnTo>
                    <a:lnTo>
                      <a:pt x="2132" y="112"/>
                    </a:lnTo>
                    <a:lnTo>
                      <a:pt x="2275" y="79"/>
                    </a:lnTo>
                    <a:lnTo>
                      <a:pt x="2298" y="74"/>
                    </a:lnTo>
                    <a:lnTo>
                      <a:pt x="2311" y="140"/>
                    </a:lnTo>
                    <a:close/>
                    <a:moveTo>
                      <a:pt x="1620" y="361"/>
                    </a:moveTo>
                    <a:lnTo>
                      <a:pt x="1614" y="363"/>
                    </a:lnTo>
                    <a:lnTo>
                      <a:pt x="1490" y="422"/>
                    </a:lnTo>
                    <a:lnTo>
                      <a:pt x="1370" y="486"/>
                    </a:lnTo>
                    <a:lnTo>
                      <a:pt x="1253" y="554"/>
                    </a:lnTo>
                    <a:lnTo>
                      <a:pt x="1159" y="615"/>
                    </a:lnTo>
                    <a:lnTo>
                      <a:pt x="1123" y="559"/>
                    </a:lnTo>
                    <a:lnTo>
                      <a:pt x="1220" y="496"/>
                    </a:lnTo>
                    <a:lnTo>
                      <a:pt x="1339" y="427"/>
                    </a:lnTo>
                    <a:lnTo>
                      <a:pt x="1462" y="362"/>
                    </a:lnTo>
                    <a:lnTo>
                      <a:pt x="1588" y="302"/>
                    </a:lnTo>
                    <a:lnTo>
                      <a:pt x="1594" y="299"/>
                    </a:lnTo>
                    <a:lnTo>
                      <a:pt x="1620" y="361"/>
                    </a:lnTo>
                    <a:close/>
                    <a:moveTo>
                      <a:pt x="999" y="731"/>
                    </a:moveTo>
                    <a:lnTo>
                      <a:pt x="931" y="784"/>
                    </a:lnTo>
                    <a:lnTo>
                      <a:pt x="833" y="869"/>
                    </a:lnTo>
                    <a:lnTo>
                      <a:pt x="739" y="958"/>
                    </a:lnTo>
                    <a:lnTo>
                      <a:pt x="652" y="1050"/>
                    </a:lnTo>
                    <a:lnTo>
                      <a:pt x="616" y="1091"/>
                    </a:lnTo>
                    <a:lnTo>
                      <a:pt x="566" y="1048"/>
                    </a:lnTo>
                    <a:lnTo>
                      <a:pt x="603" y="1004"/>
                    </a:lnTo>
                    <a:lnTo>
                      <a:pt x="693" y="910"/>
                    </a:lnTo>
                    <a:lnTo>
                      <a:pt x="789" y="819"/>
                    </a:lnTo>
                    <a:lnTo>
                      <a:pt x="890" y="732"/>
                    </a:lnTo>
                    <a:lnTo>
                      <a:pt x="958" y="678"/>
                    </a:lnTo>
                    <a:lnTo>
                      <a:pt x="999" y="731"/>
                    </a:lnTo>
                    <a:close/>
                    <a:moveTo>
                      <a:pt x="493" y="1244"/>
                    </a:moveTo>
                    <a:lnTo>
                      <a:pt x="421" y="1348"/>
                    </a:lnTo>
                    <a:lnTo>
                      <a:pt x="388" y="1399"/>
                    </a:lnTo>
                    <a:lnTo>
                      <a:pt x="356" y="1452"/>
                    </a:lnTo>
                    <a:lnTo>
                      <a:pt x="325" y="1506"/>
                    </a:lnTo>
                    <a:lnTo>
                      <a:pt x="296" y="1560"/>
                    </a:lnTo>
                    <a:lnTo>
                      <a:pt x="269" y="1615"/>
                    </a:lnTo>
                    <a:lnTo>
                      <a:pt x="243" y="1671"/>
                    </a:lnTo>
                    <a:lnTo>
                      <a:pt x="231" y="1700"/>
                    </a:lnTo>
                    <a:lnTo>
                      <a:pt x="170" y="1674"/>
                    </a:lnTo>
                    <a:lnTo>
                      <a:pt x="183" y="1643"/>
                    </a:lnTo>
                    <a:lnTo>
                      <a:pt x="210" y="1586"/>
                    </a:lnTo>
                    <a:lnTo>
                      <a:pt x="238" y="1529"/>
                    </a:lnTo>
                    <a:lnTo>
                      <a:pt x="267" y="1473"/>
                    </a:lnTo>
                    <a:lnTo>
                      <a:pt x="299" y="1418"/>
                    </a:lnTo>
                    <a:lnTo>
                      <a:pt x="331" y="1363"/>
                    </a:lnTo>
                    <a:lnTo>
                      <a:pt x="366" y="1309"/>
                    </a:lnTo>
                    <a:lnTo>
                      <a:pt x="438" y="1206"/>
                    </a:lnTo>
                    <a:lnTo>
                      <a:pt x="493" y="1244"/>
                    </a:lnTo>
                    <a:close/>
                    <a:moveTo>
                      <a:pt x="162" y="1884"/>
                    </a:moveTo>
                    <a:lnTo>
                      <a:pt x="157" y="1900"/>
                    </a:lnTo>
                    <a:lnTo>
                      <a:pt x="140" y="1958"/>
                    </a:lnTo>
                    <a:lnTo>
                      <a:pt x="124" y="2018"/>
                    </a:lnTo>
                    <a:lnTo>
                      <a:pt x="110" y="2077"/>
                    </a:lnTo>
                    <a:lnTo>
                      <a:pt x="98" y="2138"/>
                    </a:lnTo>
                    <a:lnTo>
                      <a:pt x="88" y="2198"/>
                    </a:lnTo>
                    <a:lnTo>
                      <a:pt x="80" y="2259"/>
                    </a:lnTo>
                    <a:lnTo>
                      <a:pt x="73" y="2321"/>
                    </a:lnTo>
                    <a:lnTo>
                      <a:pt x="68" y="2383"/>
                    </a:lnTo>
                    <a:lnTo>
                      <a:pt x="67" y="2398"/>
                    </a:lnTo>
                    <a:lnTo>
                      <a:pt x="1" y="2395"/>
                    </a:lnTo>
                    <a:lnTo>
                      <a:pt x="2" y="2378"/>
                    </a:lnTo>
                    <a:lnTo>
                      <a:pt x="7" y="2314"/>
                    </a:lnTo>
                    <a:lnTo>
                      <a:pt x="14" y="2250"/>
                    </a:lnTo>
                    <a:lnTo>
                      <a:pt x="22" y="2187"/>
                    </a:lnTo>
                    <a:lnTo>
                      <a:pt x="33" y="2124"/>
                    </a:lnTo>
                    <a:lnTo>
                      <a:pt x="46" y="2062"/>
                    </a:lnTo>
                    <a:lnTo>
                      <a:pt x="60" y="2001"/>
                    </a:lnTo>
                    <a:lnTo>
                      <a:pt x="76" y="1939"/>
                    </a:lnTo>
                    <a:lnTo>
                      <a:pt x="94" y="1879"/>
                    </a:lnTo>
                    <a:lnTo>
                      <a:pt x="99" y="1864"/>
                    </a:lnTo>
                    <a:lnTo>
                      <a:pt x="162" y="1884"/>
                    </a:lnTo>
                    <a:close/>
                    <a:moveTo>
                      <a:pt x="67" y="2595"/>
                    </a:moveTo>
                    <a:lnTo>
                      <a:pt x="69" y="2634"/>
                    </a:lnTo>
                    <a:lnTo>
                      <a:pt x="73" y="2696"/>
                    </a:lnTo>
                    <a:lnTo>
                      <a:pt x="80" y="2758"/>
                    </a:lnTo>
                    <a:lnTo>
                      <a:pt x="88" y="2819"/>
                    </a:lnTo>
                    <a:lnTo>
                      <a:pt x="99" y="2880"/>
                    </a:lnTo>
                    <a:lnTo>
                      <a:pt x="111" y="2940"/>
                    </a:lnTo>
                    <a:lnTo>
                      <a:pt x="125" y="3000"/>
                    </a:lnTo>
                    <a:lnTo>
                      <a:pt x="140" y="3059"/>
                    </a:lnTo>
                    <a:lnTo>
                      <a:pt x="156" y="3111"/>
                    </a:lnTo>
                    <a:lnTo>
                      <a:pt x="92" y="3130"/>
                    </a:lnTo>
                    <a:lnTo>
                      <a:pt x="76" y="3076"/>
                    </a:lnTo>
                    <a:lnTo>
                      <a:pt x="60" y="3015"/>
                    </a:lnTo>
                    <a:lnTo>
                      <a:pt x="46" y="2953"/>
                    </a:lnTo>
                    <a:lnTo>
                      <a:pt x="33" y="2891"/>
                    </a:lnTo>
                    <a:lnTo>
                      <a:pt x="22" y="2828"/>
                    </a:lnTo>
                    <a:lnTo>
                      <a:pt x="14" y="2765"/>
                    </a:lnTo>
                    <a:lnTo>
                      <a:pt x="7" y="2701"/>
                    </a:lnTo>
                    <a:lnTo>
                      <a:pt x="2" y="2637"/>
                    </a:lnTo>
                    <a:lnTo>
                      <a:pt x="0" y="2598"/>
                    </a:lnTo>
                    <a:lnTo>
                      <a:pt x="67" y="2595"/>
                    </a:lnTo>
                    <a:close/>
                    <a:moveTo>
                      <a:pt x="223" y="3296"/>
                    </a:moveTo>
                    <a:lnTo>
                      <a:pt x="244" y="3346"/>
                    </a:lnTo>
                    <a:lnTo>
                      <a:pt x="270" y="3402"/>
                    </a:lnTo>
                    <a:lnTo>
                      <a:pt x="297" y="3457"/>
                    </a:lnTo>
                    <a:lnTo>
                      <a:pt x="326" y="3511"/>
                    </a:lnTo>
                    <a:lnTo>
                      <a:pt x="356" y="3565"/>
                    </a:lnTo>
                    <a:lnTo>
                      <a:pt x="388" y="3618"/>
                    </a:lnTo>
                    <a:lnTo>
                      <a:pt x="422" y="3670"/>
                    </a:lnTo>
                    <a:lnTo>
                      <a:pt x="480" y="3754"/>
                    </a:lnTo>
                    <a:lnTo>
                      <a:pt x="425" y="3792"/>
                    </a:lnTo>
                    <a:lnTo>
                      <a:pt x="365" y="3706"/>
                    </a:lnTo>
                    <a:lnTo>
                      <a:pt x="331" y="3652"/>
                    </a:lnTo>
                    <a:lnTo>
                      <a:pt x="298" y="3598"/>
                    </a:lnTo>
                    <a:lnTo>
                      <a:pt x="267" y="3543"/>
                    </a:lnTo>
                    <a:lnTo>
                      <a:pt x="237" y="3487"/>
                    </a:lnTo>
                    <a:lnTo>
                      <a:pt x="209" y="3430"/>
                    </a:lnTo>
                    <a:lnTo>
                      <a:pt x="183" y="3372"/>
                    </a:lnTo>
                    <a:lnTo>
                      <a:pt x="161" y="3322"/>
                    </a:lnTo>
                    <a:lnTo>
                      <a:pt x="223" y="3296"/>
                    </a:lnTo>
                    <a:close/>
                    <a:moveTo>
                      <a:pt x="601" y="3908"/>
                    </a:moveTo>
                    <a:lnTo>
                      <a:pt x="653" y="3967"/>
                    </a:lnTo>
                    <a:lnTo>
                      <a:pt x="741" y="4060"/>
                    </a:lnTo>
                    <a:lnTo>
                      <a:pt x="834" y="4149"/>
                    </a:lnTo>
                    <a:lnTo>
                      <a:pt x="932" y="4233"/>
                    </a:lnTo>
                    <a:lnTo>
                      <a:pt x="981" y="4272"/>
                    </a:lnTo>
                    <a:lnTo>
                      <a:pt x="940" y="4324"/>
                    </a:lnTo>
                    <a:lnTo>
                      <a:pt x="888" y="4284"/>
                    </a:lnTo>
                    <a:lnTo>
                      <a:pt x="788" y="4197"/>
                    </a:lnTo>
                    <a:lnTo>
                      <a:pt x="692" y="4106"/>
                    </a:lnTo>
                    <a:lnTo>
                      <a:pt x="602" y="4011"/>
                    </a:lnTo>
                    <a:lnTo>
                      <a:pt x="551" y="3952"/>
                    </a:lnTo>
                    <a:lnTo>
                      <a:pt x="601" y="3908"/>
                    </a:lnTo>
                    <a:close/>
                    <a:moveTo>
                      <a:pt x="1141" y="4390"/>
                    </a:moveTo>
                    <a:lnTo>
                      <a:pt x="1142" y="4391"/>
                    </a:lnTo>
                    <a:lnTo>
                      <a:pt x="1255" y="4464"/>
                    </a:lnTo>
                    <a:lnTo>
                      <a:pt x="1371" y="4532"/>
                    </a:lnTo>
                    <a:lnTo>
                      <a:pt x="1491" y="4595"/>
                    </a:lnTo>
                    <a:lnTo>
                      <a:pt x="1600" y="4647"/>
                    </a:lnTo>
                    <a:lnTo>
                      <a:pt x="1572" y="4708"/>
                    </a:lnTo>
                    <a:lnTo>
                      <a:pt x="1460" y="4654"/>
                    </a:lnTo>
                    <a:lnTo>
                      <a:pt x="1337" y="4589"/>
                    </a:lnTo>
                    <a:lnTo>
                      <a:pt x="1218" y="4520"/>
                    </a:lnTo>
                    <a:lnTo>
                      <a:pt x="1104" y="4445"/>
                    </a:lnTo>
                    <a:lnTo>
                      <a:pt x="1102" y="4444"/>
                    </a:lnTo>
                    <a:lnTo>
                      <a:pt x="1141" y="4390"/>
                    </a:lnTo>
                    <a:close/>
                    <a:moveTo>
                      <a:pt x="1782" y="4723"/>
                    </a:moveTo>
                    <a:lnTo>
                      <a:pt x="1875" y="4758"/>
                    </a:lnTo>
                    <a:lnTo>
                      <a:pt x="2010" y="4802"/>
                    </a:lnTo>
                    <a:lnTo>
                      <a:pt x="2148" y="4840"/>
                    </a:lnTo>
                    <a:lnTo>
                      <a:pt x="2289" y="4873"/>
                    </a:lnTo>
                    <a:lnTo>
                      <a:pt x="2289" y="4873"/>
                    </a:lnTo>
                    <a:lnTo>
                      <a:pt x="2275" y="4938"/>
                    </a:lnTo>
                    <a:lnTo>
                      <a:pt x="2274" y="4938"/>
                    </a:lnTo>
                    <a:lnTo>
                      <a:pt x="2130" y="4904"/>
                    </a:lnTo>
                    <a:lnTo>
                      <a:pt x="1989" y="4865"/>
                    </a:lnTo>
                    <a:lnTo>
                      <a:pt x="1852" y="4820"/>
                    </a:lnTo>
                    <a:lnTo>
                      <a:pt x="1759" y="4785"/>
                    </a:lnTo>
                    <a:lnTo>
                      <a:pt x="1782" y="4723"/>
                    </a:lnTo>
                    <a:close/>
                    <a:moveTo>
                      <a:pt x="2483" y="4908"/>
                    </a:moveTo>
                    <a:lnTo>
                      <a:pt x="2505" y="4912"/>
                    </a:lnTo>
                    <a:lnTo>
                      <a:pt x="2579" y="4922"/>
                    </a:lnTo>
                    <a:lnTo>
                      <a:pt x="2652" y="4930"/>
                    </a:lnTo>
                    <a:lnTo>
                      <a:pt x="2727" y="4937"/>
                    </a:lnTo>
                    <a:lnTo>
                      <a:pt x="2802" y="4943"/>
                    </a:lnTo>
                    <a:lnTo>
                      <a:pt x="2878" y="4947"/>
                    </a:lnTo>
                    <a:lnTo>
                      <a:pt x="2954" y="4949"/>
                    </a:lnTo>
                    <a:lnTo>
                      <a:pt x="3010" y="4950"/>
                    </a:lnTo>
                    <a:lnTo>
                      <a:pt x="3009" y="5016"/>
                    </a:lnTo>
                    <a:lnTo>
                      <a:pt x="2952" y="5016"/>
                    </a:lnTo>
                    <a:lnTo>
                      <a:pt x="2874" y="5013"/>
                    </a:lnTo>
                    <a:lnTo>
                      <a:pt x="2798" y="5009"/>
                    </a:lnTo>
                    <a:lnTo>
                      <a:pt x="2721" y="5004"/>
                    </a:lnTo>
                    <a:lnTo>
                      <a:pt x="2645" y="4996"/>
                    </a:lnTo>
                    <a:lnTo>
                      <a:pt x="2569" y="4988"/>
                    </a:lnTo>
                    <a:lnTo>
                      <a:pt x="2495" y="4977"/>
                    </a:lnTo>
                    <a:lnTo>
                      <a:pt x="2473" y="4974"/>
                    </a:lnTo>
                    <a:lnTo>
                      <a:pt x="2483" y="4908"/>
                    </a:lnTo>
                    <a:close/>
                    <a:moveTo>
                      <a:pt x="3208" y="4946"/>
                    </a:moveTo>
                    <a:lnTo>
                      <a:pt x="3260" y="4943"/>
                    </a:lnTo>
                    <a:lnTo>
                      <a:pt x="3336" y="4937"/>
                    </a:lnTo>
                    <a:lnTo>
                      <a:pt x="3410" y="4930"/>
                    </a:lnTo>
                    <a:lnTo>
                      <a:pt x="3485" y="4922"/>
                    </a:lnTo>
                    <a:lnTo>
                      <a:pt x="3558" y="4912"/>
                    </a:lnTo>
                    <a:lnTo>
                      <a:pt x="3631" y="4900"/>
                    </a:lnTo>
                    <a:lnTo>
                      <a:pt x="3732" y="4881"/>
                    </a:lnTo>
                    <a:lnTo>
                      <a:pt x="3745" y="4946"/>
                    </a:lnTo>
                    <a:lnTo>
                      <a:pt x="3641" y="4966"/>
                    </a:lnTo>
                    <a:lnTo>
                      <a:pt x="3567" y="4978"/>
                    </a:lnTo>
                    <a:lnTo>
                      <a:pt x="3492" y="4988"/>
                    </a:lnTo>
                    <a:lnTo>
                      <a:pt x="3417" y="4997"/>
                    </a:lnTo>
                    <a:lnTo>
                      <a:pt x="3341" y="5004"/>
                    </a:lnTo>
                    <a:lnTo>
                      <a:pt x="3264" y="5010"/>
                    </a:lnTo>
                    <a:lnTo>
                      <a:pt x="3211" y="5012"/>
                    </a:lnTo>
                    <a:lnTo>
                      <a:pt x="3208" y="4946"/>
                    </a:lnTo>
                    <a:close/>
                    <a:moveTo>
                      <a:pt x="3924" y="4837"/>
                    </a:moveTo>
                    <a:lnTo>
                      <a:pt x="4054" y="4801"/>
                    </a:lnTo>
                    <a:lnTo>
                      <a:pt x="4189" y="4757"/>
                    </a:lnTo>
                    <a:lnTo>
                      <a:pt x="4321" y="4708"/>
                    </a:lnTo>
                    <a:lnTo>
                      <a:pt x="4424" y="4665"/>
                    </a:lnTo>
                    <a:lnTo>
                      <a:pt x="4450" y="4726"/>
                    </a:lnTo>
                    <a:lnTo>
                      <a:pt x="4344" y="4771"/>
                    </a:lnTo>
                    <a:lnTo>
                      <a:pt x="4210" y="4821"/>
                    </a:lnTo>
                    <a:lnTo>
                      <a:pt x="4072" y="4865"/>
                    </a:lnTo>
                    <a:lnTo>
                      <a:pt x="3942" y="4902"/>
                    </a:lnTo>
                    <a:lnTo>
                      <a:pt x="3924" y="4837"/>
                    </a:lnTo>
                    <a:close/>
                    <a:moveTo>
                      <a:pt x="4602" y="4580"/>
                    </a:moveTo>
                    <a:lnTo>
                      <a:pt x="4693" y="4531"/>
                    </a:lnTo>
                    <a:lnTo>
                      <a:pt x="4810" y="4463"/>
                    </a:lnTo>
                    <a:lnTo>
                      <a:pt x="4922" y="4390"/>
                    </a:lnTo>
                    <a:lnTo>
                      <a:pt x="5029" y="4313"/>
                    </a:lnTo>
                    <a:lnTo>
                      <a:pt x="5047" y="4299"/>
                    </a:lnTo>
                    <a:lnTo>
                      <a:pt x="5089" y="4352"/>
                    </a:lnTo>
                    <a:lnTo>
                      <a:pt x="5068" y="4368"/>
                    </a:lnTo>
                    <a:lnTo>
                      <a:pt x="4958" y="4446"/>
                    </a:lnTo>
                    <a:lnTo>
                      <a:pt x="4843" y="4520"/>
                    </a:lnTo>
                    <a:lnTo>
                      <a:pt x="4725" y="4590"/>
                    </a:lnTo>
                    <a:lnTo>
                      <a:pt x="4633" y="4639"/>
                    </a:lnTo>
                    <a:lnTo>
                      <a:pt x="4602" y="4580"/>
                    </a:lnTo>
                    <a:close/>
                    <a:moveTo>
                      <a:pt x="5200" y="4173"/>
                    </a:moveTo>
                    <a:lnTo>
                      <a:pt x="5230" y="4147"/>
                    </a:lnTo>
                    <a:lnTo>
                      <a:pt x="5323" y="4059"/>
                    </a:lnTo>
                    <a:lnTo>
                      <a:pt x="5411" y="3966"/>
                    </a:lnTo>
                    <a:lnTo>
                      <a:pt x="5494" y="3870"/>
                    </a:lnTo>
                    <a:lnTo>
                      <a:pt x="5558" y="3788"/>
                    </a:lnTo>
                    <a:lnTo>
                      <a:pt x="5611" y="3829"/>
                    </a:lnTo>
                    <a:lnTo>
                      <a:pt x="5544" y="3914"/>
                    </a:lnTo>
                    <a:lnTo>
                      <a:pt x="5460" y="4012"/>
                    </a:lnTo>
                    <a:lnTo>
                      <a:pt x="5369" y="4107"/>
                    </a:lnTo>
                    <a:lnTo>
                      <a:pt x="5274" y="4198"/>
                    </a:lnTo>
                    <a:lnTo>
                      <a:pt x="5244" y="4224"/>
                    </a:lnTo>
                    <a:lnTo>
                      <a:pt x="5200" y="4173"/>
                    </a:lnTo>
                    <a:close/>
                    <a:moveTo>
                      <a:pt x="5670" y="3625"/>
                    </a:moveTo>
                    <a:lnTo>
                      <a:pt x="5675" y="3617"/>
                    </a:lnTo>
                    <a:lnTo>
                      <a:pt x="5707" y="3564"/>
                    </a:lnTo>
                    <a:lnTo>
                      <a:pt x="5737" y="3510"/>
                    </a:lnTo>
                    <a:lnTo>
                      <a:pt x="5766" y="3456"/>
                    </a:lnTo>
                    <a:lnTo>
                      <a:pt x="5793" y="3401"/>
                    </a:lnTo>
                    <a:lnTo>
                      <a:pt x="5819" y="3345"/>
                    </a:lnTo>
                    <a:lnTo>
                      <a:pt x="5843" y="3289"/>
                    </a:lnTo>
                    <a:lnTo>
                      <a:pt x="5865" y="3232"/>
                    </a:lnTo>
                    <a:lnTo>
                      <a:pt x="5886" y="3174"/>
                    </a:lnTo>
                    <a:lnTo>
                      <a:pt x="5893" y="3152"/>
                    </a:lnTo>
                    <a:lnTo>
                      <a:pt x="5957" y="3173"/>
                    </a:lnTo>
                    <a:lnTo>
                      <a:pt x="5949" y="3197"/>
                    </a:lnTo>
                    <a:lnTo>
                      <a:pt x="5927" y="3256"/>
                    </a:lnTo>
                    <a:lnTo>
                      <a:pt x="5904" y="3315"/>
                    </a:lnTo>
                    <a:lnTo>
                      <a:pt x="5879" y="3373"/>
                    </a:lnTo>
                    <a:lnTo>
                      <a:pt x="5853" y="3430"/>
                    </a:lnTo>
                    <a:lnTo>
                      <a:pt x="5825" y="3487"/>
                    </a:lnTo>
                    <a:lnTo>
                      <a:pt x="5795" y="3543"/>
                    </a:lnTo>
                    <a:lnTo>
                      <a:pt x="5764" y="3598"/>
                    </a:lnTo>
                    <a:lnTo>
                      <a:pt x="5731" y="3653"/>
                    </a:lnTo>
                    <a:lnTo>
                      <a:pt x="5726" y="3661"/>
                    </a:lnTo>
                    <a:lnTo>
                      <a:pt x="5670" y="3625"/>
                    </a:lnTo>
                    <a:close/>
                    <a:moveTo>
                      <a:pt x="5946" y="2962"/>
                    </a:moveTo>
                    <a:lnTo>
                      <a:pt x="5952" y="2938"/>
                    </a:lnTo>
                    <a:lnTo>
                      <a:pt x="5964" y="2878"/>
                    </a:lnTo>
                    <a:lnTo>
                      <a:pt x="5974" y="2817"/>
                    </a:lnTo>
                    <a:lnTo>
                      <a:pt x="5983" y="2756"/>
                    </a:lnTo>
                    <a:lnTo>
                      <a:pt x="5989" y="2694"/>
                    </a:lnTo>
                    <a:lnTo>
                      <a:pt x="5994" y="2632"/>
                    </a:lnTo>
                    <a:lnTo>
                      <a:pt x="5997" y="2570"/>
                    </a:lnTo>
                    <a:lnTo>
                      <a:pt x="5998" y="2507"/>
                    </a:lnTo>
                    <a:lnTo>
                      <a:pt x="5997" y="2445"/>
                    </a:lnTo>
                    <a:lnTo>
                      <a:pt x="5997" y="2442"/>
                    </a:lnTo>
                    <a:lnTo>
                      <a:pt x="6064" y="2439"/>
                    </a:lnTo>
                    <a:lnTo>
                      <a:pt x="6064" y="2444"/>
                    </a:lnTo>
                    <a:lnTo>
                      <a:pt x="6065" y="2508"/>
                    </a:lnTo>
                    <a:lnTo>
                      <a:pt x="6064" y="2573"/>
                    </a:lnTo>
                    <a:lnTo>
                      <a:pt x="6060" y="2637"/>
                    </a:lnTo>
                    <a:lnTo>
                      <a:pt x="6056" y="2702"/>
                    </a:lnTo>
                    <a:lnTo>
                      <a:pt x="6049" y="2765"/>
                    </a:lnTo>
                    <a:lnTo>
                      <a:pt x="6040" y="2829"/>
                    </a:lnTo>
                    <a:lnTo>
                      <a:pt x="6029" y="2891"/>
                    </a:lnTo>
                    <a:lnTo>
                      <a:pt x="6017" y="2954"/>
                    </a:lnTo>
                    <a:lnTo>
                      <a:pt x="6011" y="2977"/>
                    </a:lnTo>
                    <a:lnTo>
                      <a:pt x="5946" y="2962"/>
                    </a:lnTo>
                    <a:close/>
                    <a:moveTo>
                      <a:pt x="5981" y="2246"/>
                    </a:moveTo>
                    <a:lnTo>
                      <a:pt x="5974" y="2198"/>
                    </a:lnTo>
                    <a:lnTo>
                      <a:pt x="5964" y="2137"/>
                    </a:lnTo>
                    <a:lnTo>
                      <a:pt x="5952" y="2077"/>
                    </a:lnTo>
                    <a:lnTo>
                      <a:pt x="5938" y="2017"/>
                    </a:lnTo>
                    <a:lnTo>
                      <a:pt x="5922" y="1958"/>
                    </a:lnTo>
                    <a:lnTo>
                      <a:pt x="5905" y="1899"/>
                    </a:lnTo>
                    <a:lnTo>
                      <a:pt x="5886" y="1841"/>
                    </a:lnTo>
                    <a:lnTo>
                      <a:pt x="5865" y="1784"/>
                    </a:lnTo>
                    <a:lnTo>
                      <a:pt x="5848" y="1739"/>
                    </a:lnTo>
                    <a:lnTo>
                      <a:pt x="5910" y="1715"/>
                    </a:lnTo>
                    <a:lnTo>
                      <a:pt x="5928" y="1761"/>
                    </a:lnTo>
                    <a:lnTo>
                      <a:pt x="5949" y="1821"/>
                    </a:lnTo>
                    <a:lnTo>
                      <a:pt x="5969" y="1880"/>
                    </a:lnTo>
                    <a:lnTo>
                      <a:pt x="5987" y="1941"/>
                    </a:lnTo>
                    <a:lnTo>
                      <a:pt x="6003" y="2002"/>
                    </a:lnTo>
                    <a:lnTo>
                      <a:pt x="6017" y="2064"/>
                    </a:lnTo>
                    <a:lnTo>
                      <a:pt x="6030" y="2126"/>
                    </a:lnTo>
                    <a:lnTo>
                      <a:pt x="6040" y="2189"/>
                    </a:lnTo>
                    <a:lnTo>
                      <a:pt x="6047" y="2237"/>
                    </a:lnTo>
                    <a:lnTo>
                      <a:pt x="5981" y="2246"/>
                    </a:lnTo>
                    <a:close/>
                    <a:moveTo>
                      <a:pt x="5766" y="1561"/>
                    </a:moveTo>
                    <a:lnTo>
                      <a:pt x="5737" y="1506"/>
                    </a:lnTo>
                    <a:lnTo>
                      <a:pt x="5707" y="1452"/>
                    </a:lnTo>
                    <a:lnTo>
                      <a:pt x="5675" y="1399"/>
                    </a:lnTo>
                    <a:lnTo>
                      <a:pt x="5641" y="1347"/>
                    </a:lnTo>
                    <a:lnTo>
                      <a:pt x="5570" y="1244"/>
                    </a:lnTo>
                    <a:lnTo>
                      <a:pt x="5493" y="1145"/>
                    </a:lnTo>
                    <a:lnTo>
                      <a:pt x="5475" y="1124"/>
                    </a:lnTo>
                    <a:lnTo>
                      <a:pt x="5525" y="1081"/>
                    </a:lnTo>
                    <a:lnTo>
                      <a:pt x="5546" y="1104"/>
                    </a:lnTo>
                    <a:lnTo>
                      <a:pt x="5625" y="1206"/>
                    </a:lnTo>
                    <a:lnTo>
                      <a:pt x="5698" y="1311"/>
                    </a:lnTo>
                    <a:lnTo>
                      <a:pt x="5732" y="1364"/>
                    </a:lnTo>
                    <a:lnTo>
                      <a:pt x="5765" y="1419"/>
                    </a:lnTo>
                    <a:lnTo>
                      <a:pt x="5796" y="1474"/>
                    </a:lnTo>
                    <a:lnTo>
                      <a:pt x="5825" y="1529"/>
                    </a:lnTo>
                    <a:lnTo>
                      <a:pt x="5766" y="1561"/>
                    </a:lnTo>
                    <a:close/>
                    <a:moveTo>
                      <a:pt x="5342" y="977"/>
                    </a:moveTo>
                    <a:lnTo>
                      <a:pt x="5322" y="957"/>
                    </a:lnTo>
                    <a:lnTo>
                      <a:pt x="5229" y="869"/>
                    </a:lnTo>
                    <a:lnTo>
                      <a:pt x="5131" y="784"/>
                    </a:lnTo>
                    <a:lnTo>
                      <a:pt x="5028" y="703"/>
                    </a:lnTo>
                    <a:lnTo>
                      <a:pt x="4939" y="639"/>
                    </a:lnTo>
                    <a:lnTo>
                      <a:pt x="4977" y="585"/>
                    </a:lnTo>
                    <a:lnTo>
                      <a:pt x="5069" y="650"/>
                    </a:lnTo>
                    <a:lnTo>
                      <a:pt x="5175" y="733"/>
                    </a:lnTo>
                    <a:lnTo>
                      <a:pt x="5275" y="820"/>
                    </a:lnTo>
                    <a:lnTo>
                      <a:pt x="5371" y="911"/>
                    </a:lnTo>
                    <a:lnTo>
                      <a:pt x="5390" y="931"/>
                    </a:lnTo>
                    <a:lnTo>
                      <a:pt x="5342" y="977"/>
                    </a:lnTo>
                    <a:close/>
                    <a:moveTo>
                      <a:pt x="4773" y="533"/>
                    </a:moveTo>
                    <a:lnTo>
                      <a:pt x="4692" y="485"/>
                    </a:lnTo>
                    <a:lnTo>
                      <a:pt x="4571" y="421"/>
                    </a:lnTo>
                    <a:lnTo>
                      <a:pt x="4447" y="362"/>
                    </a:lnTo>
                    <a:lnTo>
                      <a:pt x="4319" y="308"/>
                    </a:lnTo>
                    <a:lnTo>
                      <a:pt x="4300" y="301"/>
                    </a:lnTo>
                    <a:lnTo>
                      <a:pt x="4323" y="239"/>
                    </a:lnTo>
                    <a:lnTo>
                      <a:pt x="4345" y="247"/>
                    </a:lnTo>
                    <a:lnTo>
                      <a:pt x="4476" y="302"/>
                    </a:lnTo>
                    <a:lnTo>
                      <a:pt x="4603" y="362"/>
                    </a:lnTo>
                    <a:lnTo>
                      <a:pt x="4726" y="427"/>
                    </a:lnTo>
                    <a:lnTo>
                      <a:pt x="4807" y="475"/>
                    </a:lnTo>
                    <a:lnTo>
                      <a:pt x="4773" y="533"/>
                    </a:lnTo>
                    <a:close/>
                    <a:moveTo>
                      <a:pt x="4112" y="235"/>
                    </a:moveTo>
                    <a:lnTo>
                      <a:pt x="4052" y="215"/>
                    </a:lnTo>
                    <a:lnTo>
                      <a:pt x="3914" y="177"/>
                    </a:lnTo>
                    <a:lnTo>
                      <a:pt x="3773" y="144"/>
                    </a:lnTo>
                    <a:lnTo>
                      <a:pt x="3629" y="116"/>
                    </a:lnTo>
                    <a:lnTo>
                      <a:pt x="3599" y="111"/>
                    </a:lnTo>
                    <a:lnTo>
                      <a:pt x="3610" y="46"/>
                    </a:lnTo>
                    <a:lnTo>
                      <a:pt x="3642" y="51"/>
                    </a:lnTo>
                    <a:lnTo>
                      <a:pt x="3788" y="79"/>
                    </a:lnTo>
                    <a:lnTo>
                      <a:pt x="3932" y="112"/>
                    </a:lnTo>
                    <a:lnTo>
                      <a:pt x="4073" y="152"/>
                    </a:lnTo>
                    <a:lnTo>
                      <a:pt x="4133" y="171"/>
                    </a:lnTo>
                    <a:lnTo>
                      <a:pt x="4112" y="235"/>
                    </a:lnTo>
                    <a:close/>
                    <a:moveTo>
                      <a:pt x="3403" y="86"/>
                    </a:moveTo>
                    <a:lnTo>
                      <a:pt x="3334" y="79"/>
                    </a:lnTo>
                    <a:lnTo>
                      <a:pt x="3259" y="73"/>
                    </a:lnTo>
                    <a:lnTo>
                      <a:pt x="3183" y="70"/>
                    </a:lnTo>
                    <a:lnTo>
                      <a:pt x="3107" y="67"/>
                    </a:lnTo>
                    <a:lnTo>
                      <a:pt x="3030" y="66"/>
                    </a:lnTo>
                    <a:lnTo>
                      <a:pt x="3031" y="0"/>
                    </a:lnTo>
                    <a:lnTo>
                      <a:pt x="3109" y="1"/>
                    </a:lnTo>
                    <a:lnTo>
                      <a:pt x="3187" y="3"/>
                    </a:lnTo>
                    <a:lnTo>
                      <a:pt x="3264" y="7"/>
                    </a:lnTo>
                    <a:lnTo>
                      <a:pt x="3341" y="13"/>
                    </a:lnTo>
                    <a:lnTo>
                      <a:pt x="3410" y="19"/>
                    </a:lnTo>
                    <a:lnTo>
                      <a:pt x="3403" y="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99680" y="3117960"/>
                <a:ext cx="21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a:t>
                </a:r>
                <a:endParaRPr b="0" lang="en-US" sz="800" spc="-1" strike="noStrike">
                  <a:solidFill>
                    <a:srgbClr val="000000"/>
                  </a:solidFill>
                  <a:latin typeface="Times New Roman"/>
                </a:endParaRPr>
              </a:p>
            </p:txBody>
          </p:sp>
          <p:sp>
            <p:nvSpPr>
              <p:cNvPr id="519" name=""/>
              <p:cNvSpPr/>
              <p:nvPr/>
            </p:nvSpPr>
            <p:spPr>
              <a:xfrm>
                <a:off x="1527120" y="3903840"/>
                <a:ext cx="1435320" cy="625320"/>
              </a:xfrm>
              <a:custGeom>
                <a:avLst/>
                <a:gdLst/>
                <a:ahLst/>
                <a:rect l="l" t="t" r="r" b="b"/>
                <a:pathLst>
                  <a:path w="904" h="394">
                    <a:moveTo>
                      <a:pt x="475" y="6"/>
                    </a:moveTo>
                    <a:lnTo>
                      <a:pt x="452" y="6"/>
                    </a:lnTo>
                    <a:lnTo>
                      <a:pt x="429" y="6"/>
                    </a:lnTo>
                    <a:lnTo>
                      <a:pt x="426" y="6"/>
                    </a:lnTo>
                    <a:lnTo>
                      <a:pt x="425" y="0"/>
                    </a:lnTo>
                    <a:lnTo>
                      <a:pt x="429" y="0"/>
                    </a:lnTo>
                    <a:lnTo>
                      <a:pt x="452" y="0"/>
                    </a:lnTo>
                    <a:lnTo>
                      <a:pt x="475" y="0"/>
                    </a:lnTo>
                    <a:lnTo>
                      <a:pt x="475" y="6"/>
                    </a:lnTo>
                    <a:close/>
                    <a:moveTo>
                      <a:pt x="407" y="7"/>
                    </a:moveTo>
                    <a:lnTo>
                      <a:pt x="406" y="7"/>
                    </a:lnTo>
                    <a:lnTo>
                      <a:pt x="384" y="8"/>
                    </a:lnTo>
                    <a:lnTo>
                      <a:pt x="362" y="10"/>
                    </a:lnTo>
                    <a:lnTo>
                      <a:pt x="357" y="10"/>
                    </a:lnTo>
                    <a:lnTo>
                      <a:pt x="357" y="4"/>
                    </a:lnTo>
                    <a:lnTo>
                      <a:pt x="362" y="3"/>
                    </a:lnTo>
                    <a:lnTo>
                      <a:pt x="384" y="2"/>
                    </a:lnTo>
                    <a:lnTo>
                      <a:pt x="406" y="1"/>
                    </a:lnTo>
                    <a:lnTo>
                      <a:pt x="407" y="1"/>
                    </a:lnTo>
                    <a:lnTo>
                      <a:pt x="407" y="7"/>
                    </a:lnTo>
                    <a:close/>
                    <a:moveTo>
                      <a:pt x="339" y="12"/>
                    </a:moveTo>
                    <a:lnTo>
                      <a:pt x="319" y="15"/>
                    </a:lnTo>
                    <a:lnTo>
                      <a:pt x="298" y="18"/>
                    </a:lnTo>
                    <a:lnTo>
                      <a:pt x="290" y="19"/>
                    </a:lnTo>
                    <a:lnTo>
                      <a:pt x="289" y="13"/>
                    </a:lnTo>
                    <a:lnTo>
                      <a:pt x="298" y="11"/>
                    </a:lnTo>
                    <a:lnTo>
                      <a:pt x="318" y="8"/>
                    </a:lnTo>
                    <a:lnTo>
                      <a:pt x="338" y="6"/>
                    </a:lnTo>
                    <a:lnTo>
                      <a:pt x="339" y="12"/>
                    </a:lnTo>
                    <a:close/>
                    <a:moveTo>
                      <a:pt x="271" y="22"/>
                    </a:moveTo>
                    <a:lnTo>
                      <a:pt x="258" y="25"/>
                    </a:lnTo>
                    <a:lnTo>
                      <a:pt x="239" y="29"/>
                    </a:lnTo>
                    <a:lnTo>
                      <a:pt x="223" y="33"/>
                    </a:lnTo>
                    <a:lnTo>
                      <a:pt x="221" y="27"/>
                    </a:lnTo>
                    <a:lnTo>
                      <a:pt x="238" y="23"/>
                    </a:lnTo>
                    <a:lnTo>
                      <a:pt x="257" y="19"/>
                    </a:lnTo>
                    <a:lnTo>
                      <a:pt x="270" y="16"/>
                    </a:lnTo>
                    <a:lnTo>
                      <a:pt x="271" y="22"/>
                    </a:lnTo>
                    <a:close/>
                    <a:moveTo>
                      <a:pt x="205" y="38"/>
                    </a:moveTo>
                    <a:lnTo>
                      <a:pt x="202" y="39"/>
                    </a:lnTo>
                    <a:lnTo>
                      <a:pt x="185" y="44"/>
                    </a:lnTo>
                    <a:lnTo>
                      <a:pt x="168" y="50"/>
                    </a:lnTo>
                    <a:lnTo>
                      <a:pt x="158" y="54"/>
                    </a:lnTo>
                    <a:lnTo>
                      <a:pt x="156" y="48"/>
                    </a:lnTo>
                    <a:lnTo>
                      <a:pt x="166" y="44"/>
                    </a:lnTo>
                    <a:lnTo>
                      <a:pt x="183" y="38"/>
                    </a:lnTo>
                    <a:lnTo>
                      <a:pt x="201" y="33"/>
                    </a:lnTo>
                    <a:lnTo>
                      <a:pt x="203" y="32"/>
                    </a:lnTo>
                    <a:lnTo>
                      <a:pt x="205" y="38"/>
                    </a:lnTo>
                    <a:close/>
                    <a:moveTo>
                      <a:pt x="141" y="61"/>
                    </a:moveTo>
                    <a:lnTo>
                      <a:pt x="136" y="62"/>
                    </a:lnTo>
                    <a:lnTo>
                      <a:pt x="121" y="69"/>
                    </a:lnTo>
                    <a:lnTo>
                      <a:pt x="107" y="76"/>
                    </a:lnTo>
                    <a:lnTo>
                      <a:pt x="96" y="82"/>
                    </a:lnTo>
                    <a:lnTo>
                      <a:pt x="93" y="77"/>
                    </a:lnTo>
                    <a:lnTo>
                      <a:pt x="105" y="71"/>
                    </a:lnTo>
                    <a:lnTo>
                      <a:pt x="119" y="63"/>
                    </a:lnTo>
                    <a:lnTo>
                      <a:pt x="134" y="57"/>
                    </a:lnTo>
                    <a:lnTo>
                      <a:pt x="138" y="55"/>
                    </a:lnTo>
                    <a:lnTo>
                      <a:pt x="141" y="61"/>
                    </a:lnTo>
                    <a:close/>
                    <a:moveTo>
                      <a:pt x="80" y="92"/>
                    </a:moveTo>
                    <a:lnTo>
                      <a:pt x="70" y="99"/>
                    </a:lnTo>
                    <a:lnTo>
                      <a:pt x="60" y="107"/>
                    </a:lnTo>
                    <a:lnTo>
                      <a:pt x="50" y="115"/>
                    </a:lnTo>
                    <a:lnTo>
                      <a:pt x="42" y="123"/>
                    </a:lnTo>
                    <a:lnTo>
                      <a:pt x="38" y="118"/>
                    </a:lnTo>
                    <a:lnTo>
                      <a:pt x="46" y="110"/>
                    </a:lnTo>
                    <a:lnTo>
                      <a:pt x="56" y="102"/>
                    </a:lnTo>
                    <a:lnTo>
                      <a:pt x="67" y="94"/>
                    </a:lnTo>
                    <a:lnTo>
                      <a:pt x="77" y="87"/>
                    </a:lnTo>
                    <a:lnTo>
                      <a:pt x="80" y="92"/>
                    </a:lnTo>
                    <a:close/>
                    <a:moveTo>
                      <a:pt x="30" y="136"/>
                    </a:moveTo>
                    <a:lnTo>
                      <a:pt x="26" y="141"/>
                    </a:lnTo>
                    <a:lnTo>
                      <a:pt x="20" y="150"/>
                    </a:lnTo>
                    <a:lnTo>
                      <a:pt x="15" y="159"/>
                    </a:lnTo>
                    <a:lnTo>
                      <a:pt x="12" y="168"/>
                    </a:lnTo>
                    <a:lnTo>
                      <a:pt x="9" y="178"/>
                    </a:lnTo>
                    <a:lnTo>
                      <a:pt x="9" y="179"/>
                    </a:lnTo>
                    <a:lnTo>
                      <a:pt x="3" y="178"/>
                    </a:lnTo>
                    <a:lnTo>
                      <a:pt x="3" y="176"/>
                    </a:lnTo>
                    <a:lnTo>
                      <a:pt x="6" y="166"/>
                    </a:lnTo>
                    <a:lnTo>
                      <a:pt x="10" y="156"/>
                    </a:lnTo>
                    <a:lnTo>
                      <a:pt x="15" y="147"/>
                    </a:lnTo>
                    <a:lnTo>
                      <a:pt x="21" y="137"/>
                    </a:lnTo>
                    <a:lnTo>
                      <a:pt x="25" y="132"/>
                    </a:lnTo>
                    <a:lnTo>
                      <a:pt x="30" y="136"/>
                    </a:lnTo>
                    <a:close/>
                    <a:moveTo>
                      <a:pt x="7" y="197"/>
                    </a:moveTo>
                    <a:lnTo>
                      <a:pt x="7" y="206"/>
                    </a:lnTo>
                    <a:lnTo>
                      <a:pt x="9" y="216"/>
                    </a:lnTo>
                    <a:lnTo>
                      <a:pt x="12" y="225"/>
                    </a:lnTo>
                    <a:lnTo>
                      <a:pt x="16" y="235"/>
                    </a:lnTo>
                    <a:lnTo>
                      <a:pt x="20" y="243"/>
                    </a:lnTo>
                    <a:lnTo>
                      <a:pt x="15" y="246"/>
                    </a:lnTo>
                    <a:lnTo>
                      <a:pt x="10" y="237"/>
                    </a:lnTo>
                    <a:lnTo>
                      <a:pt x="6" y="227"/>
                    </a:lnTo>
                    <a:lnTo>
                      <a:pt x="3" y="217"/>
                    </a:lnTo>
                    <a:lnTo>
                      <a:pt x="1" y="207"/>
                    </a:lnTo>
                    <a:lnTo>
                      <a:pt x="0" y="197"/>
                    </a:lnTo>
                    <a:lnTo>
                      <a:pt x="7" y="197"/>
                    </a:lnTo>
                    <a:close/>
                    <a:moveTo>
                      <a:pt x="30" y="258"/>
                    </a:moveTo>
                    <a:lnTo>
                      <a:pt x="33" y="261"/>
                    </a:lnTo>
                    <a:lnTo>
                      <a:pt x="41" y="270"/>
                    </a:lnTo>
                    <a:lnTo>
                      <a:pt x="50" y="279"/>
                    </a:lnTo>
                    <a:lnTo>
                      <a:pt x="60" y="287"/>
                    </a:lnTo>
                    <a:lnTo>
                      <a:pt x="66" y="292"/>
                    </a:lnTo>
                    <a:lnTo>
                      <a:pt x="62" y="296"/>
                    </a:lnTo>
                    <a:lnTo>
                      <a:pt x="56" y="292"/>
                    </a:lnTo>
                    <a:lnTo>
                      <a:pt x="46" y="283"/>
                    </a:lnTo>
                    <a:lnTo>
                      <a:pt x="37" y="274"/>
                    </a:lnTo>
                    <a:lnTo>
                      <a:pt x="28" y="265"/>
                    </a:lnTo>
                    <a:lnTo>
                      <a:pt x="26" y="262"/>
                    </a:lnTo>
                    <a:lnTo>
                      <a:pt x="30" y="258"/>
                    </a:lnTo>
                    <a:close/>
                    <a:moveTo>
                      <a:pt x="81" y="302"/>
                    </a:moveTo>
                    <a:lnTo>
                      <a:pt x="82" y="303"/>
                    </a:lnTo>
                    <a:lnTo>
                      <a:pt x="94" y="310"/>
                    </a:lnTo>
                    <a:lnTo>
                      <a:pt x="108" y="317"/>
                    </a:lnTo>
                    <a:lnTo>
                      <a:pt x="122" y="324"/>
                    </a:lnTo>
                    <a:lnTo>
                      <a:pt x="125" y="326"/>
                    </a:lnTo>
                    <a:lnTo>
                      <a:pt x="122" y="331"/>
                    </a:lnTo>
                    <a:lnTo>
                      <a:pt x="119" y="330"/>
                    </a:lnTo>
                    <a:lnTo>
                      <a:pt x="105" y="323"/>
                    </a:lnTo>
                    <a:lnTo>
                      <a:pt x="91" y="315"/>
                    </a:lnTo>
                    <a:lnTo>
                      <a:pt x="78" y="308"/>
                    </a:lnTo>
                    <a:lnTo>
                      <a:pt x="78" y="307"/>
                    </a:lnTo>
                    <a:lnTo>
                      <a:pt x="81" y="302"/>
                    </a:lnTo>
                    <a:close/>
                    <a:moveTo>
                      <a:pt x="142" y="333"/>
                    </a:moveTo>
                    <a:lnTo>
                      <a:pt x="152" y="337"/>
                    </a:lnTo>
                    <a:lnTo>
                      <a:pt x="168" y="344"/>
                    </a:lnTo>
                    <a:lnTo>
                      <a:pt x="185" y="349"/>
                    </a:lnTo>
                    <a:lnTo>
                      <a:pt x="188" y="350"/>
                    </a:lnTo>
                    <a:lnTo>
                      <a:pt x="186" y="356"/>
                    </a:lnTo>
                    <a:lnTo>
                      <a:pt x="183" y="355"/>
                    </a:lnTo>
                    <a:lnTo>
                      <a:pt x="166" y="349"/>
                    </a:lnTo>
                    <a:lnTo>
                      <a:pt x="149" y="343"/>
                    </a:lnTo>
                    <a:lnTo>
                      <a:pt x="139" y="339"/>
                    </a:lnTo>
                    <a:lnTo>
                      <a:pt x="142" y="333"/>
                    </a:lnTo>
                    <a:close/>
                    <a:moveTo>
                      <a:pt x="206" y="356"/>
                    </a:moveTo>
                    <a:lnTo>
                      <a:pt x="220" y="360"/>
                    </a:lnTo>
                    <a:lnTo>
                      <a:pt x="239" y="364"/>
                    </a:lnTo>
                    <a:lnTo>
                      <a:pt x="254" y="368"/>
                    </a:lnTo>
                    <a:lnTo>
                      <a:pt x="253" y="374"/>
                    </a:lnTo>
                    <a:lnTo>
                      <a:pt x="238" y="370"/>
                    </a:lnTo>
                    <a:lnTo>
                      <a:pt x="219" y="366"/>
                    </a:lnTo>
                    <a:lnTo>
                      <a:pt x="204" y="362"/>
                    </a:lnTo>
                    <a:lnTo>
                      <a:pt x="206" y="356"/>
                    </a:lnTo>
                    <a:close/>
                    <a:moveTo>
                      <a:pt x="272" y="371"/>
                    </a:moveTo>
                    <a:lnTo>
                      <a:pt x="278" y="372"/>
                    </a:lnTo>
                    <a:lnTo>
                      <a:pt x="299" y="376"/>
                    </a:lnTo>
                    <a:lnTo>
                      <a:pt x="319" y="379"/>
                    </a:lnTo>
                    <a:lnTo>
                      <a:pt x="321" y="379"/>
                    </a:lnTo>
                    <a:lnTo>
                      <a:pt x="321" y="385"/>
                    </a:lnTo>
                    <a:lnTo>
                      <a:pt x="318" y="385"/>
                    </a:lnTo>
                    <a:lnTo>
                      <a:pt x="297" y="382"/>
                    </a:lnTo>
                    <a:lnTo>
                      <a:pt x="277" y="378"/>
                    </a:lnTo>
                    <a:lnTo>
                      <a:pt x="271" y="377"/>
                    </a:lnTo>
                    <a:lnTo>
                      <a:pt x="272" y="371"/>
                    </a:lnTo>
                    <a:close/>
                    <a:moveTo>
                      <a:pt x="340" y="381"/>
                    </a:moveTo>
                    <a:lnTo>
                      <a:pt x="340" y="381"/>
                    </a:lnTo>
                    <a:lnTo>
                      <a:pt x="362" y="384"/>
                    </a:lnTo>
                    <a:lnTo>
                      <a:pt x="384" y="385"/>
                    </a:lnTo>
                    <a:lnTo>
                      <a:pt x="389" y="386"/>
                    </a:lnTo>
                    <a:lnTo>
                      <a:pt x="389" y="392"/>
                    </a:lnTo>
                    <a:lnTo>
                      <a:pt x="384" y="392"/>
                    </a:lnTo>
                    <a:lnTo>
                      <a:pt x="362" y="390"/>
                    </a:lnTo>
                    <a:lnTo>
                      <a:pt x="340" y="388"/>
                    </a:lnTo>
                    <a:lnTo>
                      <a:pt x="339" y="388"/>
                    </a:lnTo>
                    <a:lnTo>
                      <a:pt x="340" y="381"/>
                    </a:lnTo>
                    <a:close/>
                    <a:moveTo>
                      <a:pt x="408" y="387"/>
                    </a:moveTo>
                    <a:lnTo>
                      <a:pt x="429" y="387"/>
                    </a:lnTo>
                    <a:lnTo>
                      <a:pt x="452" y="388"/>
                    </a:lnTo>
                    <a:lnTo>
                      <a:pt x="458" y="387"/>
                    </a:lnTo>
                    <a:lnTo>
                      <a:pt x="458" y="394"/>
                    </a:lnTo>
                    <a:lnTo>
                      <a:pt x="452" y="394"/>
                    </a:lnTo>
                    <a:lnTo>
                      <a:pt x="429" y="394"/>
                    </a:lnTo>
                    <a:lnTo>
                      <a:pt x="408" y="393"/>
                    </a:lnTo>
                    <a:lnTo>
                      <a:pt x="408" y="387"/>
                    </a:lnTo>
                    <a:close/>
                    <a:moveTo>
                      <a:pt x="476" y="387"/>
                    </a:moveTo>
                    <a:lnTo>
                      <a:pt x="498" y="387"/>
                    </a:lnTo>
                    <a:lnTo>
                      <a:pt x="520" y="385"/>
                    </a:lnTo>
                    <a:lnTo>
                      <a:pt x="526" y="385"/>
                    </a:lnTo>
                    <a:lnTo>
                      <a:pt x="526" y="391"/>
                    </a:lnTo>
                    <a:lnTo>
                      <a:pt x="521" y="392"/>
                    </a:lnTo>
                    <a:lnTo>
                      <a:pt x="498" y="393"/>
                    </a:lnTo>
                    <a:lnTo>
                      <a:pt x="477" y="394"/>
                    </a:lnTo>
                    <a:lnTo>
                      <a:pt x="476" y="387"/>
                    </a:lnTo>
                    <a:close/>
                    <a:moveTo>
                      <a:pt x="545" y="383"/>
                    </a:moveTo>
                    <a:lnTo>
                      <a:pt x="564" y="381"/>
                    </a:lnTo>
                    <a:lnTo>
                      <a:pt x="585" y="379"/>
                    </a:lnTo>
                    <a:lnTo>
                      <a:pt x="594" y="378"/>
                    </a:lnTo>
                    <a:lnTo>
                      <a:pt x="595" y="384"/>
                    </a:lnTo>
                    <a:lnTo>
                      <a:pt x="586" y="385"/>
                    </a:lnTo>
                    <a:lnTo>
                      <a:pt x="565" y="388"/>
                    </a:lnTo>
                    <a:lnTo>
                      <a:pt x="545" y="390"/>
                    </a:lnTo>
                    <a:lnTo>
                      <a:pt x="545" y="383"/>
                    </a:lnTo>
                    <a:close/>
                    <a:moveTo>
                      <a:pt x="612" y="375"/>
                    </a:moveTo>
                    <a:lnTo>
                      <a:pt x="626" y="372"/>
                    </a:lnTo>
                    <a:lnTo>
                      <a:pt x="646" y="368"/>
                    </a:lnTo>
                    <a:lnTo>
                      <a:pt x="661" y="365"/>
                    </a:lnTo>
                    <a:lnTo>
                      <a:pt x="662" y="371"/>
                    </a:lnTo>
                    <a:lnTo>
                      <a:pt x="647" y="375"/>
                    </a:lnTo>
                    <a:lnTo>
                      <a:pt x="628" y="378"/>
                    </a:lnTo>
                    <a:lnTo>
                      <a:pt x="613" y="381"/>
                    </a:lnTo>
                    <a:lnTo>
                      <a:pt x="612" y="375"/>
                    </a:lnTo>
                    <a:close/>
                    <a:moveTo>
                      <a:pt x="679" y="361"/>
                    </a:moveTo>
                    <a:lnTo>
                      <a:pt x="684" y="360"/>
                    </a:lnTo>
                    <a:lnTo>
                      <a:pt x="702" y="355"/>
                    </a:lnTo>
                    <a:lnTo>
                      <a:pt x="720" y="349"/>
                    </a:lnTo>
                    <a:lnTo>
                      <a:pt x="727" y="347"/>
                    </a:lnTo>
                    <a:lnTo>
                      <a:pt x="729" y="353"/>
                    </a:lnTo>
                    <a:lnTo>
                      <a:pt x="722" y="355"/>
                    </a:lnTo>
                    <a:lnTo>
                      <a:pt x="704" y="361"/>
                    </a:lnTo>
                    <a:lnTo>
                      <a:pt x="686" y="366"/>
                    </a:lnTo>
                    <a:lnTo>
                      <a:pt x="681" y="367"/>
                    </a:lnTo>
                    <a:lnTo>
                      <a:pt x="679" y="361"/>
                    </a:lnTo>
                    <a:close/>
                    <a:moveTo>
                      <a:pt x="744" y="341"/>
                    </a:moveTo>
                    <a:lnTo>
                      <a:pt x="753" y="337"/>
                    </a:lnTo>
                    <a:lnTo>
                      <a:pt x="768" y="331"/>
                    </a:lnTo>
                    <a:lnTo>
                      <a:pt x="783" y="324"/>
                    </a:lnTo>
                    <a:lnTo>
                      <a:pt x="790" y="321"/>
                    </a:lnTo>
                    <a:lnTo>
                      <a:pt x="793" y="327"/>
                    </a:lnTo>
                    <a:lnTo>
                      <a:pt x="786" y="330"/>
                    </a:lnTo>
                    <a:lnTo>
                      <a:pt x="771" y="337"/>
                    </a:lnTo>
                    <a:lnTo>
                      <a:pt x="755" y="343"/>
                    </a:lnTo>
                    <a:lnTo>
                      <a:pt x="747" y="346"/>
                    </a:lnTo>
                    <a:lnTo>
                      <a:pt x="744" y="341"/>
                    </a:lnTo>
                    <a:close/>
                    <a:moveTo>
                      <a:pt x="806" y="312"/>
                    </a:moveTo>
                    <a:lnTo>
                      <a:pt x="810" y="310"/>
                    </a:lnTo>
                    <a:lnTo>
                      <a:pt x="823" y="302"/>
                    </a:lnTo>
                    <a:lnTo>
                      <a:pt x="834" y="295"/>
                    </a:lnTo>
                    <a:lnTo>
                      <a:pt x="845" y="287"/>
                    </a:lnTo>
                    <a:lnTo>
                      <a:pt x="847" y="285"/>
                    </a:lnTo>
                    <a:lnTo>
                      <a:pt x="851" y="290"/>
                    </a:lnTo>
                    <a:lnTo>
                      <a:pt x="849" y="292"/>
                    </a:lnTo>
                    <a:lnTo>
                      <a:pt x="838" y="300"/>
                    </a:lnTo>
                    <a:lnTo>
                      <a:pt x="826" y="308"/>
                    </a:lnTo>
                    <a:lnTo>
                      <a:pt x="813" y="315"/>
                    </a:lnTo>
                    <a:lnTo>
                      <a:pt x="809" y="318"/>
                    </a:lnTo>
                    <a:lnTo>
                      <a:pt x="806" y="312"/>
                    </a:lnTo>
                    <a:close/>
                    <a:moveTo>
                      <a:pt x="861" y="273"/>
                    </a:moveTo>
                    <a:lnTo>
                      <a:pt x="864" y="270"/>
                    </a:lnTo>
                    <a:lnTo>
                      <a:pt x="872" y="261"/>
                    </a:lnTo>
                    <a:lnTo>
                      <a:pt x="878" y="252"/>
                    </a:lnTo>
                    <a:lnTo>
                      <a:pt x="884" y="243"/>
                    </a:lnTo>
                    <a:lnTo>
                      <a:pt x="889" y="234"/>
                    </a:lnTo>
                    <a:lnTo>
                      <a:pt x="889" y="234"/>
                    </a:lnTo>
                    <a:lnTo>
                      <a:pt x="895" y="236"/>
                    </a:lnTo>
                    <a:lnTo>
                      <a:pt x="895" y="237"/>
                    </a:lnTo>
                    <a:lnTo>
                      <a:pt x="890" y="247"/>
                    </a:lnTo>
                    <a:lnTo>
                      <a:pt x="883" y="256"/>
                    </a:lnTo>
                    <a:lnTo>
                      <a:pt x="876" y="265"/>
                    </a:lnTo>
                    <a:lnTo>
                      <a:pt x="868" y="274"/>
                    </a:lnTo>
                    <a:lnTo>
                      <a:pt x="865" y="277"/>
                    </a:lnTo>
                    <a:lnTo>
                      <a:pt x="861" y="273"/>
                    </a:lnTo>
                    <a:close/>
                    <a:moveTo>
                      <a:pt x="896" y="216"/>
                    </a:moveTo>
                    <a:lnTo>
                      <a:pt x="896" y="216"/>
                    </a:lnTo>
                    <a:lnTo>
                      <a:pt x="897" y="206"/>
                    </a:lnTo>
                    <a:lnTo>
                      <a:pt x="898" y="197"/>
                    </a:lnTo>
                    <a:lnTo>
                      <a:pt x="897" y="187"/>
                    </a:lnTo>
                    <a:lnTo>
                      <a:pt x="896" y="177"/>
                    </a:lnTo>
                    <a:lnTo>
                      <a:pt x="893" y="169"/>
                    </a:lnTo>
                    <a:lnTo>
                      <a:pt x="899" y="167"/>
                    </a:lnTo>
                    <a:lnTo>
                      <a:pt x="902" y="176"/>
                    </a:lnTo>
                    <a:lnTo>
                      <a:pt x="904" y="187"/>
                    </a:lnTo>
                    <a:lnTo>
                      <a:pt x="904" y="197"/>
                    </a:lnTo>
                    <a:lnTo>
                      <a:pt x="904" y="207"/>
                    </a:lnTo>
                    <a:lnTo>
                      <a:pt x="902" y="217"/>
                    </a:lnTo>
                    <a:lnTo>
                      <a:pt x="902" y="218"/>
                    </a:lnTo>
                    <a:lnTo>
                      <a:pt x="896" y="216"/>
                    </a:lnTo>
                    <a:close/>
                    <a:moveTo>
                      <a:pt x="886" y="153"/>
                    </a:moveTo>
                    <a:lnTo>
                      <a:pt x="884" y="150"/>
                    </a:lnTo>
                    <a:lnTo>
                      <a:pt x="878" y="141"/>
                    </a:lnTo>
                    <a:lnTo>
                      <a:pt x="871" y="132"/>
                    </a:lnTo>
                    <a:lnTo>
                      <a:pt x="863" y="123"/>
                    </a:lnTo>
                    <a:lnTo>
                      <a:pt x="855" y="115"/>
                    </a:lnTo>
                    <a:lnTo>
                      <a:pt x="859" y="111"/>
                    </a:lnTo>
                    <a:lnTo>
                      <a:pt x="868" y="119"/>
                    </a:lnTo>
                    <a:lnTo>
                      <a:pt x="876" y="128"/>
                    </a:lnTo>
                    <a:lnTo>
                      <a:pt x="883" y="137"/>
                    </a:lnTo>
                    <a:lnTo>
                      <a:pt x="890" y="147"/>
                    </a:lnTo>
                    <a:lnTo>
                      <a:pt x="891" y="150"/>
                    </a:lnTo>
                    <a:lnTo>
                      <a:pt x="886" y="153"/>
                    </a:lnTo>
                    <a:close/>
                    <a:moveTo>
                      <a:pt x="841" y="103"/>
                    </a:moveTo>
                    <a:lnTo>
                      <a:pt x="834" y="99"/>
                    </a:lnTo>
                    <a:lnTo>
                      <a:pt x="823" y="91"/>
                    </a:lnTo>
                    <a:lnTo>
                      <a:pt x="810" y="83"/>
                    </a:lnTo>
                    <a:lnTo>
                      <a:pt x="799" y="77"/>
                    </a:lnTo>
                    <a:lnTo>
                      <a:pt x="802" y="72"/>
                    </a:lnTo>
                    <a:lnTo>
                      <a:pt x="814" y="78"/>
                    </a:lnTo>
                    <a:lnTo>
                      <a:pt x="826" y="86"/>
                    </a:lnTo>
                    <a:lnTo>
                      <a:pt x="838" y="94"/>
                    </a:lnTo>
                    <a:lnTo>
                      <a:pt x="844" y="98"/>
                    </a:lnTo>
                    <a:lnTo>
                      <a:pt x="841" y="103"/>
                    </a:lnTo>
                    <a:close/>
                    <a:moveTo>
                      <a:pt x="783" y="69"/>
                    </a:moveTo>
                    <a:lnTo>
                      <a:pt x="768" y="62"/>
                    </a:lnTo>
                    <a:lnTo>
                      <a:pt x="753" y="56"/>
                    </a:lnTo>
                    <a:lnTo>
                      <a:pt x="737" y="50"/>
                    </a:lnTo>
                    <a:lnTo>
                      <a:pt x="737" y="50"/>
                    </a:lnTo>
                    <a:lnTo>
                      <a:pt x="739" y="44"/>
                    </a:lnTo>
                    <a:lnTo>
                      <a:pt x="739" y="44"/>
                    </a:lnTo>
                    <a:lnTo>
                      <a:pt x="755" y="50"/>
                    </a:lnTo>
                    <a:lnTo>
                      <a:pt x="771" y="57"/>
                    </a:lnTo>
                    <a:lnTo>
                      <a:pt x="785" y="63"/>
                    </a:lnTo>
                    <a:lnTo>
                      <a:pt x="783" y="69"/>
                    </a:lnTo>
                    <a:close/>
                    <a:moveTo>
                      <a:pt x="719" y="44"/>
                    </a:moveTo>
                    <a:lnTo>
                      <a:pt x="702" y="39"/>
                    </a:lnTo>
                    <a:lnTo>
                      <a:pt x="684" y="34"/>
                    </a:lnTo>
                    <a:lnTo>
                      <a:pt x="671" y="31"/>
                    </a:lnTo>
                    <a:lnTo>
                      <a:pt x="673" y="25"/>
                    </a:lnTo>
                    <a:lnTo>
                      <a:pt x="686" y="28"/>
                    </a:lnTo>
                    <a:lnTo>
                      <a:pt x="704" y="33"/>
                    </a:lnTo>
                    <a:lnTo>
                      <a:pt x="721" y="38"/>
                    </a:lnTo>
                    <a:lnTo>
                      <a:pt x="719" y="44"/>
                    </a:lnTo>
                    <a:close/>
                    <a:moveTo>
                      <a:pt x="653" y="26"/>
                    </a:moveTo>
                    <a:lnTo>
                      <a:pt x="646" y="25"/>
                    </a:lnTo>
                    <a:lnTo>
                      <a:pt x="626" y="21"/>
                    </a:lnTo>
                    <a:lnTo>
                      <a:pt x="606" y="18"/>
                    </a:lnTo>
                    <a:lnTo>
                      <a:pt x="604" y="17"/>
                    </a:lnTo>
                    <a:lnTo>
                      <a:pt x="605" y="11"/>
                    </a:lnTo>
                    <a:lnTo>
                      <a:pt x="607" y="11"/>
                    </a:lnTo>
                    <a:lnTo>
                      <a:pt x="628" y="15"/>
                    </a:lnTo>
                    <a:lnTo>
                      <a:pt x="648" y="19"/>
                    </a:lnTo>
                    <a:lnTo>
                      <a:pt x="654" y="20"/>
                    </a:lnTo>
                    <a:lnTo>
                      <a:pt x="653" y="26"/>
                    </a:lnTo>
                    <a:close/>
                    <a:moveTo>
                      <a:pt x="586" y="15"/>
                    </a:moveTo>
                    <a:lnTo>
                      <a:pt x="585" y="15"/>
                    </a:lnTo>
                    <a:lnTo>
                      <a:pt x="564" y="12"/>
                    </a:lnTo>
                    <a:lnTo>
                      <a:pt x="542" y="10"/>
                    </a:lnTo>
                    <a:lnTo>
                      <a:pt x="536" y="9"/>
                    </a:lnTo>
                    <a:lnTo>
                      <a:pt x="537" y="3"/>
                    </a:lnTo>
                    <a:lnTo>
                      <a:pt x="543" y="4"/>
                    </a:lnTo>
                    <a:lnTo>
                      <a:pt x="565" y="6"/>
                    </a:lnTo>
                    <a:lnTo>
                      <a:pt x="586" y="8"/>
                    </a:lnTo>
                    <a:lnTo>
                      <a:pt x="587" y="8"/>
                    </a:lnTo>
                    <a:lnTo>
                      <a:pt x="586" y="15"/>
                    </a:lnTo>
                    <a:close/>
                    <a:moveTo>
                      <a:pt x="518" y="8"/>
                    </a:moveTo>
                    <a:lnTo>
                      <a:pt x="498" y="7"/>
                    </a:lnTo>
                    <a:lnTo>
                      <a:pt x="475" y="6"/>
                    </a:lnTo>
                    <a:lnTo>
                      <a:pt x="475" y="0"/>
                    </a:lnTo>
                    <a:lnTo>
                      <a:pt x="498" y="1"/>
                    </a:lnTo>
                    <a:lnTo>
                      <a:pt x="518" y="2"/>
                    </a:lnTo>
                    <a:lnTo>
                      <a:pt x="51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93240" y="3772080"/>
                <a:ext cx="720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Privacy Officer</a:t>
                </a:r>
                <a:endParaRPr b="0" lang="en-US" sz="800" spc="-1" strike="noStrike">
                  <a:solidFill>
                    <a:srgbClr val="000000"/>
                  </a:solidFill>
                  <a:latin typeface="Times New Roman"/>
                </a:endParaRPr>
              </a:p>
            </p:txBody>
          </p:sp>
        </p:grpSp>
      </p:grpSp>
      <p:grpSp>
        <p:nvGrpSpPr>
          <p:cNvPr id="521" name=""/>
          <p:cNvGrpSpPr/>
          <p:nvPr/>
        </p:nvGrpSpPr>
        <p:grpSpPr>
          <a:xfrm>
            <a:off x="152280" y="701640"/>
            <a:ext cx="4038480" cy="1187640"/>
            <a:chOff x="152280" y="701640"/>
            <a:chExt cx="4038480" cy="1187640"/>
          </a:xfrm>
        </p:grpSpPr>
        <p:grpSp>
          <p:nvGrpSpPr>
            <p:cNvPr id="522" name=""/>
            <p:cNvGrpSpPr/>
            <p:nvPr/>
          </p:nvGrpSpPr>
          <p:grpSpPr>
            <a:xfrm>
              <a:off x="152280" y="762120"/>
              <a:ext cx="1600200" cy="459000"/>
              <a:chOff x="152280" y="762120"/>
              <a:chExt cx="1600200" cy="459000"/>
            </a:xfrm>
          </p:grpSpPr>
          <p:sp>
            <p:nvSpPr>
              <p:cNvPr id="523" name=""/>
              <p:cNvSpPr/>
              <p:nvPr/>
            </p:nvSpPr>
            <p:spPr>
              <a:xfrm>
                <a:off x="1295280" y="1066680"/>
                <a:ext cx="457200" cy="152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2280" y="762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Hospital Document</a:t>
                </a:r>
                <a:endParaRPr b="0" lang="en-US" sz="1200" spc="-1" strike="noStrike">
                  <a:solidFill>
                    <a:srgbClr val="000000"/>
                  </a:solidFill>
                  <a:latin typeface="Times New Roman"/>
                </a:endParaRPr>
              </a:p>
            </p:txBody>
          </p:sp>
        </p:grpSp>
        <p:grpSp>
          <p:nvGrpSpPr>
            <p:cNvPr id="525" name=""/>
            <p:cNvGrpSpPr/>
            <p:nvPr/>
          </p:nvGrpSpPr>
          <p:grpSpPr>
            <a:xfrm>
              <a:off x="1598760" y="701640"/>
              <a:ext cx="2592000" cy="1187640"/>
              <a:chOff x="1598760" y="701640"/>
              <a:chExt cx="2592000" cy="1187640"/>
            </a:xfrm>
          </p:grpSpPr>
          <p:grpSp>
            <p:nvGrpSpPr>
              <p:cNvPr id="526" name=""/>
              <p:cNvGrpSpPr/>
              <p:nvPr/>
            </p:nvGrpSpPr>
            <p:grpSpPr>
              <a:xfrm>
                <a:off x="1598760" y="701640"/>
                <a:ext cx="2592000" cy="1187640"/>
                <a:chOff x="1598760" y="701640"/>
                <a:chExt cx="2592000" cy="1187640"/>
              </a:xfrm>
            </p:grpSpPr>
            <p:sp>
              <p:nvSpPr>
                <p:cNvPr id="527"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06480" y="776160"/>
                  <a:ext cx="123840" cy="74880"/>
                </a:xfrm>
                <a:custGeom>
                  <a:avLst/>
                  <a:gdLst/>
                  <a:ahLst/>
                  <a:rect l="l" t="t" r="r" b="b"/>
                  <a:pathLst>
                    <a:path w="3000" h="2000">
                      <a:moveTo>
                        <a:pt x="3000" y="0"/>
                      </a:moveTo>
                      <a:cubicBezTo>
                        <a:pt x="3000" y="1106"/>
                        <a:pt x="2106" y="2000"/>
                        <a:pt x="1000" y="2000"/>
                      </a:cubicBezTo>
                      <a:cubicBezTo>
                        <a:pt x="448" y="2000"/>
                        <a:pt x="0" y="1553"/>
                        <a:pt x="0" y="1000"/>
                      </a:cubicBezTo>
                      <a:cubicBezTo>
                        <a:pt x="0" y="448"/>
                        <a:pt x="448" y="0"/>
                        <a:pt x="1000" y="0"/>
                      </a:cubicBezTo>
                    </a:path>
                  </a:pathLst>
                </a:custGeom>
                <a:solidFill>
                  <a:srgbClr val="cdcdcd"/>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1598760" y="1741320"/>
                  <a:ext cx="165240" cy="147960"/>
                </a:xfrm>
                <a:custGeom>
                  <a:avLst/>
                  <a:gdLst/>
                  <a:ahLst/>
                  <a:rect l="l" t="t" r="r" b="b"/>
                  <a:pathLst>
                    <a:path w="2000" h="2000">
                      <a:moveTo>
                        <a:pt x="1000" y="0"/>
                      </a:moveTo>
                      <a:cubicBezTo>
                        <a:pt x="448" y="0"/>
                        <a:pt x="0" y="448"/>
                        <a:pt x="0" y="1000"/>
                      </a:cubicBezTo>
                      <a:cubicBezTo>
                        <a:pt x="0" y="1553"/>
                        <a:pt x="448" y="2000"/>
                        <a:pt x="1000" y="2000"/>
                      </a:cubicBezTo>
                      <a:cubicBezTo>
                        <a:pt x="1553" y="2000"/>
                        <a:pt x="2000" y="1553"/>
                        <a:pt x="2000" y="1000"/>
                      </a:cubicBezTo>
                      <a:lnTo>
                        <a:pt x="1000" y="1000"/>
                      </a:lnTo>
                      <a:cubicBezTo>
                        <a:pt x="1277" y="1000"/>
                        <a:pt x="1500" y="777"/>
                        <a:pt x="1500" y="500"/>
                      </a:cubicBezTo>
                      <a:cubicBezTo>
                        <a:pt x="1500" y="224"/>
                        <a:pt x="1277" y="0"/>
                        <a:pt x="1000"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06480" y="701640"/>
                  <a:ext cx="123840" cy="149400"/>
                </a:xfrm>
                <a:custGeom>
                  <a:avLst/>
                  <a:gdLst/>
                  <a:ahLst/>
                  <a:rect l="l" t="t" r="r" b="b"/>
                  <a:pathLst>
                    <a:path w="3000" h="4000">
                      <a:moveTo>
                        <a:pt x="1000" y="0"/>
                      </a:moveTo>
                      <a:cubicBezTo>
                        <a:pt x="2106" y="0"/>
                        <a:pt x="3000" y="895"/>
                        <a:pt x="3000" y="2000"/>
                      </a:cubicBezTo>
                      <a:cubicBezTo>
                        <a:pt x="3000" y="3106"/>
                        <a:pt x="2106" y="4000"/>
                        <a:pt x="1000" y="4000"/>
                      </a:cubicBezTo>
                      <a:cubicBezTo>
                        <a:pt x="448" y="4000"/>
                        <a:pt x="0" y="3553"/>
                        <a:pt x="0" y="3000"/>
                      </a:cubicBezTo>
                      <a:cubicBezTo>
                        <a:pt x="0" y="2448"/>
                        <a:pt x="448" y="2000"/>
                        <a:pt x="1000" y="2000"/>
                      </a:cubicBezTo>
                      <a:lnTo>
                        <a:pt x="3000" y="200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47520" y="851040"/>
                  <a:ext cx="217800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681920" y="1741320"/>
                  <a:ext cx="81720" cy="147960"/>
                </a:xfrm>
                <a:custGeom>
                  <a:avLst/>
                  <a:gdLst/>
                  <a:ahLst/>
                  <a:rect l="l" t="t" r="r" b="b"/>
                  <a:pathLst>
                    <a:path w="1000" h="2000">
                      <a:moveTo>
                        <a:pt x="0" y="2000"/>
                      </a:moveTo>
                      <a:cubicBezTo>
                        <a:pt x="553" y="2000"/>
                        <a:pt x="1000" y="1553"/>
                        <a:pt x="1000" y="1000"/>
                      </a:cubicBezTo>
                      <a:lnTo>
                        <a:pt x="100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81920" y="1741320"/>
                  <a:ext cx="81720" cy="73080"/>
                </a:xfrm>
                <a:custGeom>
                  <a:avLst/>
                  <a:gdLst/>
                  <a:ahLst/>
                  <a:rect l="l" t="t" r="r" b="b"/>
                  <a:pathLst>
                    <a:path w="1000" h="1000">
                      <a:moveTo>
                        <a:pt x="0" y="0"/>
                      </a:moveTo>
                      <a:cubicBezTo>
                        <a:pt x="277" y="0"/>
                        <a:pt x="500" y="224"/>
                        <a:pt x="500" y="500"/>
                      </a:cubicBezTo>
                      <a:cubicBezTo>
                        <a:pt x="500" y="777"/>
                        <a:pt x="277" y="1000"/>
                        <a:pt x="0" y="1000"/>
                      </a:cubicBezTo>
                      <a:lnTo>
                        <a:pt x="1000" y="100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35" name=""/>
              <p:cNvSpPr/>
              <p:nvPr/>
            </p:nvSpPr>
            <p:spPr>
              <a:xfrm>
                <a:off x="2265120" y="979560"/>
                <a:ext cx="10339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C Policy Document</a:t>
                </a:r>
                <a:endParaRPr b="0" lang="en-US" sz="800" spc="-1" strike="noStrike">
                  <a:solidFill>
                    <a:srgbClr val="000000"/>
                  </a:solidFill>
                  <a:latin typeface="Times New Roman"/>
                </a:endParaRPr>
              </a:p>
            </p:txBody>
          </p:sp>
          <p:sp>
            <p:nvSpPr>
              <p:cNvPr id="536" name=""/>
              <p:cNvSpPr/>
              <p:nvPr/>
            </p:nvSpPr>
            <p:spPr>
              <a:xfrm>
                <a:off x="1856880" y="12193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37" name=""/>
              <p:cNvSpPr/>
              <p:nvPr/>
            </p:nvSpPr>
            <p:spPr>
              <a:xfrm>
                <a:off x="1923120" y="1219320"/>
                <a:ext cx="192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equests for data from data warehouse </a:t>
                </a:r>
                <a:endParaRPr b="0" lang="en-US" sz="800" spc="-1" strike="noStrike">
                  <a:solidFill>
                    <a:srgbClr val="000000"/>
                  </a:solidFill>
                  <a:latin typeface="Times New Roman"/>
                </a:endParaRPr>
              </a:p>
            </p:txBody>
          </p:sp>
          <p:sp>
            <p:nvSpPr>
              <p:cNvPr id="538" name=""/>
              <p:cNvSpPr/>
              <p:nvPr/>
            </p:nvSpPr>
            <p:spPr>
              <a:xfrm>
                <a:off x="1915200" y="1338120"/>
                <a:ext cx="1665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evaluated based on technical </a:t>
                </a:r>
                <a:endParaRPr b="0" lang="en-US" sz="800" spc="-1" strike="noStrike">
                  <a:solidFill>
                    <a:srgbClr val="000000"/>
                  </a:solidFill>
                  <a:latin typeface="Times New Roman"/>
                </a:endParaRPr>
              </a:p>
            </p:txBody>
          </p:sp>
          <p:sp>
            <p:nvSpPr>
              <p:cNvPr id="539" name=""/>
              <p:cNvSpPr/>
              <p:nvPr/>
            </p:nvSpPr>
            <p:spPr>
              <a:xfrm>
                <a:off x="1906920" y="1455840"/>
                <a:ext cx="1663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sibility, data availability, resource </a:t>
                </a:r>
                <a:endParaRPr b="0" lang="en-US" sz="800" spc="-1" strike="noStrike">
                  <a:solidFill>
                    <a:srgbClr val="000000"/>
                  </a:solidFill>
                  <a:latin typeface="Times New Roman"/>
                </a:endParaRPr>
              </a:p>
            </p:txBody>
          </p:sp>
          <p:sp>
            <p:nvSpPr>
              <p:cNvPr id="540" name=""/>
              <p:cNvSpPr/>
              <p:nvPr/>
            </p:nvSpPr>
            <p:spPr>
              <a:xfrm>
                <a:off x="1912320" y="1574640"/>
                <a:ext cx="1960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 and REB approval for research. </a:t>
                </a:r>
                <a:endParaRPr b="0" lang="en-US" sz="800" spc="-1" strike="noStrike">
                  <a:solidFill>
                    <a:srgbClr val="000000"/>
                  </a:solidFill>
                  <a:latin typeface="Times New Roman"/>
                </a:endParaRPr>
              </a:p>
            </p:txBody>
          </p:sp>
          <p:sp>
            <p:nvSpPr>
              <p:cNvPr id="541" name=""/>
              <p:cNvSpPr/>
              <p:nvPr/>
            </p:nvSpPr>
            <p:spPr>
              <a:xfrm>
                <a:off x="1856880" y="1693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42" name=""/>
              <p:cNvSpPr/>
              <p:nvPr/>
            </p:nvSpPr>
            <p:spPr>
              <a:xfrm>
                <a:off x="1887840" y="1693800"/>
                <a:ext cx="36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2</a:t>
                </a:r>
                <a:endParaRPr b="0" lang="en-US" sz="800" spc="-1" strike="noStrike">
                  <a:solidFill>
                    <a:srgbClr val="000000"/>
                  </a:solidFill>
                  <a:latin typeface="Times New Roman"/>
                </a:endParaRPr>
              </a:p>
            </p:txBody>
          </p:sp>
          <p:sp>
            <p:nvSpPr>
              <p:cNvPr id="543" name=""/>
              <p:cNvSpPr/>
              <p:nvPr/>
            </p:nvSpPr>
            <p:spPr>
              <a:xfrm>
                <a:off x="2234520" y="16938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44" name=""/>
          <p:cNvGrpSpPr/>
          <p:nvPr/>
        </p:nvGrpSpPr>
        <p:grpSpPr>
          <a:xfrm>
            <a:off x="5219640" y="612720"/>
            <a:ext cx="3848040" cy="1365480"/>
            <a:chOff x="5219640" y="612720"/>
            <a:chExt cx="3848040" cy="1365480"/>
          </a:xfrm>
        </p:grpSpPr>
        <p:grpSp>
          <p:nvGrpSpPr>
            <p:cNvPr id="545" name=""/>
            <p:cNvGrpSpPr/>
            <p:nvPr/>
          </p:nvGrpSpPr>
          <p:grpSpPr>
            <a:xfrm>
              <a:off x="5219640" y="612720"/>
              <a:ext cx="2790720" cy="1365480"/>
              <a:chOff x="5219640" y="612720"/>
              <a:chExt cx="2790720" cy="1365480"/>
            </a:xfrm>
          </p:grpSpPr>
          <p:sp>
            <p:nvSpPr>
              <p:cNvPr id="546"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432400" y="698400"/>
                <a:ext cx="128520" cy="85680"/>
              </a:xfrm>
              <a:custGeom>
                <a:avLst/>
                <a:gdLst/>
                <a:ahLst/>
                <a:rect l="l" t="t" r="r" b="b"/>
                <a:pathLst>
                  <a:path w="862" h="575">
                    <a:moveTo>
                      <a:pt x="862" y="0"/>
                    </a:moveTo>
                    <a:cubicBezTo>
                      <a:pt x="862" y="318"/>
                      <a:pt x="605" y="575"/>
                      <a:pt x="287" y="575"/>
                    </a:cubicBezTo>
                    <a:cubicBezTo>
                      <a:pt x="129" y="575"/>
                      <a:pt x="0" y="447"/>
                      <a:pt x="0" y="288"/>
                    </a:cubicBezTo>
                    <a:cubicBezTo>
                      <a:pt x="0" y="129"/>
                      <a:pt x="129" y="0"/>
                      <a:pt x="287" y="0"/>
                    </a:cubicBezTo>
                  </a:path>
                </a:pathLst>
              </a:custGeom>
              <a:solidFill>
                <a:srgbClr val="cdcdcd"/>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219640" y="1808280"/>
                <a:ext cx="169920" cy="169920"/>
              </a:xfrm>
              <a:custGeom>
                <a:avLst/>
                <a:gdLst/>
                <a:ahLst/>
                <a:rect l="l" t="t" r="r" b="b"/>
                <a:pathLst>
                  <a:path w="1150" h="1150">
                    <a:moveTo>
                      <a:pt x="575" y="0"/>
                    </a:moveTo>
                    <a:cubicBezTo>
                      <a:pt x="258" y="0"/>
                      <a:pt x="0" y="258"/>
                      <a:pt x="0" y="575"/>
                    </a:cubicBezTo>
                    <a:cubicBezTo>
                      <a:pt x="0" y="893"/>
                      <a:pt x="258" y="1150"/>
                      <a:pt x="575" y="1150"/>
                    </a:cubicBezTo>
                    <a:cubicBezTo>
                      <a:pt x="893" y="1150"/>
                      <a:pt x="1150" y="893"/>
                      <a:pt x="1150" y="575"/>
                    </a:cubicBezTo>
                    <a:lnTo>
                      <a:pt x="575" y="575"/>
                    </a:lnTo>
                    <a:cubicBezTo>
                      <a:pt x="734" y="575"/>
                      <a:pt x="863" y="447"/>
                      <a:pt x="863" y="288"/>
                    </a:cubicBezTo>
                    <a:cubicBezTo>
                      <a:pt x="863" y="129"/>
                      <a:pt x="734" y="0"/>
                      <a:pt x="575"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432400" y="612720"/>
                <a:ext cx="128520" cy="171360"/>
              </a:xfrm>
              <a:custGeom>
                <a:avLst/>
                <a:gdLst/>
                <a:ahLst/>
                <a:rect l="l" t="t" r="r" b="b"/>
                <a:pathLst>
                  <a:path w="862" h="1150">
                    <a:moveTo>
                      <a:pt x="287" y="0"/>
                    </a:moveTo>
                    <a:cubicBezTo>
                      <a:pt x="605" y="0"/>
                      <a:pt x="862" y="258"/>
                      <a:pt x="862" y="575"/>
                    </a:cubicBezTo>
                    <a:cubicBezTo>
                      <a:pt x="862" y="893"/>
                      <a:pt x="605" y="1150"/>
                      <a:pt x="287" y="1150"/>
                    </a:cubicBezTo>
                    <a:cubicBezTo>
                      <a:pt x="129" y="1150"/>
                      <a:pt x="0" y="1022"/>
                      <a:pt x="0" y="863"/>
                    </a:cubicBezTo>
                    <a:cubicBezTo>
                      <a:pt x="0" y="704"/>
                      <a:pt x="129" y="575"/>
                      <a:pt x="287" y="575"/>
                    </a:cubicBezTo>
                    <a:lnTo>
                      <a:pt x="862" y="575"/>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75240" y="784080"/>
                <a:ext cx="23637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05320" y="1808280"/>
                <a:ext cx="84240" cy="169920"/>
              </a:xfrm>
              <a:custGeom>
                <a:avLst/>
                <a:gdLst/>
                <a:ahLst/>
                <a:rect l="l" t="t" r="r" b="b"/>
                <a:pathLst>
                  <a:path w="575" h="1150">
                    <a:moveTo>
                      <a:pt x="0" y="1150"/>
                    </a:moveTo>
                    <a:cubicBezTo>
                      <a:pt x="318" y="1150"/>
                      <a:pt x="575" y="893"/>
                      <a:pt x="575" y="575"/>
                    </a:cubicBezTo>
                    <a:lnTo>
                      <a:pt x="5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05320" y="1808280"/>
                <a:ext cx="84240" cy="83880"/>
              </a:xfrm>
              <a:custGeom>
                <a:avLst/>
                <a:gdLst/>
                <a:ahLst/>
                <a:rect l="l" t="t" r="r" b="b"/>
                <a:pathLst>
                  <a:path w="575" h="575">
                    <a:moveTo>
                      <a:pt x="0" y="0"/>
                    </a:moveTo>
                    <a:cubicBezTo>
                      <a:pt x="159" y="0"/>
                      <a:pt x="288" y="129"/>
                      <a:pt x="288" y="288"/>
                    </a:cubicBezTo>
                    <a:cubicBezTo>
                      <a:pt x="288" y="447"/>
                      <a:pt x="159" y="575"/>
                      <a:pt x="0" y="575"/>
                    </a:cubicBezTo>
                    <a:lnTo>
                      <a:pt x="575" y="575"/>
                    </a:lnTo>
                  </a:path>
                </a:pathLst>
              </a:custGeom>
              <a:noFill/>
              <a:ln cap="rnd" w="79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54" name=""/>
            <p:cNvGrpSpPr/>
            <p:nvPr/>
          </p:nvGrpSpPr>
          <p:grpSpPr>
            <a:xfrm>
              <a:off x="5500080" y="685800"/>
              <a:ext cx="3567600" cy="1196640"/>
              <a:chOff x="5500080" y="685800"/>
              <a:chExt cx="3567600" cy="1196640"/>
            </a:xfrm>
          </p:grpSpPr>
          <p:grpSp>
            <p:nvGrpSpPr>
              <p:cNvPr id="555" name=""/>
              <p:cNvGrpSpPr/>
              <p:nvPr/>
            </p:nvGrpSpPr>
            <p:grpSpPr>
              <a:xfrm>
                <a:off x="7924680" y="685800"/>
                <a:ext cx="1143000" cy="838080"/>
                <a:chOff x="7924680" y="685800"/>
                <a:chExt cx="1143000" cy="838080"/>
              </a:xfrm>
            </p:grpSpPr>
            <p:sp>
              <p:nvSpPr>
                <p:cNvPr id="556" name=""/>
                <p:cNvSpPr/>
                <p:nvPr/>
              </p:nvSpPr>
              <p:spPr>
                <a:xfrm flipH="1">
                  <a:off x="7924680" y="11430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77320" y="68580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PHIPA Document</a:t>
                  </a:r>
                  <a:endParaRPr b="0" lang="en-US" sz="1200" spc="-1" strike="noStrike">
                    <a:solidFill>
                      <a:srgbClr val="000000"/>
                    </a:solidFill>
                    <a:latin typeface="Times New Roman"/>
                  </a:endParaRPr>
                </a:p>
              </p:txBody>
            </p:sp>
          </p:grpSp>
          <p:sp>
            <p:nvSpPr>
              <p:cNvPr id="558" name=""/>
              <p:cNvSpPr/>
              <p:nvPr/>
            </p:nvSpPr>
            <p:spPr>
              <a:xfrm>
                <a:off x="6264000" y="808200"/>
                <a:ext cx="840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IPA Document</a:t>
                </a:r>
                <a:endParaRPr b="0" lang="en-US" sz="800" spc="-1" strike="noStrike">
                  <a:solidFill>
                    <a:srgbClr val="000000"/>
                  </a:solidFill>
                  <a:latin typeface="Times New Roman"/>
                </a:endParaRPr>
              </a:p>
            </p:txBody>
          </p:sp>
          <p:sp>
            <p:nvSpPr>
              <p:cNvPr id="559" name=""/>
              <p:cNvSpPr/>
              <p:nvPr/>
            </p:nvSpPr>
            <p:spPr>
              <a:xfrm>
                <a:off x="5500440" y="928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0" name=""/>
              <p:cNvSpPr/>
              <p:nvPr/>
            </p:nvSpPr>
            <p:spPr>
              <a:xfrm>
                <a:off x="5532120" y="928800"/>
                <a:ext cx="2393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C: Person or organization who has custody of PHI.</a:t>
                </a:r>
                <a:endParaRPr b="0" lang="en-US" sz="800" spc="-1" strike="noStrike">
                  <a:solidFill>
                    <a:srgbClr val="000000"/>
                  </a:solidFill>
                  <a:latin typeface="Times New Roman"/>
                </a:endParaRPr>
              </a:p>
            </p:txBody>
          </p:sp>
          <p:sp>
            <p:nvSpPr>
              <p:cNvPr id="561" name=""/>
              <p:cNvSpPr/>
              <p:nvPr/>
            </p:nvSpPr>
            <p:spPr>
              <a:xfrm>
                <a:off x="5500440" y="10476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2" name=""/>
              <p:cNvSpPr/>
              <p:nvPr/>
            </p:nvSpPr>
            <p:spPr>
              <a:xfrm>
                <a:off x="5559480" y="1047600"/>
                <a:ext cx="2254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C may disclose PHI to a researcher if he/she,</a:t>
                </a:r>
                <a:endParaRPr b="0" lang="en-US" sz="800" spc="-1" strike="noStrike">
                  <a:solidFill>
                    <a:srgbClr val="000000"/>
                  </a:solidFill>
                  <a:latin typeface="Times New Roman"/>
                </a:endParaRPr>
              </a:p>
            </p:txBody>
          </p:sp>
          <p:sp>
            <p:nvSpPr>
              <p:cNvPr id="563" name=""/>
              <p:cNvSpPr/>
              <p:nvPr/>
            </p:nvSpPr>
            <p:spPr>
              <a:xfrm>
                <a:off x="5584680" y="1166760"/>
                <a:ext cx="535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mits:</a:t>
                </a:r>
                <a:endParaRPr b="0" lang="en-US" sz="800" spc="-1" strike="noStrike">
                  <a:solidFill>
                    <a:srgbClr val="000000"/>
                  </a:solidFill>
                  <a:latin typeface="Times New Roman"/>
                </a:endParaRPr>
              </a:p>
            </p:txBody>
          </p:sp>
          <p:sp>
            <p:nvSpPr>
              <p:cNvPr id="564" name=""/>
              <p:cNvSpPr/>
              <p:nvPr/>
            </p:nvSpPr>
            <p:spPr>
              <a:xfrm>
                <a:off x="5719680" y="1284120"/>
                <a:ext cx="77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n application,</a:t>
                </a:r>
                <a:endParaRPr b="0" lang="en-US" sz="800" spc="-1" strike="noStrike">
                  <a:solidFill>
                    <a:srgbClr val="000000"/>
                  </a:solidFill>
                  <a:latin typeface="Times New Roman"/>
                </a:endParaRPr>
              </a:p>
            </p:txBody>
          </p:sp>
          <p:sp>
            <p:nvSpPr>
              <p:cNvPr id="565" name=""/>
              <p:cNvSpPr/>
              <p:nvPr/>
            </p:nvSpPr>
            <p:spPr>
              <a:xfrm>
                <a:off x="5719320" y="1403280"/>
                <a:ext cx="9028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 a research plan, </a:t>
                </a:r>
                <a:endParaRPr b="0" lang="en-US" sz="800" spc="-1" strike="noStrike">
                  <a:solidFill>
                    <a:srgbClr val="000000"/>
                  </a:solidFill>
                  <a:latin typeface="Times New Roman"/>
                </a:endParaRPr>
              </a:p>
            </p:txBody>
          </p:sp>
          <p:sp>
            <p:nvSpPr>
              <p:cNvPr id="566" name=""/>
              <p:cNvSpPr/>
              <p:nvPr/>
            </p:nvSpPr>
            <p:spPr>
              <a:xfrm>
                <a:off x="5718240" y="1522440"/>
                <a:ext cx="1268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 a copy of REB approval </a:t>
                </a:r>
                <a:endParaRPr b="0" lang="en-US" sz="800" spc="-1" strike="noStrike">
                  <a:solidFill>
                    <a:srgbClr val="000000"/>
                  </a:solidFill>
                  <a:latin typeface="Times New Roman"/>
                </a:endParaRPr>
              </a:p>
            </p:txBody>
          </p:sp>
          <p:sp>
            <p:nvSpPr>
              <p:cNvPr id="567" name=""/>
              <p:cNvSpPr/>
              <p:nvPr/>
            </p:nvSpPr>
            <p:spPr>
              <a:xfrm>
                <a:off x="5559480" y="1641600"/>
                <a:ext cx="1315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enters into the agreement</a:t>
                </a:r>
                <a:endParaRPr b="0" lang="en-US" sz="800" spc="-1" strike="noStrike">
                  <a:solidFill>
                    <a:srgbClr val="000000"/>
                  </a:solidFill>
                  <a:latin typeface="Times New Roman"/>
                </a:endParaRPr>
              </a:p>
            </p:txBody>
          </p:sp>
          <p:sp>
            <p:nvSpPr>
              <p:cNvPr id="568" name=""/>
              <p:cNvSpPr/>
              <p:nvPr/>
            </p:nvSpPr>
            <p:spPr>
              <a:xfrm>
                <a:off x="5500080" y="17604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69" name=""/>
          <p:cNvGrpSpPr/>
          <p:nvPr/>
        </p:nvGrpSpPr>
        <p:grpSpPr>
          <a:xfrm>
            <a:off x="4871880" y="955800"/>
            <a:ext cx="3086280" cy="3255840"/>
            <a:chOff x="4871880" y="955800"/>
            <a:chExt cx="3086280" cy="3255840"/>
          </a:xfrm>
        </p:grpSpPr>
        <p:sp>
          <p:nvSpPr>
            <p:cNvPr id="570" name=""/>
            <p:cNvSpPr/>
            <p:nvPr/>
          </p:nvSpPr>
          <p:spPr>
            <a:xfrm>
              <a:off x="5033880" y="1704960"/>
              <a:ext cx="490680" cy="2506680"/>
            </a:xfrm>
            <a:custGeom>
              <a:avLst/>
              <a:gdLst/>
              <a:ahLst/>
              <a:rect l="l" t="t" r="r" b="b"/>
              <a:pathLst>
                <a:path w="3300" h="16891">
                  <a:moveTo>
                    <a:pt x="1525" y="16875"/>
                  </a:moveTo>
                  <a:lnTo>
                    <a:pt x="1525" y="16875"/>
                  </a:lnTo>
                  <a:cubicBezTo>
                    <a:pt x="1498" y="16875"/>
                    <a:pt x="1475" y="16852"/>
                    <a:pt x="1475" y="16825"/>
                  </a:cubicBezTo>
                  <a:cubicBezTo>
                    <a:pt x="1475" y="16797"/>
                    <a:pt x="1498" y="16775"/>
                    <a:pt x="1525" y="16775"/>
                  </a:cubicBezTo>
                  <a:lnTo>
                    <a:pt x="1525" y="16775"/>
                  </a:lnTo>
                  <a:cubicBezTo>
                    <a:pt x="1553" y="16775"/>
                    <a:pt x="1575" y="16797"/>
                    <a:pt x="1575" y="16825"/>
                  </a:cubicBezTo>
                  <a:cubicBezTo>
                    <a:pt x="1575" y="16852"/>
                    <a:pt x="1553" y="16875"/>
                    <a:pt x="1525" y="16875"/>
                  </a:cubicBezTo>
                  <a:close/>
                  <a:moveTo>
                    <a:pt x="1325" y="16877"/>
                  </a:moveTo>
                  <a:lnTo>
                    <a:pt x="1325" y="16877"/>
                  </a:lnTo>
                  <a:cubicBezTo>
                    <a:pt x="1298" y="16877"/>
                    <a:pt x="1275" y="16855"/>
                    <a:pt x="1275" y="16827"/>
                  </a:cubicBezTo>
                  <a:cubicBezTo>
                    <a:pt x="1275" y="16800"/>
                    <a:pt x="1298" y="16777"/>
                    <a:pt x="1325" y="16777"/>
                  </a:cubicBezTo>
                  <a:lnTo>
                    <a:pt x="1325" y="16777"/>
                  </a:lnTo>
                  <a:cubicBezTo>
                    <a:pt x="1353" y="16777"/>
                    <a:pt x="1375" y="16800"/>
                    <a:pt x="1375" y="16827"/>
                  </a:cubicBezTo>
                  <a:cubicBezTo>
                    <a:pt x="1375" y="16855"/>
                    <a:pt x="1353" y="16877"/>
                    <a:pt x="1325" y="16877"/>
                  </a:cubicBezTo>
                  <a:close/>
                  <a:moveTo>
                    <a:pt x="1125" y="16879"/>
                  </a:moveTo>
                  <a:lnTo>
                    <a:pt x="1125" y="16879"/>
                  </a:lnTo>
                  <a:cubicBezTo>
                    <a:pt x="1098" y="16879"/>
                    <a:pt x="1075" y="16857"/>
                    <a:pt x="1075" y="16829"/>
                  </a:cubicBezTo>
                  <a:cubicBezTo>
                    <a:pt x="1075" y="16802"/>
                    <a:pt x="1098" y="16779"/>
                    <a:pt x="1125" y="16779"/>
                  </a:cubicBezTo>
                  <a:lnTo>
                    <a:pt x="1125" y="16779"/>
                  </a:lnTo>
                  <a:cubicBezTo>
                    <a:pt x="1153" y="16779"/>
                    <a:pt x="1175" y="16802"/>
                    <a:pt x="1175" y="16829"/>
                  </a:cubicBezTo>
                  <a:cubicBezTo>
                    <a:pt x="1175" y="16857"/>
                    <a:pt x="1153" y="16879"/>
                    <a:pt x="1125" y="16879"/>
                  </a:cubicBezTo>
                  <a:close/>
                  <a:moveTo>
                    <a:pt x="925" y="16882"/>
                  </a:moveTo>
                  <a:lnTo>
                    <a:pt x="925" y="16882"/>
                  </a:lnTo>
                  <a:cubicBezTo>
                    <a:pt x="897" y="16882"/>
                    <a:pt x="875" y="16859"/>
                    <a:pt x="875" y="16832"/>
                  </a:cubicBezTo>
                  <a:cubicBezTo>
                    <a:pt x="875" y="16804"/>
                    <a:pt x="897" y="16782"/>
                    <a:pt x="925" y="16782"/>
                  </a:cubicBezTo>
                  <a:lnTo>
                    <a:pt x="925" y="16782"/>
                  </a:lnTo>
                  <a:cubicBezTo>
                    <a:pt x="953" y="16782"/>
                    <a:pt x="975" y="16804"/>
                    <a:pt x="975" y="16832"/>
                  </a:cubicBezTo>
                  <a:cubicBezTo>
                    <a:pt x="975" y="16859"/>
                    <a:pt x="953" y="16882"/>
                    <a:pt x="925" y="16882"/>
                  </a:cubicBezTo>
                  <a:close/>
                  <a:moveTo>
                    <a:pt x="725" y="16884"/>
                  </a:moveTo>
                  <a:lnTo>
                    <a:pt x="725" y="16884"/>
                  </a:lnTo>
                  <a:cubicBezTo>
                    <a:pt x="697" y="16884"/>
                    <a:pt x="675" y="16862"/>
                    <a:pt x="675" y="16834"/>
                  </a:cubicBezTo>
                  <a:cubicBezTo>
                    <a:pt x="675" y="16807"/>
                    <a:pt x="697" y="16784"/>
                    <a:pt x="725" y="16784"/>
                  </a:cubicBezTo>
                  <a:lnTo>
                    <a:pt x="725" y="16784"/>
                  </a:lnTo>
                  <a:cubicBezTo>
                    <a:pt x="753" y="16784"/>
                    <a:pt x="775" y="16807"/>
                    <a:pt x="775" y="16834"/>
                  </a:cubicBezTo>
                  <a:cubicBezTo>
                    <a:pt x="775" y="16862"/>
                    <a:pt x="753" y="16884"/>
                    <a:pt x="725" y="16884"/>
                  </a:cubicBezTo>
                  <a:close/>
                  <a:moveTo>
                    <a:pt x="525" y="16886"/>
                  </a:moveTo>
                  <a:lnTo>
                    <a:pt x="525" y="16886"/>
                  </a:lnTo>
                  <a:cubicBezTo>
                    <a:pt x="497" y="16886"/>
                    <a:pt x="475" y="16864"/>
                    <a:pt x="475" y="16836"/>
                  </a:cubicBezTo>
                  <a:cubicBezTo>
                    <a:pt x="475" y="16809"/>
                    <a:pt x="497" y="16786"/>
                    <a:pt x="525" y="16786"/>
                  </a:cubicBezTo>
                  <a:lnTo>
                    <a:pt x="525" y="16786"/>
                  </a:lnTo>
                  <a:cubicBezTo>
                    <a:pt x="553" y="16786"/>
                    <a:pt x="575" y="16809"/>
                    <a:pt x="575" y="16836"/>
                  </a:cubicBezTo>
                  <a:cubicBezTo>
                    <a:pt x="575" y="16864"/>
                    <a:pt x="553" y="16886"/>
                    <a:pt x="525" y="16886"/>
                  </a:cubicBezTo>
                  <a:close/>
                  <a:moveTo>
                    <a:pt x="325" y="16889"/>
                  </a:moveTo>
                  <a:lnTo>
                    <a:pt x="325" y="16889"/>
                  </a:lnTo>
                  <a:cubicBezTo>
                    <a:pt x="297" y="16889"/>
                    <a:pt x="275" y="16866"/>
                    <a:pt x="275" y="16839"/>
                  </a:cubicBezTo>
                  <a:cubicBezTo>
                    <a:pt x="275" y="16811"/>
                    <a:pt x="297" y="16789"/>
                    <a:pt x="325" y="16789"/>
                  </a:cubicBezTo>
                  <a:lnTo>
                    <a:pt x="325" y="16789"/>
                  </a:lnTo>
                  <a:cubicBezTo>
                    <a:pt x="353" y="16789"/>
                    <a:pt x="375" y="16811"/>
                    <a:pt x="375" y="16839"/>
                  </a:cubicBezTo>
                  <a:cubicBezTo>
                    <a:pt x="375" y="16866"/>
                    <a:pt x="353" y="16889"/>
                    <a:pt x="325" y="16889"/>
                  </a:cubicBezTo>
                  <a:close/>
                  <a:moveTo>
                    <a:pt x="125" y="16891"/>
                  </a:moveTo>
                  <a:lnTo>
                    <a:pt x="125" y="16891"/>
                  </a:lnTo>
                  <a:cubicBezTo>
                    <a:pt x="97" y="16891"/>
                    <a:pt x="75" y="16869"/>
                    <a:pt x="75" y="16841"/>
                  </a:cubicBezTo>
                  <a:cubicBezTo>
                    <a:pt x="75" y="16814"/>
                    <a:pt x="97" y="16791"/>
                    <a:pt x="125" y="16791"/>
                  </a:cubicBezTo>
                  <a:lnTo>
                    <a:pt x="125" y="16791"/>
                  </a:lnTo>
                  <a:cubicBezTo>
                    <a:pt x="152" y="16791"/>
                    <a:pt x="175" y="16814"/>
                    <a:pt x="175" y="16841"/>
                  </a:cubicBezTo>
                  <a:cubicBezTo>
                    <a:pt x="175" y="16869"/>
                    <a:pt x="152" y="16891"/>
                    <a:pt x="125" y="16891"/>
                  </a:cubicBezTo>
                  <a:close/>
                  <a:moveTo>
                    <a:pt x="50" y="16667"/>
                  </a:moveTo>
                  <a:lnTo>
                    <a:pt x="50" y="16667"/>
                  </a:lnTo>
                  <a:cubicBezTo>
                    <a:pt x="49" y="16639"/>
                    <a:pt x="71" y="16616"/>
                    <a:pt x="99" y="16616"/>
                  </a:cubicBezTo>
                  <a:cubicBezTo>
                    <a:pt x="127" y="16615"/>
                    <a:pt x="149" y="16637"/>
                    <a:pt x="150" y="16665"/>
                  </a:cubicBezTo>
                  <a:lnTo>
                    <a:pt x="150" y="16665"/>
                  </a:lnTo>
                  <a:cubicBezTo>
                    <a:pt x="150" y="16692"/>
                    <a:pt x="129" y="16715"/>
                    <a:pt x="101" y="16716"/>
                  </a:cubicBezTo>
                  <a:cubicBezTo>
                    <a:pt x="73" y="16716"/>
                    <a:pt x="50" y="16694"/>
                    <a:pt x="50" y="16667"/>
                  </a:cubicBezTo>
                  <a:close/>
                  <a:moveTo>
                    <a:pt x="49" y="16467"/>
                  </a:moveTo>
                  <a:lnTo>
                    <a:pt x="49" y="16467"/>
                  </a:lnTo>
                  <a:cubicBezTo>
                    <a:pt x="49" y="16439"/>
                    <a:pt x="71" y="16416"/>
                    <a:pt x="98" y="16416"/>
                  </a:cubicBezTo>
                  <a:cubicBezTo>
                    <a:pt x="126" y="16415"/>
                    <a:pt x="149" y="16437"/>
                    <a:pt x="149" y="16465"/>
                  </a:cubicBezTo>
                  <a:lnTo>
                    <a:pt x="149" y="16465"/>
                  </a:lnTo>
                  <a:cubicBezTo>
                    <a:pt x="150" y="16492"/>
                    <a:pt x="128" y="16515"/>
                    <a:pt x="100" y="16516"/>
                  </a:cubicBezTo>
                  <a:cubicBezTo>
                    <a:pt x="73" y="16516"/>
                    <a:pt x="50" y="16494"/>
                    <a:pt x="49" y="16467"/>
                  </a:cubicBezTo>
                  <a:close/>
                  <a:moveTo>
                    <a:pt x="49" y="16267"/>
                  </a:moveTo>
                  <a:lnTo>
                    <a:pt x="49" y="16266"/>
                  </a:lnTo>
                  <a:cubicBezTo>
                    <a:pt x="48" y="16239"/>
                    <a:pt x="70" y="16216"/>
                    <a:pt x="98" y="16215"/>
                  </a:cubicBezTo>
                  <a:cubicBezTo>
                    <a:pt x="125" y="16215"/>
                    <a:pt x="148" y="16237"/>
                    <a:pt x="149" y="16264"/>
                  </a:cubicBezTo>
                  <a:lnTo>
                    <a:pt x="149" y="16265"/>
                  </a:lnTo>
                  <a:cubicBezTo>
                    <a:pt x="149" y="16292"/>
                    <a:pt x="127" y="16315"/>
                    <a:pt x="100" y="16316"/>
                  </a:cubicBezTo>
                  <a:cubicBezTo>
                    <a:pt x="72" y="16316"/>
                    <a:pt x="49" y="16294"/>
                    <a:pt x="49" y="16267"/>
                  </a:cubicBezTo>
                  <a:close/>
                  <a:moveTo>
                    <a:pt x="48" y="16066"/>
                  </a:moveTo>
                  <a:lnTo>
                    <a:pt x="48" y="16066"/>
                  </a:lnTo>
                  <a:cubicBezTo>
                    <a:pt x="48" y="16039"/>
                    <a:pt x="70" y="16016"/>
                    <a:pt x="97" y="16015"/>
                  </a:cubicBezTo>
                  <a:cubicBezTo>
                    <a:pt x="125" y="16015"/>
                    <a:pt x="148" y="16037"/>
                    <a:pt x="148" y="16064"/>
                  </a:cubicBezTo>
                  <a:lnTo>
                    <a:pt x="148" y="16064"/>
                  </a:lnTo>
                  <a:cubicBezTo>
                    <a:pt x="149" y="16092"/>
                    <a:pt x="127" y="16115"/>
                    <a:pt x="99" y="16115"/>
                  </a:cubicBezTo>
                  <a:cubicBezTo>
                    <a:pt x="71" y="16116"/>
                    <a:pt x="49" y="16094"/>
                    <a:pt x="48" y="16066"/>
                  </a:cubicBezTo>
                  <a:close/>
                  <a:moveTo>
                    <a:pt x="48" y="15866"/>
                  </a:moveTo>
                  <a:lnTo>
                    <a:pt x="48" y="15866"/>
                  </a:lnTo>
                  <a:cubicBezTo>
                    <a:pt x="47" y="15839"/>
                    <a:pt x="69" y="15816"/>
                    <a:pt x="97" y="15815"/>
                  </a:cubicBezTo>
                  <a:cubicBezTo>
                    <a:pt x="124" y="15815"/>
                    <a:pt x="147" y="15837"/>
                    <a:pt x="147" y="15864"/>
                  </a:cubicBezTo>
                  <a:lnTo>
                    <a:pt x="147" y="15864"/>
                  </a:lnTo>
                  <a:cubicBezTo>
                    <a:pt x="148" y="15892"/>
                    <a:pt x="126" y="15915"/>
                    <a:pt x="98" y="15915"/>
                  </a:cubicBezTo>
                  <a:cubicBezTo>
                    <a:pt x="71" y="15916"/>
                    <a:pt x="48" y="15894"/>
                    <a:pt x="48" y="15866"/>
                  </a:cubicBezTo>
                  <a:close/>
                  <a:moveTo>
                    <a:pt x="47" y="15666"/>
                  </a:moveTo>
                  <a:lnTo>
                    <a:pt x="47" y="15666"/>
                  </a:lnTo>
                  <a:cubicBezTo>
                    <a:pt x="46" y="15639"/>
                    <a:pt x="68" y="15616"/>
                    <a:pt x="96" y="15615"/>
                  </a:cubicBezTo>
                  <a:cubicBezTo>
                    <a:pt x="124" y="15615"/>
                    <a:pt x="146" y="15637"/>
                    <a:pt x="147" y="15664"/>
                  </a:cubicBezTo>
                  <a:lnTo>
                    <a:pt x="147" y="15664"/>
                  </a:lnTo>
                  <a:cubicBezTo>
                    <a:pt x="147" y="15692"/>
                    <a:pt x="125" y="15715"/>
                    <a:pt x="98" y="15715"/>
                  </a:cubicBezTo>
                  <a:cubicBezTo>
                    <a:pt x="70" y="15716"/>
                    <a:pt x="47" y="15694"/>
                    <a:pt x="47" y="15666"/>
                  </a:cubicBezTo>
                  <a:close/>
                  <a:moveTo>
                    <a:pt x="46" y="15466"/>
                  </a:moveTo>
                  <a:lnTo>
                    <a:pt x="46" y="15466"/>
                  </a:lnTo>
                  <a:cubicBezTo>
                    <a:pt x="46" y="15438"/>
                    <a:pt x="68" y="15416"/>
                    <a:pt x="95" y="15415"/>
                  </a:cubicBezTo>
                  <a:cubicBezTo>
                    <a:pt x="123" y="15415"/>
                    <a:pt x="146" y="15436"/>
                    <a:pt x="146" y="15464"/>
                  </a:cubicBezTo>
                  <a:lnTo>
                    <a:pt x="146" y="15464"/>
                  </a:lnTo>
                  <a:cubicBezTo>
                    <a:pt x="147" y="15492"/>
                    <a:pt x="125" y="15515"/>
                    <a:pt x="97" y="15515"/>
                  </a:cubicBezTo>
                  <a:cubicBezTo>
                    <a:pt x="70" y="15516"/>
                    <a:pt x="47" y="15494"/>
                    <a:pt x="46" y="15466"/>
                  </a:cubicBezTo>
                  <a:close/>
                  <a:moveTo>
                    <a:pt x="46" y="15266"/>
                  </a:moveTo>
                  <a:lnTo>
                    <a:pt x="46" y="15266"/>
                  </a:lnTo>
                  <a:cubicBezTo>
                    <a:pt x="45" y="15238"/>
                    <a:pt x="67" y="15215"/>
                    <a:pt x="95" y="15215"/>
                  </a:cubicBezTo>
                  <a:cubicBezTo>
                    <a:pt x="122" y="15214"/>
                    <a:pt x="145" y="15236"/>
                    <a:pt x="146" y="15264"/>
                  </a:cubicBezTo>
                  <a:lnTo>
                    <a:pt x="146" y="15264"/>
                  </a:lnTo>
                  <a:cubicBezTo>
                    <a:pt x="146" y="15292"/>
                    <a:pt x="124" y="15315"/>
                    <a:pt x="97" y="15315"/>
                  </a:cubicBezTo>
                  <a:cubicBezTo>
                    <a:pt x="69" y="15316"/>
                    <a:pt x="46" y="15294"/>
                    <a:pt x="46" y="15266"/>
                  </a:cubicBezTo>
                  <a:close/>
                  <a:moveTo>
                    <a:pt x="45" y="15066"/>
                  </a:moveTo>
                  <a:lnTo>
                    <a:pt x="45" y="15066"/>
                  </a:lnTo>
                  <a:cubicBezTo>
                    <a:pt x="45" y="15038"/>
                    <a:pt x="67" y="15015"/>
                    <a:pt x="94" y="15015"/>
                  </a:cubicBezTo>
                  <a:cubicBezTo>
                    <a:pt x="122" y="15014"/>
                    <a:pt x="145" y="15036"/>
                    <a:pt x="145" y="15064"/>
                  </a:cubicBezTo>
                  <a:lnTo>
                    <a:pt x="145" y="15064"/>
                  </a:lnTo>
                  <a:cubicBezTo>
                    <a:pt x="146" y="15092"/>
                    <a:pt x="124" y="15114"/>
                    <a:pt x="96" y="15115"/>
                  </a:cubicBezTo>
                  <a:cubicBezTo>
                    <a:pt x="68" y="15115"/>
                    <a:pt x="46" y="15094"/>
                    <a:pt x="45" y="15066"/>
                  </a:cubicBezTo>
                  <a:close/>
                  <a:moveTo>
                    <a:pt x="44" y="14866"/>
                  </a:moveTo>
                  <a:lnTo>
                    <a:pt x="44" y="14866"/>
                  </a:lnTo>
                  <a:cubicBezTo>
                    <a:pt x="44" y="14838"/>
                    <a:pt x="66" y="14815"/>
                    <a:pt x="94" y="14815"/>
                  </a:cubicBezTo>
                  <a:cubicBezTo>
                    <a:pt x="121" y="14814"/>
                    <a:pt x="144" y="14836"/>
                    <a:pt x="144" y="14864"/>
                  </a:cubicBezTo>
                  <a:lnTo>
                    <a:pt x="144" y="14864"/>
                  </a:lnTo>
                  <a:cubicBezTo>
                    <a:pt x="145" y="14891"/>
                    <a:pt x="123" y="14914"/>
                    <a:pt x="95" y="14915"/>
                  </a:cubicBezTo>
                  <a:cubicBezTo>
                    <a:pt x="68" y="14915"/>
                    <a:pt x="45" y="14893"/>
                    <a:pt x="44" y="14866"/>
                  </a:cubicBezTo>
                  <a:close/>
                  <a:moveTo>
                    <a:pt x="44" y="14666"/>
                  </a:moveTo>
                  <a:lnTo>
                    <a:pt x="44" y="14666"/>
                  </a:lnTo>
                  <a:cubicBezTo>
                    <a:pt x="43" y="14638"/>
                    <a:pt x="65" y="14615"/>
                    <a:pt x="93" y="14615"/>
                  </a:cubicBezTo>
                  <a:cubicBezTo>
                    <a:pt x="121" y="14614"/>
                    <a:pt x="143" y="14636"/>
                    <a:pt x="144" y="14664"/>
                  </a:cubicBezTo>
                  <a:lnTo>
                    <a:pt x="144" y="14664"/>
                  </a:lnTo>
                  <a:cubicBezTo>
                    <a:pt x="144" y="14691"/>
                    <a:pt x="122" y="14714"/>
                    <a:pt x="95" y="14715"/>
                  </a:cubicBezTo>
                  <a:cubicBezTo>
                    <a:pt x="67" y="14715"/>
                    <a:pt x="44" y="14693"/>
                    <a:pt x="44" y="14666"/>
                  </a:cubicBezTo>
                  <a:close/>
                  <a:moveTo>
                    <a:pt x="43" y="14466"/>
                  </a:moveTo>
                  <a:lnTo>
                    <a:pt x="43" y="14466"/>
                  </a:lnTo>
                  <a:cubicBezTo>
                    <a:pt x="43" y="14438"/>
                    <a:pt x="65" y="14415"/>
                    <a:pt x="92" y="14415"/>
                  </a:cubicBezTo>
                  <a:cubicBezTo>
                    <a:pt x="120" y="14414"/>
                    <a:pt x="143" y="14436"/>
                    <a:pt x="143" y="14464"/>
                  </a:cubicBezTo>
                  <a:lnTo>
                    <a:pt x="143" y="14464"/>
                  </a:lnTo>
                  <a:cubicBezTo>
                    <a:pt x="144" y="14491"/>
                    <a:pt x="122" y="14514"/>
                    <a:pt x="94" y="14515"/>
                  </a:cubicBezTo>
                  <a:cubicBezTo>
                    <a:pt x="67" y="14515"/>
                    <a:pt x="44" y="14493"/>
                    <a:pt x="43" y="14466"/>
                  </a:cubicBezTo>
                  <a:close/>
                  <a:moveTo>
                    <a:pt x="43" y="14266"/>
                  </a:moveTo>
                  <a:lnTo>
                    <a:pt x="43" y="14265"/>
                  </a:lnTo>
                  <a:cubicBezTo>
                    <a:pt x="42" y="14238"/>
                    <a:pt x="64" y="14215"/>
                    <a:pt x="92" y="14214"/>
                  </a:cubicBezTo>
                  <a:cubicBezTo>
                    <a:pt x="119" y="14214"/>
                    <a:pt x="142" y="14236"/>
                    <a:pt x="143" y="14263"/>
                  </a:cubicBezTo>
                  <a:lnTo>
                    <a:pt x="143" y="14264"/>
                  </a:lnTo>
                  <a:cubicBezTo>
                    <a:pt x="143" y="14291"/>
                    <a:pt x="121" y="14314"/>
                    <a:pt x="94" y="14315"/>
                  </a:cubicBezTo>
                  <a:cubicBezTo>
                    <a:pt x="66" y="14315"/>
                    <a:pt x="43" y="14293"/>
                    <a:pt x="43" y="14266"/>
                  </a:cubicBezTo>
                  <a:close/>
                  <a:moveTo>
                    <a:pt x="42" y="14065"/>
                  </a:moveTo>
                  <a:lnTo>
                    <a:pt x="42" y="14065"/>
                  </a:lnTo>
                  <a:cubicBezTo>
                    <a:pt x="42" y="14038"/>
                    <a:pt x="63" y="14015"/>
                    <a:pt x="91" y="14014"/>
                  </a:cubicBezTo>
                  <a:cubicBezTo>
                    <a:pt x="119" y="14014"/>
                    <a:pt x="141" y="14036"/>
                    <a:pt x="142" y="14063"/>
                  </a:cubicBezTo>
                  <a:lnTo>
                    <a:pt x="142" y="14063"/>
                  </a:lnTo>
                  <a:cubicBezTo>
                    <a:pt x="143" y="14091"/>
                    <a:pt x="121" y="14114"/>
                    <a:pt x="93" y="14114"/>
                  </a:cubicBezTo>
                  <a:cubicBezTo>
                    <a:pt x="65" y="14115"/>
                    <a:pt x="43" y="14093"/>
                    <a:pt x="42" y="14065"/>
                  </a:cubicBezTo>
                  <a:close/>
                  <a:moveTo>
                    <a:pt x="41" y="13865"/>
                  </a:moveTo>
                  <a:lnTo>
                    <a:pt x="41" y="13865"/>
                  </a:lnTo>
                  <a:cubicBezTo>
                    <a:pt x="41" y="13838"/>
                    <a:pt x="63" y="13815"/>
                    <a:pt x="90" y="13814"/>
                  </a:cubicBezTo>
                  <a:cubicBezTo>
                    <a:pt x="118" y="13814"/>
                    <a:pt x="141" y="13836"/>
                    <a:pt x="141" y="13863"/>
                  </a:cubicBezTo>
                  <a:lnTo>
                    <a:pt x="141" y="13863"/>
                  </a:lnTo>
                  <a:cubicBezTo>
                    <a:pt x="142" y="13891"/>
                    <a:pt x="120" y="13914"/>
                    <a:pt x="92" y="13914"/>
                  </a:cubicBezTo>
                  <a:cubicBezTo>
                    <a:pt x="65" y="13915"/>
                    <a:pt x="42" y="13893"/>
                    <a:pt x="41" y="13865"/>
                  </a:cubicBezTo>
                  <a:close/>
                  <a:moveTo>
                    <a:pt x="41" y="13665"/>
                  </a:moveTo>
                  <a:lnTo>
                    <a:pt x="41" y="13665"/>
                  </a:lnTo>
                  <a:cubicBezTo>
                    <a:pt x="40" y="13637"/>
                    <a:pt x="62" y="13615"/>
                    <a:pt x="90" y="13614"/>
                  </a:cubicBezTo>
                  <a:cubicBezTo>
                    <a:pt x="117" y="13614"/>
                    <a:pt x="140" y="13636"/>
                    <a:pt x="141" y="13663"/>
                  </a:cubicBezTo>
                  <a:lnTo>
                    <a:pt x="141" y="13663"/>
                  </a:lnTo>
                  <a:cubicBezTo>
                    <a:pt x="141" y="13691"/>
                    <a:pt x="119" y="13714"/>
                    <a:pt x="92" y="13714"/>
                  </a:cubicBezTo>
                  <a:cubicBezTo>
                    <a:pt x="64" y="13715"/>
                    <a:pt x="41" y="13693"/>
                    <a:pt x="41" y="13665"/>
                  </a:cubicBezTo>
                  <a:close/>
                  <a:moveTo>
                    <a:pt x="40" y="13465"/>
                  </a:moveTo>
                  <a:lnTo>
                    <a:pt x="40" y="13465"/>
                  </a:lnTo>
                  <a:cubicBezTo>
                    <a:pt x="40" y="13437"/>
                    <a:pt x="62" y="13415"/>
                    <a:pt x="89" y="13414"/>
                  </a:cubicBezTo>
                  <a:cubicBezTo>
                    <a:pt x="117" y="13414"/>
                    <a:pt x="140" y="13435"/>
                    <a:pt x="140" y="13463"/>
                  </a:cubicBezTo>
                  <a:lnTo>
                    <a:pt x="140" y="13463"/>
                  </a:lnTo>
                  <a:cubicBezTo>
                    <a:pt x="141" y="13491"/>
                    <a:pt x="119" y="13514"/>
                    <a:pt x="91" y="13514"/>
                  </a:cubicBezTo>
                  <a:cubicBezTo>
                    <a:pt x="64" y="13515"/>
                    <a:pt x="41" y="13493"/>
                    <a:pt x="40" y="13465"/>
                  </a:cubicBezTo>
                  <a:close/>
                  <a:moveTo>
                    <a:pt x="40" y="13265"/>
                  </a:moveTo>
                  <a:lnTo>
                    <a:pt x="40" y="13265"/>
                  </a:lnTo>
                  <a:cubicBezTo>
                    <a:pt x="39" y="13237"/>
                    <a:pt x="61" y="13214"/>
                    <a:pt x="89" y="13214"/>
                  </a:cubicBezTo>
                  <a:cubicBezTo>
                    <a:pt x="116" y="13213"/>
                    <a:pt x="139" y="13235"/>
                    <a:pt x="140" y="13263"/>
                  </a:cubicBezTo>
                  <a:lnTo>
                    <a:pt x="140" y="13263"/>
                  </a:lnTo>
                  <a:cubicBezTo>
                    <a:pt x="140" y="13291"/>
                    <a:pt x="118" y="13313"/>
                    <a:pt x="91" y="13314"/>
                  </a:cubicBezTo>
                  <a:cubicBezTo>
                    <a:pt x="63" y="13315"/>
                    <a:pt x="40" y="13293"/>
                    <a:pt x="40" y="13265"/>
                  </a:cubicBezTo>
                  <a:close/>
                  <a:moveTo>
                    <a:pt x="39" y="13065"/>
                  </a:moveTo>
                  <a:lnTo>
                    <a:pt x="39" y="13065"/>
                  </a:lnTo>
                  <a:cubicBezTo>
                    <a:pt x="38" y="13037"/>
                    <a:pt x="60" y="13014"/>
                    <a:pt x="88" y="13014"/>
                  </a:cubicBezTo>
                  <a:cubicBezTo>
                    <a:pt x="116" y="13013"/>
                    <a:pt x="138" y="13035"/>
                    <a:pt x="139" y="13063"/>
                  </a:cubicBezTo>
                  <a:lnTo>
                    <a:pt x="139" y="13063"/>
                  </a:lnTo>
                  <a:cubicBezTo>
                    <a:pt x="140" y="13091"/>
                    <a:pt x="118" y="13113"/>
                    <a:pt x="90" y="13114"/>
                  </a:cubicBezTo>
                  <a:cubicBezTo>
                    <a:pt x="62" y="13114"/>
                    <a:pt x="40" y="13093"/>
                    <a:pt x="39" y="13065"/>
                  </a:cubicBezTo>
                  <a:close/>
                  <a:moveTo>
                    <a:pt x="38" y="12865"/>
                  </a:moveTo>
                  <a:lnTo>
                    <a:pt x="38" y="12865"/>
                  </a:lnTo>
                  <a:cubicBezTo>
                    <a:pt x="38" y="12837"/>
                    <a:pt x="60" y="12814"/>
                    <a:pt x="87" y="12814"/>
                  </a:cubicBezTo>
                  <a:cubicBezTo>
                    <a:pt x="115" y="12813"/>
                    <a:pt x="138" y="12835"/>
                    <a:pt x="138" y="12863"/>
                  </a:cubicBezTo>
                  <a:lnTo>
                    <a:pt x="138" y="12863"/>
                  </a:lnTo>
                  <a:cubicBezTo>
                    <a:pt x="139" y="12890"/>
                    <a:pt x="117" y="12913"/>
                    <a:pt x="89" y="12914"/>
                  </a:cubicBezTo>
                  <a:cubicBezTo>
                    <a:pt x="62" y="12914"/>
                    <a:pt x="39" y="12892"/>
                    <a:pt x="38" y="12865"/>
                  </a:cubicBezTo>
                  <a:close/>
                  <a:moveTo>
                    <a:pt x="38" y="12665"/>
                  </a:moveTo>
                  <a:lnTo>
                    <a:pt x="38" y="12665"/>
                  </a:lnTo>
                  <a:cubicBezTo>
                    <a:pt x="37" y="12637"/>
                    <a:pt x="59" y="12614"/>
                    <a:pt x="87" y="12614"/>
                  </a:cubicBezTo>
                  <a:cubicBezTo>
                    <a:pt x="114" y="12613"/>
                    <a:pt x="137" y="12635"/>
                    <a:pt x="138" y="12663"/>
                  </a:cubicBezTo>
                  <a:lnTo>
                    <a:pt x="138" y="12663"/>
                  </a:lnTo>
                  <a:cubicBezTo>
                    <a:pt x="138" y="12690"/>
                    <a:pt x="116" y="12713"/>
                    <a:pt x="89" y="12714"/>
                  </a:cubicBezTo>
                  <a:cubicBezTo>
                    <a:pt x="61" y="12714"/>
                    <a:pt x="38" y="12692"/>
                    <a:pt x="38" y="12665"/>
                  </a:cubicBezTo>
                  <a:close/>
                  <a:moveTo>
                    <a:pt x="37" y="12465"/>
                  </a:moveTo>
                  <a:lnTo>
                    <a:pt x="37" y="12464"/>
                  </a:lnTo>
                  <a:cubicBezTo>
                    <a:pt x="37" y="12437"/>
                    <a:pt x="59" y="12414"/>
                    <a:pt x="86" y="12414"/>
                  </a:cubicBezTo>
                  <a:cubicBezTo>
                    <a:pt x="114" y="12413"/>
                    <a:pt x="137" y="12435"/>
                    <a:pt x="137" y="12463"/>
                  </a:cubicBezTo>
                  <a:lnTo>
                    <a:pt x="137" y="12463"/>
                  </a:lnTo>
                  <a:cubicBezTo>
                    <a:pt x="138" y="12490"/>
                    <a:pt x="116" y="12513"/>
                    <a:pt x="88" y="12514"/>
                  </a:cubicBezTo>
                  <a:cubicBezTo>
                    <a:pt x="61" y="12514"/>
                    <a:pt x="38" y="12492"/>
                    <a:pt x="37" y="12465"/>
                  </a:cubicBezTo>
                  <a:close/>
                  <a:moveTo>
                    <a:pt x="37" y="12264"/>
                  </a:moveTo>
                  <a:lnTo>
                    <a:pt x="37" y="12264"/>
                  </a:lnTo>
                  <a:cubicBezTo>
                    <a:pt x="36" y="12237"/>
                    <a:pt x="58" y="12214"/>
                    <a:pt x="86" y="12213"/>
                  </a:cubicBezTo>
                  <a:cubicBezTo>
                    <a:pt x="113" y="12213"/>
                    <a:pt x="136" y="12235"/>
                    <a:pt x="137" y="12262"/>
                  </a:cubicBezTo>
                  <a:lnTo>
                    <a:pt x="137" y="12263"/>
                  </a:lnTo>
                  <a:cubicBezTo>
                    <a:pt x="137" y="12290"/>
                    <a:pt x="115" y="12313"/>
                    <a:pt x="88" y="12314"/>
                  </a:cubicBezTo>
                  <a:cubicBezTo>
                    <a:pt x="60" y="12314"/>
                    <a:pt x="37" y="12292"/>
                    <a:pt x="37" y="12264"/>
                  </a:cubicBezTo>
                  <a:close/>
                  <a:moveTo>
                    <a:pt x="36" y="12064"/>
                  </a:moveTo>
                  <a:lnTo>
                    <a:pt x="36" y="12064"/>
                  </a:lnTo>
                  <a:cubicBezTo>
                    <a:pt x="35" y="12037"/>
                    <a:pt x="57" y="12014"/>
                    <a:pt x="85" y="12013"/>
                  </a:cubicBezTo>
                  <a:cubicBezTo>
                    <a:pt x="113" y="12013"/>
                    <a:pt x="135" y="12035"/>
                    <a:pt x="136" y="12062"/>
                  </a:cubicBezTo>
                  <a:lnTo>
                    <a:pt x="136" y="12062"/>
                  </a:lnTo>
                  <a:cubicBezTo>
                    <a:pt x="136" y="12090"/>
                    <a:pt x="115" y="12113"/>
                    <a:pt x="87" y="12113"/>
                  </a:cubicBezTo>
                  <a:cubicBezTo>
                    <a:pt x="59" y="12114"/>
                    <a:pt x="37" y="12092"/>
                    <a:pt x="36" y="12064"/>
                  </a:cubicBezTo>
                  <a:close/>
                  <a:moveTo>
                    <a:pt x="35" y="11864"/>
                  </a:moveTo>
                  <a:lnTo>
                    <a:pt x="35" y="11864"/>
                  </a:lnTo>
                  <a:cubicBezTo>
                    <a:pt x="35" y="11837"/>
                    <a:pt x="57" y="11814"/>
                    <a:pt x="84" y="11813"/>
                  </a:cubicBezTo>
                  <a:cubicBezTo>
                    <a:pt x="112" y="11813"/>
                    <a:pt x="135" y="11835"/>
                    <a:pt x="135" y="11862"/>
                  </a:cubicBezTo>
                  <a:lnTo>
                    <a:pt x="135" y="11862"/>
                  </a:lnTo>
                  <a:cubicBezTo>
                    <a:pt x="136" y="11890"/>
                    <a:pt x="114" y="11913"/>
                    <a:pt x="86" y="11913"/>
                  </a:cubicBezTo>
                  <a:cubicBezTo>
                    <a:pt x="59" y="11914"/>
                    <a:pt x="36" y="11892"/>
                    <a:pt x="35" y="11864"/>
                  </a:cubicBezTo>
                  <a:close/>
                  <a:moveTo>
                    <a:pt x="35" y="11664"/>
                  </a:moveTo>
                  <a:lnTo>
                    <a:pt x="35" y="11664"/>
                  </a:lnTo>
                  <a:cubicBezTo>
                    <a:pt x="34" y="11636"/>
                    <a:pt x="56" y="11614"/>
                    <a:pt x="84" y="11613"/>
                  </a:cubicBezTo>
                  <a:cubicBezTo>
                    <a:pt x="111" y="11613"/>
                    <a:pt x="134" y="11635"/>
                    <a:pt x="135" y="11662"/>
                  </a:cubicBezTo>
                  <a:lnTo>
                    <a:pt x="135" y="11662"/>
                  </a:lnTo>
                  <a:cubicBezTo>
                    <a:pt x="135" y="11690"/>
                    <a:pt x="113" y="11713"/>
                    <a:pt x="86" y="11713"/>
                  </a:cubicBezTo>
                  <a:cubicBezTo>
                    <a:pt x="58" y="11714"/>
                    <a:pt x="35" y="11692"/>
                    <a:pt x="35" y="11664"/>
                  </a:cubicBezTo>
                  <a:close/>
                  <a:moveTo>
                    <a:pt x="34" y="11464"/>
                  </a:moveTo>
                  <a:lnTo>
                    <a:pt x="34" y="11464"/>
                  </a:lnTo>
                  <a:cubicBezTo>
                    <a:pt x="34" y="11436"/>
                    <a:pt x="56" y="11414"/>
                    <a:pt x="83" y="11413"/>
                  </a:cubicBezTo>
                  <a:cubicBezTo>
                    <a:pt x="111" y="11413"/>
                    <a:pt x="134" y="11434"/>
                    <a:pt x="134" y="11462"/>
                  </a:cubicBezTo>
                  <a:lnTo>
                    <a:pt x="134" y="11462"/>
                  </a:lnTo>
                  <a:cubicBezTo>
                    <a:pt x="135" y="11490"/>
                    <a:pt x="113" y="11513"/>
                    <a:pt x="85" y="11513"/>
                  </a:cubicBezTo>
                  <a:cubicBezTo>
                    <a:pt x="58" y="11514"/>
                    <a:pt x="35" y="11492"/>
                    <a:pt x="34" y="11464"/>
                  </a:cubicBezTo>
                  <a:close/>
                  <a:moveTo>
                    <a:pt x="34" y="11264"/>
                  </a:moveTo>
                  <a:lnTo>
                    <a:pt x="34" y="11264"/>
                  </a:lnTo>
                  <a:cubicBezTo>
                    <a:pt x="33" y="11236"/>
                    <a:pt x="55" y="11213"/>
                    <a:pt x="83" y="11213"/>
                  </a:cubicBezTo>
                  <a:cubicBezTo>
                    <a:pt x="110" y="11212"/>
                    <a:pt x="133" y="11234"/>
                    <a:pt x="134" y="11262"/>
                  </a:cubicBezTo>
                  <a:lnTo>
                    <a:pt x="134" y="11262"/>
                  </a:lnTo>
                  <a:cubicBezTo>
                    <a:pt x="134" y="11290"/>
                    <a:pt x="112" y="11312"/>
                    <a:pt x="85" y="11313"/>
                  </a:cubicBezTo>
                  <a:cubicBezTo>
                    <a:pt x="57" y="11314"/>
                    <a:pt x="34" y="11292"/>
                    <a:pt x="34" y="11264"/>
                  </a:cubicBezTo>
                  <a:close/>
                  <a:moveTo>
                    <a:pt x="33" y="11064"/>
                  </a:moveTo>
                  <a:lnTo>
                    <a:pt x="33" y="11064"/>
                  </a:lnTo>
                  <a:cubicBezTo>
                    <a:pt x="32" y="11036"/>
                    <a:pt x="54" y="11013"/>
                    <a:pt x="82" y="11013"/>
                  </a:cubicBezTo>
                  <a:cubicBezTo>
                    <a:pt x="110" y="11012"/>
                    <a:pt x="132" y="11034"/>
                    <a:pt x="133" y="11062"/>
                  </a:cubicBezTo>
                  <a:lnTo>
                    <a:pt x="133" y="11062"/>
                  </a:lnTo>
                  <a:cubicBezTo>
                    <a:pt x="133" y="11090"/>
                    <a:pt x="112" y="11112"/>
                    <a:pt x="84" y="11113"/>
                  </a:cubicBezTo>
                  <a:cubicBezTo>
                    <a:pt x="56" y="11113"/>
                    <a:pt x="33" y="11091"/>
                    <a:pt x="33" y="11064"/>
                  </a:cubicBezTo>
                  <a:close/>
                  <a:moveTo>
                    <a:pt x="32" y="10864"/>
                  </a:moveTo>
                  <a:lnTo>
                    <a:pt x="32" y="10864"/>
                  </a:lnTo>
                  <a:cubicBezTo>
                    <a:pt x="32" y="10836"/>
                    <a:pt x="54" y="10813"/>
                    <a:pt x="81" y="10813"/>
                  </a:cubicBezTo>
                  <a:cubicBezTo>
                    <a:pt x="109" y="10812"/>
                    <a:pt x="132" y="10834"/>
                    <a:pt x="132" y="10862"/>
                  </a:cubicBezTo>
                  <a:lnTo>
                    <a:pt x="132" y="10862"/>
                  </a:lnTo>
                  <a:cubicBezTo>
                    <a:pt x="133" y="10889"/>
                    <a:pt x="111" y="10912"/>
                    <a:pt x="83" y="10913"/>
                  </a:cubicBezTo>
                  <a:cubicBezTo>
                    <a:pt x="56" y="10913"/>
                    <a:pt x="33" y="10891"/>
                    <a:pt x="32" y="10864"/>
                  </a:cubicBezTo>
                  <a:close/>
                  <a:moveTo>
                    <a:pt x="32" y="10664"/>
                  </a:moveTo>
                  <a:lnTo>
                    <a:pt x="32" y="10664"/>
                  </a:lnTo>
                  <a:cubicBezTo>
                    <a:pt x="31" y="10636"/>
                    <a:pt x="53" y="10613"/>
                    <a:pt x="81" y="10613"/>
                  </a:cubicBezTo>
                  <a:cubicBezTo>
                    <a:pt x="108" y="10612"/>
                    <a:pt x="131" y="10634"/>
                    <a:pt x="132" y="10662"/>
                  </a:cubicBezTo>
                  <a:lnTo>
                    <a:pt x="132" y="10662"/>
                  </a:lnTo>
                  <a:cubicBezTo>
                    <a:pt x="132" y="10689"/>
                    <a:pt x="110" y="10712"/>
                    <a:pt x="83" y="10713"/>
                  </a:cubicBezTo>
                  <a:cubicBezTo>
                    <a:pt x="55" y="10713"/>
                    <a:pt x="32" y="10691"/>
                    <a:pt x="32" y="10664"/>
                  </a:cubicBezTo>
                  <a:close/>
                  <a:moveTo>
                    <a:pt x="31" y="10464"/>
                  </a:moveTo>
                  <a:lnTo>
                    <a:pt x="31" y="10463"/>
                  </a:lnTo>
                  <a:cubicBezTo>
                    <a:pt x="31" y="10436"/>
                    <a:pt x="53" y="10413"/>
                    <a:pt x="80" y="10413"/>
                  </a:cubicBezTo>
                  <a:cubicBezTo>
                    <a:pt x="108" y="10412"/>
                    <a:pt x="131" y="10434"/>
                    <a:pt x="131" y="10462"/>
                  </a:cubicBezTo>
                  <a:lnTo>
                    <a:pt x="131" y="10462"/>
                  </a:lnTo>
                  <a:cubicBezTo>
                    <a:pt x="132" y="10489"/>
                    <a:pt x="110" y="10512"/>
                    <a:pt x="82" y="10513"/>
                  </a:cubicBezTo>
                  <a:cubicBezTo>
                    <a:pt x="54" y="10513"/>
                    <a:pt x="32" y="10491"/>
                    <a:pt x="31" y="10464"/>
                  </a:cubicBezTo>
                  <a:close/>
                  <a:moveTo>
                    <a:pt x="31" y="10263"/>
                  </a:moveTo>
                  <a:lnTo>
                    <a:pt x="31" y="10263"/>
                  </a:lnTo>
                  <a:cubicBezTo>
                    <a:pt x="30" y="10236"/>
                    <a:pt x="52" y="10213"/>
                    <a:pt x="80" y="10212"/>
                  </a:cubicBezTo>
                  <a:cubicBezTo>
                    <a:pt x="107" y="10212"/>
                    <a:pt x="130" y="10234"/>
                    <a:pt x="131" y="10261"/>
                  </a:cubicBezTo>
                  <a:lnTo>
                    <a:pt x="131" y="10262"/>
                  </a:lnTo>
                  <a:cubicBezTo>
                    <a:pt x="131" y="10289"/>
                    <a:pt x="109" y="10312"/>
                    <a:pt x="81" y="10313"/>
                  </a:cubicBezTo>
                  <a:cubicBezTo>
                    <a:pt x="54" y="10313"/>
                    <a:pt x="31" y="10291"/>
                    <a:pt x="31" y="10263"/>
                  </a:cubicBezTo>
                  <a:close/>
                  <a:moveTo>
                    <a:pt x="30" y="10063"/>
                  </a:moveTo>
                  <a:lnTo>
                    <a:pt x="30" y="10063"/>
                  </a:lnTo>
                  <a:cubicBezTo>
                    <a:pt x="29" y="10036"/>
                    <a:pt x="51" y="10013"/>
                    <a:pt x="79" y="10012"/>
                  </a:cubicBezTo>
                  <a:cubicBezTo>
                    <a:pt x="107" y="10012"/>
                    <a:pt x="129" y="10034"/>
                    <a:pt x="130" y="10061"/>
                  </a:cubicBezTo>
                  <a:lnTo>
                    <a:pt x="130" y="10061"/>
                  </a:lnTo>
                  <a:cubicBezTo>
                    <a:pt x="130" y="10089"/>
                    <a:pt x="108" y="10112"/>
                    <a:pt x="81" y="10112"/>
                  </a:cubicBezTo>
                  <a:cubicBezTo>
                    <a:pt x="53" y="10113"/>
                    <a:pt x="30" y="10091"/>
                    <a:pt x="30" y="10063"/>
                  </a:cubicBezTo>
                  <a:close/>
                  <a:moveTo>
                    <a:pt x="29" y="9863"/>
                  </a:moveTo>
                  <a:lnTo>
                    <a:pt x="29" y="9863"/>
                  </a:lnTo>
                  <a:cubicBezTo>
                    <a:pt x="29" y="9836"/>
                    <a:pt x="51" y="9813"/>
                    <a:pt x="78" y="9812"/>
                  </a:cubicBezTo>
                  <a:cubicBezTo>
                    <a:pt x="106" y="9812"/>
                    <a:pt x="129" y="9834"/>
                    <a:pt x="129" y="9861"/>
                  </a:cubicBezTo>
                  <a:lnTo>
                    <a:pt x="129" y="9861"/>
                  </a:lnTo>
                  <a:cubicBezTo>
                    <a:pt x="130" y="9889"/>
                    <a:pt x="108" y="9912"/>
                    <a:pt x="80" y="9912"/>
                  </a:cubicBezTo>
                  <a:cubicBezTo>
                    <a:pt x="53" y="9913"/>
                    <a:pt x="30" y="9891"/>
                    <a:pt x="29" y="9863"/>
                  </a:cubicBezTo>
                  <a:close/>
                  <a:moveTo>
                    <a:pt x="29" y="9663"/>
                  </a:moveTo>
                  <a:lnTo>
                    <a:pt x="29" y="9663"/>
                  </a:lnTo>
                  <a:cubicBezTo>
                    <a:pt x="28" y="9635"/>
                    <a:pt x="50" y="9613"/>
                    <a:pt x="78" y="9612"/>
                  </a:cubicBezTo>
                  <a:cubicBezTo>
                    <a:pt x="105" y="9612"/>
                    <a:pt x="128" y="9634"/>
                    <a:pt x="129" y="9661"/>
                  </a:cubicBezTo>
                  <a:lnTo>
                    <a:pt x="129" y="9661"/>
                  </a:lnTo>
                  <a:cubicBezTo>
                    <a:pt x="129" y="9689"/>
                    <a:pt x="107" y="9712"/>
                    <a:pt x="80" y="9712"/>
                  </a:cubicBezTo>
                  <a:cubicBezTo>
                    <a:pt x="52" y="9713"/>
                    <a:pt x="29" y="9691"/>
                    <a:pt x="29" y="9663"/>
                  </a:cubicBezTo>
                  <a:close/>
                  <a:moveTo>
                    <a:pt x="28" y="9463"/>
                  </a:moveTo>
                  <a:lnTo>
                    <a:pt x="28" y="9463"/>
                  </a:lnTo>
                  <a:cubicBezTo>
                    <a:pt x="28" y="9435"/>
                    <a:pt x="50" y="9413"/>
                    <a:pt x="77" y="9412"/>
                  </a:cubicBezTo>
                  <a:cubicBezTo>
                    <a:pt x="105" y="9411"/>
                    <a:pt x="128" y="9433"/>
                    <a:pt x="128" y="9461"/>
                  </a:cubicBezTo>
                  <a:lnTo>
                    <a:pt x="128" y="9461"/>
                  </a:lnTo>
                  <a:cubicBezTo>
                    <a:pt x="129" y="9489"/>
                    <a:pt x="107" y="9512"/>
                    <a:pt x="79" y="9512"/>
                  </a:cubicBezTo>
                  <a:cubicBezTo>
                    <a:pt x="51" y="9513"/>
                    <a:pt x="29" y="9491"/>
                    <a:pt x="28" y="9463"/>
                  </a:cubicBezTo>
                  <a:close/>
                  <a:moveTo>
                    <a:pt x="27" y="9263"/>
                  </a:moveTo>
                  <a:lnTo>
                    <a:pt x="27" y="9263"/>
                  </a:lnTo>
                  <a:cubicBezTo>
                    <a:pt x="27" y="9235"/>
                    <a:pt x="49" y="9212"/>
                    <a:pt x="77" y="9212"/>
                  </a:cubicBezTo>
                  <a:cubicBezTo>
                    <a:pt x="104" y="9211"/>
                    <a:pt x="127" y="9233"/>
                    <a:pt x="127" y="9261"/>
                  </a:cubicBezTo>
                  <a:lnTo>
                    <a:pt x="127" y="9261"/>
                  </a:lnTo>
                  <a:cubicBezTo>
                    <a:pt x="128" y="9289"/>
                    <a:pt x="106" y="9311"/>
                    <a:pt x="78" y="9312"/>
                  </a:cubicBezTo>
                  <a:cubicBezTo>
                    <a:pt x="51" y="9313"/>
                    <a:pt x="28" y="9291"/>
                    <a:pt x="27" y="9263"/>
                  </a:cubicBezTo>
                  <a:close/>
                  <a:moveTo>
                    <a:pt x="27" y="9063"/>
                  </a:moveTo>
                  <a:lnTo>
                    <a:pt x="27" y="9063"/>
                  </a:lnTo>
                  <a:cubicBezTo>
                    <a:pt x="26" y="9035"/>
                    <a:pt x="48" y="9012"/>
                    <a:pt x="76" y="9012"/>
                  </a:cubicBezTo>
                  <a:cubicBezTo>
                    <a:pt x="104" y="9011"/>
                    <a:pt x="126" y="9033"/>
                    <a:pt x="127" y="9061"/>
                  </a:cubicBezTo>
                  <a:lnTo>
                    <a:pt x="127" y="9061"/>
                  </a:lnTo>
                  <a:cubicBezTo>
                    <a:pt x="127" y="9089"/>
                    <a:pt x="105" y="9111"/>
                    <a:pt x="78" y="9112"/>
                  </a:cubicBezTo>
                  <a:cubicBezTo>
                    <a:pt x="50" y="9112"/>
                    <a:pt x="27" y="9090"/>
                    <a:pt x="27" y="9063"/>
                  </a:cubicBezTo>
                  <a:close/>
                  <a:moveTo>
                    <a:pt x="26" y="8863"/>
                  </a:moveTo>
                  <a:lnTo>
                    <a:pt x="26" y="8863"/>
                  </a:lnTo>
                  <a:cubicBezTo>
                    <a:pt x="26" y="8835"/>
                    <a:pt x="48" y="8812"/>
                    <a:pt x="75" y="8812"/>
                  </a:cubicBezTo>
                  <a:cubicBezTo>
                    <a:pt x="103" y="8811"/>
                    <a:pt x="126" y="8833"/>
                    <a:pt x="126" y="8861"/>
                  </a:cubicBezTo>
                  <a:lnTo>
                    <a:pt x="126" y="8861"/>
                  </a:lnTo>
                  <a:cubicBezTo>
                    <a:pt x="127" y="8888"/>
                    <a:pt x="105" y="8911"/>
                    <a:pt x="77" y="8912"/>
                  </a:cubicBezTo>
                  <a:cubicBezTo>
                    <a:pt x="50" y="8912"/>
                    <a:pt x="27" y="8890"/>
                    <a:pt x="26" y="8863"/>
                  </a:cubicBezTo>
                  <a:close/>
                  <a:moveTo>
                    <a:pt x="26" y="8663"/>
                  </a:moveTo>
                  <a:lnTo>
                    <a:pt x="26" y="8663"/>
                  </a:lnTo>
                  <a:cubicBezTo>
                    <a:pt x="25" y="8635"/>
                    <a:pt x="47" y="8612"/>
                    <a:pt x="75" y="8612"/>
                  </a:cubicBezTo>
                  <a:cubicBezTo>
                    <a:pt x="102" y="8611"/>
                    <a:pt x="125" y="8633"/>
                    <a:pt x="126" y="8661"/>
                  </a:cubicBezTo>
                  <a:lnTo>
                    <a:pt x="126" y="8661"/>
                  </a:lnTo>
                  <a:cubicBezTo>
                    <a:pt x="126" y="8688"/>
                    <a:pt x="104" y="8711"/>
                    <a:pt x="77" y="8712"/>
                  </a:cubicBezTo>
                  <a:cubicBezTo>
                    <a:pt x="49" y="8712"/>
                    <a:pt x="26" y="8690"/>
                    <a:pt x="26" y="8663"/>
                  </a:cubicBezTo>
                  <a:close/>
                  <a:moveTo>
                    <a:pt x="25" y="8463"/>
                  </a:moveTo>
                  <a:lnTo>
                    <a:pt x="25" y="8462"/>
                  </a:lnTo>
                  <a:cubicBezTo>
                    <a:pt x="25" y="8435"/>
                    <a:pt x="46" y="8412"/>
                    <a:pt x="74" y="8412"/>
                  </a:cubicBezTo>
                  <a:cubicBezTo>
                    <a:pt x="102" y="8411"/>
                    <a:pt x="125" y="8433"/>
                    <a:pt x="125" y="8461"/>
                  </a:cubicBezTo>
                  <a:lnTo>
                    <a:pt x="125" y="8461"/>
                  </a:lnTo>
                  <a:cubicBezTo>
                    <a:pt x="126" y="8488"/>
                    <a:pt x="104" y="8511"/>
                    <a:pt x="76" y="8512"/>
                  </a:cubicBezTo>
                  <a:cubicBezTo>
                    <a:pt x="48" y="8512"/>
                    <a:pt x="26" y="8490"/>
                    <a:pt x="25" y="8463"/>
                  </a:cubicBezTo>
                  <a:close/>
                  <a:moveTo>
                    <a:pt x="24" y="8262"/>
                  </a:moveTo>
                  <a:lnTo>
                    <a:pt x="24" y="8262"/>
                  </a:lnTo>
                  <a:cubicBezTo>
                    <a:pt x="24" y="8235"/>
                    <a:pt x="46" y="8212"/>
                    <a:pt x="73" y="8211"/>
                  </a:cubicBezTo>
                  <a:cubicBezTo>
                    <a:pt x="101" y="8211"/>
                    <a:pt x="124" y="8233"/>
                    <a:pt x="124" y="8260"/>
                  </a:cubicBezTo>
                  <a:lnTo>
                    <a:pt x="124" y="8261"/>
                  </a:lnTo>
                  <a:cubicBezTo>
                    <a:pt x="125" y="8288"/>
                    <a:pt x="103" y="8311"/>
                    <a:pt x="75" y="8312"/>
                  </a:cubicBezTo>
                  <a:cubicBezTo>
                    <a:pt x="48" y="8312"/>
                    <a:pt x="25" y="8290"/>
                    <a:pt x="24" y="8262"/>
                  </a:cubicBezTo>
                  <a:close/>
                  <a:moveTo>
                    <a:pt x="24" y="8062"/>
                  </a:moveTo>
                  <a:lnTo>
                    <a:pt x="24" y="8062"/>
                  </a:lnTo>
                  <a:cubicBezTo>
                    <a:pt x="23" y="8035"/>
                    <a:pt x="45" y="8012"/>
                    <a:pt x="73" y="8011"/>
                  </a:cubicBezTo>
                  <a:cubicBezTo>
                    <a:pt x="100" y="8011"/>
                    <a:pt x="123" y="8033"/>
                    <a:pt x="124" y="8060"/>
                  </a:cubicBezTo>
                  <a:lnTo>
                    <a:pt x="124" y="8060"/>
                  </a:lnTo>
                  <a:cubicBezTo>
                    <a:pt x="124" y="8088"/>
                    <a:pt x="102" y="8111"/>
                    <a:pt x="75" y="8111"/>
                  </a:cubicBezTo>
                  <a:cubicBezTo>
                    <a:pt x="47" y="8112"/>
                    <a:pt x="24" y="8090"/>
                    <a:pt x="24" y="8062"/>
                  </a:cubicBezTo>
                  <a:close/>
                  <a:moveTo>
                    <a:pt x="23" y="7862"/>
                  </a:moveTo>
                  <a:lnTo>
                    <a:pt x="23" y="7862"/>
                  </a:lnTo>
                  <a:cubicBezTo>
                    <a:pt x="23" y="7835"/>
                    <a:pt x="45" y="7812"/>
                    <a:pt x="72" y="7811"/>
                  </a:cubicBezTo>
                  <a:cubicBezTo>
                    <a:pt x="100" y="7811"/>
                    <a:pt x="123" y="7833"/>
                    <a:pt x="123" y="7860"/>
                  </a:cubicBezTo>
                  <a:lnTo>
                    <a:pt x="123" y="7860"/>
                  </a:lnTo>
                  <a:cubicBezTo>
                    <a:pt x="124" y="7888"/>
                    <a:pt x="102" y="7911"/>
                    <a:pt x="74" y="7911"/>
                  </a:cubicBezTo>
                  <a:cubicBezTo>
                    <a:pt x="47" y="7912"/>
                    <a:pt x="24" y="7890"/>
                    <a:pt x="23" y="7862"/>
                  </a:cubicBezTo>
                  <a:close/>
                  <a:moveTo>
                    <a:pt x="23" y="7662"/>
                  </a:moveTo>
                  <a:lnTo>
                    <a:pt x="23" y="7662"/>
                  </a:lnTo>
                  <a:cubicBezTo>
                    <a:pt x="22" y="7634"/>
                    <a:pt x="44" y="7612"/>
                    <a:pt x="72" y="7611"/>
                  </a:cubicBezTo>
                  <a:cubicBezTo>
                    <a:pt x="99" y="7611"/>
                    <a:pt x="122" y="7633"/>
                    <a:pt x="123" y="7660"/>
                  </a:cubicBezTo>
                  <a:lnTo>
                    <a:pt x="123" y="7660"/>
                  </a:lnTo>
                  <a:cubicBezTo>
                    <a:pt x="123" y="7688"/>
                    <a:pt x="101" y="7711"/>
                    <a:pt x="74" y="7711"/>
                  </a:cubicBezTo>
                  <a:cubicBezTo>
                    <a:pt x="46" y="7712"/>
                    <a:pt x="23" y="7690"/>
                    <a:pt x="23" y="7662"/>
                  </a:cubicBezTo>
                  <a:close/>
                  <a:moveTo>
                    <a:pt x="22" y="7462"/>
                  </a:moveTo>
                  <a:lnTo>
                    <a:pt x="22" y="7462"/>
                  </a:lnTo>
                  <a:cubicBezTo>
                    <a:pt x="22" y="7434"/>
                    <a:pt x="43" y="7412"/>
                    <a:pt x="71" y="7411"/>
                  </a:cubicBezTo>
                  <a:cubicBezTo>
                    <a:pt x="99" y="7411"/>
                    <a:pt x="121" y="7432"/>
                    <a:pt x="122" y="7460"/>
                  </a:cubicBezTo>
                  <a:lnTo>
                    <a:pt x="122" y="7460"/>
                  </a:lnTo>
                  <a:cubicBezTo>
                    <a:pt x="123" y="7488"/>
                    <a:pt x="101" y="7511"/>
                    <a:pt x="73" y="7511"/>
                  </a:cubicBezTo>
                  <a:cubicBezTo>
                    <a:pt x="45" y="7512"/>
                    <a:pt x="23" y="7490"/>
                    <a:pt x="22" y="7462"/>
                  </a:cubicBezTo>
                  <a:close/>
                  <a:moveTo>
                    <a:pt x="21" y="7262"/>
                  </a:moveTo>
                  <a:lnTo>
                    <a:pt x="21" y="7262"/>
                  </a:lnTo>
                  <a:cubicBezTo>
                    <a:pt x="21" y="7234"/>
                    <a:pt x="43" y="7211"/>
                    <a:pt x="70" y="7211"/>
                  </a:cubicBezTo>
                  <a:cubicBezTo>
                    <a:pt x="98" y="7210"/>
                    <a:pt x="121" y="7232"/>
                    <a:pt x="121" y="7260"/>
                  </a:cubicBezTo>
                  <a:lnTo>
                    <a:pt x="121" y="7260"/>
                  </a:lnTo>
                  <a:cubicBezTo>
                    <a:pt x="122" y="7288"/>
                    <a:pt x="100" y="7310"/>
                    <a:pt x="72" y="7311"/>
                  </a:cubicBezTo>
                  <a:cubicBezTo>
                    <a:pt x="45" y="7312"/>
                    <a:pt x="22" y="7290"/>
                    <a:pt x="21" y="7262"/>
                  </a:cubicBezTo>
                  <a:close/>
                  <a:moveTo>
                    <a:pt x="21" y="7062"/>
                  </a:moveTo>
                  <a:lnTo>
                    <a:pt x="21" y="7062"/>
                  </a:lnTo>
                  <a:cubicBezTo>
                    <a:pt x="20" y="7034"/>
                    <a:pt x="42" y="7011"/>
                    <a:pt x="70" y="7011"/>
                  </a:cubicBezTo>
                  <a:cubicBezTo>
                    <a:pt x="97" y="7010"/>
                    <a:pt x="120" y="7032"/>
                    <a:pt x="121" y="7060"/>
                  </a:cubicBezTo>
                  <a:lnTo>
                    <a:pt x="121" y="7060"/>
                  </a:lnTo>
                  <a:cubicBezTo>
                    <a:pt x="121" y="7088"/>
                    <a:pt x="99" y="7110"/>
                    <a:pt x="72" y="7111"/>
                  </a:cubicBezTo>
                  <a:cubicBezTo>
                    <a:pt x="44" y="7111"/>
                    <a:pt x="21" y="7090"/>
                    <a:pt x="21" y="7062"/>
                  </a:cubicBezTo>
                  <a:close/>
                  <a:moveTo>
                    <a:pt x="20" y="6862"/>
                  </a:moveTo>
                  <a:lnTo>
                    <a:pt x="20" y="6862"/>
                  </a:lnTo>
                  <a:cubicBezTo>
                    <a:pt x="20" y="6834"/>
                    <a:pt x="42" y="6811"/>
                    <a:pt x="69" y="6811"/>
                  </a:cubicBezTo>
                  <a:cubicBezTo>
                    <a:pt x="97" y="6810"/>
                    <a:pt x="120" y="6832"/>
                    <a:pt x="120" y="6860"/>
                  </a:cubicBezTo>
                  <a:lnTo>
                    <a:pt x="120" y="6860"/>
                  </a:lnTo>
                  <a:cubicBezTo>
                    <a:pt x="121" y="6887"/>
                    <a:pt x="99" y="6910"/>
                    <a:pt x="71" y="6911"/>
                  </a:cubicBezTo>
                  <a:cubicBezTo>
                    <a:pt x="44" y="6911"/>
                    <a:pt x="21" y="6889"/>
                    <a:pt x="20" y="6862"/>
                  </a:cubicBezTo>
                  <a:close/>
                  <a:moveTo>
                    <a:pt x="20" y="6662"/>
                  </a:moveTo>
                  <a:lnTo>
                    <a:pt x="20" y="6662"/>
                  </a:lnTo>
                  <a:cubicBezTo>
                    <a:pt x="19" y="6634"/>
                    <a:pt x="41" y="6611"/>
                    <a:pt x="69" y="6611"/>
                  </a:cubicBezTo>
                  <a:cubicBezTo>
                    <a:pt x="96" y="6610"/>
                    <a:pt x="119" y="6632"/>
                    <a:pt x="120" y="6660"/>
                  </a:cubicBezTo>
                  <a:lnTo>
                    <a:pt x="120" y="6660"/>
                  </a:lnTo>
                  <a:cubicBezTo>
                    <a:pt x="120" y="6687"/>
                    <a:pt x="98" y="6710"/>
                    <a:pt x="71" y="6711"/>
                  </a:cubicBezTo>
                  <a:cubicBezTo>
                    <a:pt x="43" y="6711"/>
                    <a:pt x="20" y="6689"/>
                    <a:pt x="20" y="6662"/>
                  </a:cubicBezTo>
                  <a:close/>
                  <a:moveTo>
                    <a:pt x="19" y="6462"/>
                  </a:moveTo>
                  <a:lnTo>
                    <a:pt x="19" y="6462"/>
                  </a:lnTo>
                  <a:cubicBezTo>
                    <a:pt x="18" y="6434"/>
                    <a:pt x="40" y="6411"/>
                    <a:pt x="68" y="6411"/>
                  </a:cubicBezTo>
                  <a:cubicBezTo>
                    <a:pt x="96" y="6410"/>
                    <a:pt x="118" y="6432"/>
                    <a:pt x="119" y="6460"/>
                  </a:cubicBezTo>
                  <a:lnTo>
                    <a:pt x="119" y="6460"/>
                  </a:lnTo>
                  <a:cubicBezTo>
                    <a:pt x="120" y="6487"/>
                    <a:pt x="98" y="6510"/>
                    <a:pt x="70" y="6511"/>
                  </a:cubicBezTo>
                  <a:cubicBezTo>
                    <a:pt x="42" y="6511"/>
                    <a:pt x="20" y="6489"/>
                    <a:pt x="19" y="6462"/>
                  </a:cubicBezTo>
                  <a:close/>
                  <a:moveTo>
                    <a:pt x="18" y="6262"/>
                  </a:moveTo>
                  <a:lnTo>
                    <a:pt x="18" y="6261"/>
                  </a:lnTo>
                  <a:cubicBezTo>
                    <a:pt x="18" y="6234"/>
                    <a:pt x="40" y="6211"/>
                    <a:pt x="67" y="6210"/>
                  </a:cubicBezTo>
                  <a:cubicBezTo>
                    <a:pt x="95" y="6210"/>
                    <a:pt x="118" y="6232"/>
                    <a:pt x="118" y="6259"/>
                  </a:cubicBezTo>
                  <a:lnTo>
                    <a:pt x="118" y="6260"/>
                  </a:lnTo>
                  <a:cubicBezTo>
                    <a:pt x="119" y="6287"/>
                    <a:pt x="97" y="6310"/>
                    <a:pt x="69" y="6311"/>
                  </a:cubicBezTo>
                  <a:cubicBezTo>
                    <a:pt x="42" y="6311"/>
                    <a:pt x="19" y="6289"/>
                    <a:pt x="18" y="6262"/>
                  </a:cubicBezTo>
                  <a:close/>
                  <a:moveTo>
                    <a:pt x="18" y="6061"/>
                  </a:moveTo>
                  <a:lnTo>
                    <a:pt x="18" y="6061"/>
                  </a:lnTo>
                  <a:cubicBezTo>
                    <a:pt x="17" y="6034"/>
                    <a:pt x="39" y="6011"/>
                    <a:pt x="67" y="6010"/>
                  </a:cubicBezTo>
                  <a:cubicBezTo>
                    <a:pt x="94" y="6010"/>
                    <a:pt x="117" y="6032"/>
                    <a:pt x="118" y="6059"/>
                  </a:cubicBezTo>
                  <a:lnTo>
                    <a:pt x="118" y="6059"/>
                  </a:lnTo>
                  <a:cubicBezTo>
                    <a:pt x="118" y="6087"/>
                    <a:pt x="96" y="6110"/>
                    <a:pt x="69" y="6110"/>
                  </a:cubicBezTo>
                  <a:cubicBezTo>
                    <a:pt x="41" y="6111"/>
                    <a:pt x="18" y="6089"/>
                    <a:pt x="18" y="6061"/>
                  </a:cubicBezTo>
                  <a:close/>
                  <a:moveTo>
                    <a:pt x="17" y="5861"/>
                  </a:moveTo>
                  <a:lnTo>
                    <a:pt x="17" y="5861"/>
                  </a:lnTo>
                  <a:cubicBezTo>
                    <a:pt x="17" y="5834"/>
                    <a:pt x="39" y="5811"/>
                    <a:pt x="66" y="5810"/>
                  </a:cubicBezTo>
                  <a:cubicBezTo>
                    <a:pt x="94" y="5810"/>
                    <a:pt x="117" y="5832"/>
                    <a:pt x="117" y="5859"/>
                  </a:cubicBezTo>
                  <a:lnTo>
                    <a:pt x="117" y="5859"/>
                  </a:lnTo>
                  <a:cubicBezTo>
                    <a:pt x="118" y="5887"/>
                    <a:pt x="96" y="5910"/>
                    <a:pt x="68" y="5910"/>
                  </a:cubicBezTo>
                  <a:cubicBezTo>
                    <a:pt x="41" y="5911"/>
                    <a:pt x="18" y="5889"/>
                    <a:pt x="17" y="5861"/>
                  </a:cubicBezTo>
                  <a:close/>
                  <a:moveTo>
                    <a:pt x="17" y="5661"/>
                  </a:moveTo>
                  <a:lnTo>
                    <a:pt x="17" y="5661"/>
                  </a:lnTo>
                  <a:cubicBezTo>
                    <a:pt x="16" y="5634"/>
                    <a:pt x="38" y="5611"/>
                    <a:pt x="66" y="5610"/>
                  </a:cubicBezTo>
                  <a:cubicBezTo>
                    <a:pt x="93" y="5610"/>
                    <a:pt x="116" y="5632"/>
                    <a:pt x="117" y="5659"/>
                  </a:cubicBezTo>
                  <a:lnTo>
                    <a:pt x="117" y="5659"/>
                  </a:lnTo>
                  <a:cubicBezTo>
                    <a:pt x="117" y="5687"/>
                    <a:pt x="95" y="5710"/>
                    <a:pt x="68" y="5710"/>
                  </a:cubicBezTo>
                  <a:cubicBezTo>
                    <a:pt x="40" y="5711"/>
                    <a:pt x="17" y="5689"/>
                    <a:pt x="17" y="5661"/>
                  </a:cubicBezTo>
                  <a:close/>
                  <a:moveTo>
                    <a:pt x="16" y="5461"/>
                  </a:moveTo>
                  <a:lnTo>
                    <a:pt x="16" y="5461"/>
                  </a:lnTo>
                  <a:cubicBezTo>
                    <a:pt x="15" y="5433"/>
                    <a:pt x="37" y="5411"/>
                    <a:pt x="65" y="5410"/>
                  </a:cubicBezTo>
                  <a:cubicBezTo>
                    <a:pt x="93" y="5410"/>
                    <a:pt x="115" y="5431"/>
                    <a:pt x="116" y="5459"/>
                  </a:cubicBezTo>
                  <a:lnTo>
                    <a:pt x="116" y="5459"/>
                  </a:lnTo>
                  <a:cubicBezTo>
                    <a:pt x="117" y="5487"/>
                    <a:pt x="95" y="5510"/>
                    <a:pt x="67" y="5510"/>
                  </a:cubicBezTo>
                  <a:cubicBezTo>
                    <a:pt x="39" y="5511"/>
                    <a:pt x="17" y="5489"/>
                    <a:pt x="16" y="5461"/>
                  </a:cubicBezTo>
                  <a:close/>
                  <a:moveTo>
                    <a:pt x="15" y="5261"/>
                  </a:moveTo>
                  <a:lnTo>
                    <a:pt x="15" y="5261"/>
                  </a:lnTo>
                  <a:cubicBezTo>
                    <a:pt x="15" y="5233"/>
                    <a:pt x="37" y="5210"/>
                    <a:pt x="64" y="5210"/>
                  </a:cubicBezTo>
                  <a:cubicBezTo>
                    <a:pt x="92" y="5209"/>
                    <a:pt x="115" y="5231"/>
                    <a:pt x="115" y="5259"/>
                  </a:cubicBezTo>
                  <a:lnTo>
                    <a:pt x="115" y="5259"/>
                  </a:lnTo>
                  <a:cubicBezTo>
                    <a:pt x="116" y="5287"/>
                    <a:pt x="94" y="5309"/>
                    <a:pt x="66" y="5310"/>
                  </a:cubicBezTo>
                  <a:cubicBezTo>
                    <a:pt x="39" y="5311"/>
                    <a:pt x="16" y="5289"/>
                    <a:pt x="15" y="5261"/>
                  </a:cubicBezTo>
                  <a:close/>
                  <a:moveTo>
                    <a:pt x="15" y="5061"/>
                  </a:moveTo>
                  <a:lnTo>
                    <a:pt x="15" y="5061"/>
                  </a:lnTo>
                  <a:cubicBezTo>
                    <a:pt x="14" y="5033"/>
                    <a:pt x="36" y="5010"/>
                    <a:pt x="64" y="5010"/>
                  </a:cubicBezTo>
                  <a:cubicBezTo>
                    <a:pt x="91" y="5009"/>
                    <a:pt x="114" y="5031"/>
                    <a:pt x="115" y="5059"/>
                  </a:cubicBezTo>
                  <a:lnTo>
                    <a:pt x="115" y="5059"/>
                  </a:lnTo>
                  <a:cubicBezTo>
                    <a:pt x="115" y="5087"/>
                    <a:pt x="93" y="5109"/>
                    <a:pt x="66" y="5110"/>
                  </a:cubicBezTo>
                  <a:cubicBezTo>
                    <a:pt x="38" y="5110"/>
                    <a:pt x="15" y="5089"/>
                    <a:pt x="15" y="5061"/>
                  </a:cubicBezTo>
                  <a:close/>
                  <a:moveTo>
                    <a:pt x="14" y="4861"/>
                  </a:moveTo>
                  <a:lnTo>
                    <a:pt x="14" y="4861"/>
                  </a:lnTo>
                  <a:cubicBezTo>
                    <a:pt x="14" y="4833"/>
                    <a:pt x="36" y="4810"/>
                    <a:pt x="63" y="4810"/>
                  </a:cubicBezTo>
                  <a:cubicBezTo>
                    <a:pt x="91" y="4809"/>
                    <a:pt x="114" y="4831"/>
                    <a:pt x="114" y="4859"/>
                  </a:cubicBezTo>
                  <a:lnTo>
                    <a:pt x="114" y="4859"/>
                  </a:lnTo>
                  <a:cubicBezTo>
                    <a:pt x="115" y="4886"/>
                    <a:pt x="93" y="4909"/>
                    <a:pt x="65" y="4910"/>
                  </a:cubicBezTo>
                  <a:cubicBezTo>
                    <a:pt x="38" y="4910"/>
                    <a:pt x="15" y="4888"/>
                    <a:pt x="14" y="4861"/>
                  </a:cubicBezTo>
                  <a:close/>
                  <a:moveTo>
                    <a:pt x="14" y="4661"/>
                  </a:moveTo>
                  <a:lnTo>
                    <a:pt x="14" y="4661"/>
                  </a:lnTo>
                  <a:cubicBezTo>
                    <a:pt x="13" y="4633"/>
                    <a:pt x="35" y="4610"/>
                    <a:pt x="63" y="4610"/>
                  </a:cubicBezTo>
                  <a:cubicBezTo>
                    <a:pt x="90" y="4609"/>
                    <a:pt x="113" y="4631"/>
                    <a:pt x="114" y="4659"/>
                  </a:cubicBezTo>
                  <a:lnTo>
                    <a:pt x="114" y="4659"/>
                  </a:lnTo>
                  <a:cubicBezTo>
                    <a:pt x="114" y="4686"/>
                    <a:pt x="92" y="4709"/>
                    <a:pt x="65" y="4710"/>
                  </a:cubicBezTo>
                  <a:cubicBezTo>
                    <a:pt x="37" y="4710"/>
                    <a:pt x="14" y="4688"/>
                    <a:pt x="14" y="4661"/>
                  </a:cubicBezTo>
                  <a:close/>
                  <a:moveTo>
                    <a:pt x="13" y="4461"/>
                  </a:moveTo>
                  <a:lnTo>
                    <a:pt x="13" y="4461"/>
                  </a:lnTo>
                  <a:cubicBezTo>
                    <a:pt x="12" y="4433"/>
                    <a:pt x="34" y="4410"/>
                    <a:pt x="62" y="4410"/>
                  </a:cubicBezTo>
                  <a:cubicBezTo>
                    <a:pt x="90" y="4409"/>
                    <a:pt x="112" y="4431"/>
                    <a:pt x="113" y="4459"/>
                  </a:cubicBezTo>
                  <a:lnTo>
                    <a:pt x="113" y="4459"/>
                  </a:lnTo>
                  <a:cubicBezTo>
                    <a:pt x="113" y="4486"/>
                    <a:pt x="92" y="4509"/>
                    <a:pt x="64" y="4510"/>
                  </a:cubicBezTo>
                  <a:cubicBezTo>
                    <a:pt x="36" y="4510"/>
                    <a:pt x="14" y="4488"/>
                    <a:pt x="13" y="4461"/>
                  </a:cubicBezTo>
                  <a:close/>
                  <a:moveTo>
                    <a:pt x="12" y="4261"/>
                  </a:moveTo>
                  <a:lnTo>
                    <a:pt x="12" y="4260"/>
                  </a:lnTo>
                  <a:cubicBezTo>
                    <a:pt x="12" y="4233"/>
                    <a:pt x="34" y="4210"/>
                    <a:pt x="61" y="4209"/>
                  </a:cubicBezTo>
                  <a:cubicBezTo>
                    <a:pt x="89" y="4209"/>
                    <a:pt x="112" y="4231"/>
                    <a:pt x="112" y="4258"/>
                  </a:cubicBezTo>
                  <a:lnTo>
                    <a:pt x="112" y="4259"/>
                  </a:lnTo>
                  <a:cubicBezTo>
                    <a:pt x="113" y="4286"/>
                    <a:pt x="91" y="4309"/>
                    <a:pt x="63" y="4310"/>
                  </a:cubicBezTo>
                  <a:cubicBezTo>
                    <a:pt x="36" y="4310"/>
                    <a:pt x="13" y="4288"/>
                    <a:pt x="12" y="4261"/>
                  </a:cubicBezTo>
                  <a:close/>
                  <a:moveTo>
                    <a:pt x="12" y="4060"/>
                  </a:moveTo>
                  <a:lnTo>
                    <a:pt x="12" y="4060"/>
                  </a:lnTo>
                  <a:cubicBezTo>
                    <a:pt x="11" y="4033"/>
                    <a:pt x="33" y="4010"/>
                    <a:pt x="61" y="4009"/>
                  </a:cubicBezTo>
                  <a:cubicBezTo>
                    <a:pt x="88" y="4009"/>
                    <a:pt x="111" y="4031"/>
                    <a:pt x="112" y="4058"/>
                  </a:cubicBezTo>
                  <a:lnTo>
                    <a:pt x="112" y="4058"/>
                  </a:lnTo>
                  <a:cubicBezTo>
                    <a:pt x="112" y="4086"/>
                    <a:pt x="90" y="4109"/>
                    <a:pt x="63" y="4109"/>
                  </a:cubicBezTo>
                  <a:cubicBezTo>
                    <a:pt x="35" y="4110"/>
                    <a:pt x="12" y="4088"/>
                    <a:pt x="12" y="4060"/>
                  </a:cubicBezTo>
                  <a:close/>
                  <a:moveTo>
                    <a:pt x="11" y="3860"/>
                  </a:moveTo>
                  <a:lnTo>
                    <a:pt x="11" y="3860"/>
                  </a:lnTo>
                  <a:cubicBezTo>
                    <a:pt x="11" y="3833"/>
                    <a:pt x="33" y="3810"/>
                    <a:pt x="60" y="3809"/>
                  </a:cubicBezTo>
                  <a:cubicBezTo>
                    <a:pt x="88" y="3809"/>
                    <a:pt x="111" y="3831"/>
                    <a:pt x="111" y="3858"/>
                  </a:cubicBezTo>
                  <a:lnTo>
                    <a:pt x="111" y="3858"/>
                  </a:lnTo>
                  <a:cubicBezTo>
                    <a:pt x="112" y="3886"/>
                    <a:pt x="90" y="3909"/>
                    <a:pt x="62" y="3909"/>
                  </a:cubicBezTo>
                  <a:cubicBezTo>
                    <a:pt x="35" y="3910"/>
                    <a:pt x="12" y="3888"/>
                    <a:pt x="11" y="3860"/>
                  </a:cubicBezTo>
                  <a:close/>
                  <a:moveTo>
                    <a:pt x="11" y="3660"/>
                  </a:moveTo>
                  <a:lnTo>
                    <a:pt x="11" y="3660"/>
                  </a:lnTo>
                  <a:cubicBezTo>
                    <a:pt x="10" y="3633"/>
                    <a:pt x="32" y="3610"/>
                    <a:pt x="60" y="3609"/>
                  </a:cubicBezTo>
                  <a:cubicBezTo>
                    <a:pt x="87" y="3609"/>
                    <a:pt x="110" y="3631"/>
                    <a:pt x="111" y="3658"/>
                  </a:cubicBezTo>
                  <a:lnTo>
                    <a:pt x="111" y="3658"/>
                  </a:lnTo>
                  <a:cubicBezTo>
                    <a:pt x="111" y="3686"/>
                    <a:pt x="89" y="3709"/>
                    <a:pt x="62" y="3709"/>
                  </a:cubicBezTo>
                  <a:cubicBezTo>
                    <a:pt x="34" y="3710"/>
                    <a:pt x="11" y="3688"/>
                    <a:pt x="11" y="3660"/>
                  </a:cubicBezTo>
                  <a:close/>
                  <a:moveTo>
                    <a:pt x="10" y="3460"/>
                  </a:moveTo>
                  <a:lnTo>
                    <a:pt x="10" y="3460"/>
                  </a:lnTo>
                  <a:cubicBezTo>
                    <a:pt x="9" y="3432"/>
                    <a:pt x="31" y="3410"/>
                    <a:pt x="59" y="3409"/>
                  </a:cubicBezTo>
                  <a:cubicBezTo>
                    <a:pt x="87" y="3409"/>
                    <a:pt x="109" y="3430"/>
                    <a:pt x="110" y="3458"/>
                  </a:cubicBezTo>
                  <a:lnTo>
                    <a:pt x="110" y="3458"/>
                  </a:lnTo>
                  <a:cubicBezTo>
                    <a:pt x="110" y="3486"/>
                    <a:pt x="89" y="3509"/>
                    <a:pt x="61" y="3509"/>
                  </a:cubicBezTo>
                  <a:cubicBezTo>
                    <a:pt x="33" y="3510"/>
                    <a:pt x="10" y="3488"/>
                    <a:pt x="10" y="3460"/>
                  </a:cubicBezTo>
                  <a:close/>
                  <a:moveTo>
                    <a:pt x="9" y="3260"/>
                  </a:moveTo>
                  <a:lnTo>
                    <a:pt x="9" y="3260"/>
                  </a:lnTo>
                  <a:cubicBezTo>
                    <a:pt x="9" y="3232"/>
                    <a:pt x="31" y="3210"/>
                    <a:pt x="58" y="3209"/>
                  </a:cubicBezTo>
                  <a:cubicBezTo>
                    <a:pt x="86" y="3208"/>
                    <a:pt x="109" y="3230"/>
                    <a:pt x="109" y="3258"/>
                  </a:cubicBezTo>
                  <a:lnTo>
                    <a:pt x="109" y="3258"/>
                  </a:lnTo>
                  <a:cubicBezTo>
                    <a:pt x="110" y="3286"/>
                    <a:pt x="88" y="3309"/>
                    <a:pt x="60" y="3309"/>
                  </a:cubicBezTo>
                  <a:cubicBezTo>
                    <a:pt x="33" y="3310"/>
                    <a:pt x="10" y="3288"/>
                    <a:pt x="9" y="3260"/>
                  </a:cubicBezTo>
                  <a:close/>
                  <a:moveTo>
                    <a:pt x="9" y="3060"/>
                  </a:moveTo>
                  <a:lnTo>
                    <a:pt x="9" y="3060"/>
                  </a:lnTo>
                  <a:cubicBezTo>
                    <a:pt x="8" y="3032"/>
                    <a:pt x="30" y="3009"/>
                    <a:pt x="58" y="3009"/>
                  </a:cubicBezTo>
                  <a:cubicBezTo>
                    <a:pt x="85" y="3008"/>
                    <a:pt x="108" y="3030"/>
                    <a:pt x="109" y="3058"/>
                  </a:cubicBezTo>
                  <a:lnTo>
                    <a:pt x="109" y="3058"/>
                  </a:lnTo>
                  <a:cubicBezTo>
                    <a:pt x="109" y="3086"/>
                    <a:pt x="87" y="3108"/>
                    <a:pt x="60" y="3109"/>
                  </a:cubicBezTo>
                  <a:cubicBezTo>
                    <a:pt x="32" y="3109"/>
                    <a:pt x="9" y="3088"/>
                    <a:pt x="9" y="3060"/>
                  </a:cubicBezTo>
                  <a:close/>
                  <a:moveTo>
                    <a:pt x="8" y="2860"/>
                  </a:moveTo>
                  <a:lnTo>
                    <a:pt x="8" y="2860"/>
                  </a:lnTo>
                  <a:cubicBezTo>
                    <a:pt x="8" y="2832"/>
                    <a:pt x="30" y="2809"/>
                    <a:pt x="57" y="2809"/>
                  </a:cubicBezTo>
                  <a:cubicBezTo>
                    <a:pt x="85" y="2808"/>
                    <a:pt x="108" y="2830"/>
                    <a:pt x="108" y="2858"/>
                  </a:cubicBezTo>
                  <a:lnTo>
                    <a:pt x="108" y="2858"/>
                  </a:lnTo>
                  <a:cubicBezTo>
                    <a:pt x="109" y="2886"/>
                    <a:pt x="87" y="2908"/>
                    <a:pt x="59" y="2909"/>
                  </a:cubicBezTo>
                  <a:cubicBezTo>
                    <a:pt x="32" y="2909"/>
                    <a:pt x="9" y="2887"/>
                    <a:pt x="8" y="2860"/>
                  </a:cubicBezTo>
                  <a:close/>
                  <a:moveTo>
                    <a:pt x="8" y="2660"/>
                  </a:moveTo>
                  <a:lnTo>
                    <a:pt x="8" y="2660"/>
                  </a:lnTo>
                  <a:cubicBezTo>
                    <a:pt x="7" y="2632"/>
                    <a:pt x="29" y="2609"/>
                    <a:pt x="57" y="2609"/>
                  </a:cubicBezTo>
                  <a:cubicBezTo>
                    <a:pt x="84" y="2608"/>
                    <a:pt x="107" y="2630"/>
                    <a:pt x="108" y="2658"/>
                  </a:cubicBezTo>
                  <a:lnTo>
                    <a:pt x="108" y="2658"/>
                  </a:lnTo>
                  <a:cubicBezTo>
                    <a:pt x="108" y="2685"/>
                    <a:pt x="86" y="2708"/>
                    <a:pt x="59" y="2709"/>
                  </a:cubicBezTo>
                  <a:cubicBezTo>
                    <a:pt x="31" y="2709"/>
                    <a:pt x="8" y="2687"/>
                    <a:pt x="8" y="2660"/>
                  </a:cubicBezTo>
                  <a:close/>
                  <a:moveTo>
                    <a:pt x="7" y="2460"/>
                  </a:moveTo>
                  <a:lnTo>
                    <a:pt x="7" y="2460"/>
                  </a:lnTo>
                  <a:cubicBezTo>
                    <a:pt x="6" y="2432"/>
                    <a:pt x="28" y="2409"/>
                    <a:pt x="56" y="2409"/>
                  </a:cubicBezTo>
                  <a:cubicBezTo>
                    <a:pt x="84" y="2408"/>
                    <a:pt x="106" y="2430"/>
                    <a:pt x="107" y="2458"/>
                  </a:cubicBezTo>
                  <a:lnTo>
                    <a:pt x="107" y="2458"/>
                  </a:lnTo>
                  <a:cubicBezTo>
                    <a:pt x="107" y="2485"/>
                    <a:pt x="86" y="2508"/>
                    <a:pt x="58" y="2509"/>
                  </a:cubicBezTo>
                  <a:cubicBezTo>
                    <a:pt x="30" y="2509"/>
                    <a:pt x="7" y="2487"/>
                    <a:pt x="7" y="2460"/>
                  </a:cubicBezTo>
                  <a:close/>
                  <a:moveTo>
                    <a:pt x="6" y="2260"/>
                  </a:moveTo>
                  <a:lnTo>
                    <a:pt x="6" y="2259"/>
                  </a:lnTo>
                  <a:cubicBezTo>
                    <a:pt x="6" y="2232"/>
                    <a:pt x="28" y="2209"/>
                    <a:pt x="55" y="2208"/>
                  </a:cubicBezTo>
                  <a:cubicBezTo>
                    <a:pt x="83" y="2208"/>
                    <a:pt x="106" y="2230"/>
                    <a:pt x="106" y="2258"/>
                  </a:cubicBezTo>
                  <a:lnTo>
                    <a:pt x="106" y="2258"/>
                  </a:lnTo>
                  <a:cubicBezTo>
                    <a:pt x="107" y="2285"/>
                    <a:pt x="85" y="2308"/>
                    <a:pt x="57" y="2309"/>
                  </a:cubicBezTo>
                  <a:cubicBezTo>
                    <a:pt x="30" y="2309"/>
                    <a:pt x="7" y="2287"/>
                    <a:pt x="6" y="2260"/>
                  </a:cubicBezTo>
                  <a:close/>
                  <a:moveTo>
                    <a:pt x="6" y="2059"/>
                  </a:moveTo>
                  <a:lnTo>
                    <a:pt x="6" y="2059"/>
                  </a:lnTo>
                  <a:cubicBezTo>
                    <a:pt x="5" y="2032"/>
                    <a:pt x="27" y="2009"/>
                    <a:pt x="55" y="2008"/>
                  </a:cubicBezTo>
                  <a:cubicBezTo>
                    <a:pt x="82" y="2008"/>
                    <a:pt x="105" y="2030"/>
                    <a:pt x="106" y="2057"/>
                  </a:cubicBezTo>
                  <a:lnTo>
                    <a:pt x="106" y="2058"/>
                  </a:lnTo>
                  <a:cubicBezTo>
                    <a:pt x="106" y="2085"/>
                    <a:pt x="84" y="2108"/>
                    <a:pt x="57" y="2108"/>
                  </a:cubicBezTo>
                  <a:cubicBezTo>
                    <a:pt x="29" y="2109"/>
                    <a:pt x="6" y="2087"/>
                    <a:pt x="6" y="2059"/>
                  </a:cubicBezTo>
                  <a:close/>
                  <a:moveTo>
                    <a:pt x="5" y="1859"/>
                  </a:moveTo>
                  <a:lnTo>
                    <a:pt x="5" y="1859"/>
                  </a:lnTo>
                  <a:cubicBezTo>
                    <a:pt x="5" y="1832"/>
                    <a:pt x="27" y="1809"/>
                    <a:pt x="54" y="1808"/>
                  </a:cubicBezTo>
                  <a:cubicBezTo>
                    <a:pt x="82" y="1808"/>
                    <a:pt x="105" y="1830"/>
                    <a:pt x="105" y="1857"/>
                  </a:cubicBezTo>
                  <a:lnTo>
                    <a:pt x="105" y="1857"/>
                  </a:lnTo>
                  <a:cubicBezTo>
                    <a:pt x="106" y="1885"/>
                    <a:pt x="84" y="1908"/>
                    <a:pt x="56" y="1908"/>
                  </a:cubicBezTo>
                  <a:cubicBezTo>
                    <a:pt x="28" y="1909"/>
                    <a:pt x="6" y="1887"/>
                    <a:pt x="5" y="1859"/>
                  </a:cubicBezTo>
                  <a:close/>
                  <a:moveTo>
                    <a:pt x="5" y="1659"/>
                  </a:moveTo>
                  <a:lnTo>
                    <a:pt x="5" y="1659"/>
                  </a:lnTo>
                  <a:cubicBezTo>
                    <a:pt x="4" y="1632"/>
                    <a:pt x="26" y="1609"/>
                    <a:pt x="54" y="1608"/>
                  </a:cubicBezTo>
                  <a:cubicBezTo>
                    <a:pt x="81" y="1608"/>
                    <a:pt x="104" y="1630"/>
                    <a:pt x="105" y="1657"/>
                  </a:cubicBezTo>
                  <a:lnTo>
                    <a:pt x="105" y="1657"/>
                  </a:lnTo>
                  <a:cubicBezTo>
                    <a:pt x="105" y="1685"/>
                    <a:pt x="83" y="1708"/>
                    <a:pt x="56" y="1708"/>
                  </a:cubicBezTo>
                  <a:cubicBezTo>
                    <a:pt x="28" y="1709"/>
                    <a:pt x="5" y="1687"/>
                    <a:pt x="5" y="1659"/>
                  </a:cubicBezTo>
                  <a:close/>
                  <a:moveTo>
                    <a:pt x="4" y="1459"/>
                  </a:moveTo>
                  <a:lnTo>
                    <a:pt x="4" y="1459"/>
                  </a:lnTo>
                  <a:cubicBezTo>
                    <a:pt x="3" y="1431"/>
                    <a:pt x="25" y="1409"/>
                    <a:pt x="53" y="1408"/>
                  </a:cubicBezTo>
                  <a:cubicBezTo>
                    <a:pt x="81" y="1408"/>
                    <a:pt x="103" y="1430"/>
                    <a:pt x="104" y="1457"/>
                  </a:cubicBezTo>
                  <a:lnTo>
                    <a:pt x="104" y="1457"/>
                  </a:lnTo>
                  <a:cubicBezTo>
                    <a:pt x="104" y="1485"/>
                    <a:pt x="83" y="1508"/>
                    <a:pt x="55" y="1508"/>
                  </a:cubicBezTo>
                  <a:cubicBezTo>
                    <a:pt x="27" y="1509"/>
                    <a:pt x="4" y="1487"/>
                    <a:pt x="4" y="1459"/>
                  </a:cubicBezTo>
                  <a:close/>
                  <a:moveTo>
                    <a:pt x="3" y="1259"/>
                  </a:moveTo>
                  <a:lnTo>
                    <a:pt x="3" y="1259"/>
                  </a:lnTo>
                  <a:cubicBezTo>
                    <a:pt x="3" y="1231"/>
                    <a:pt x="25" y="1209"/>
                    <a:pt x="52" y="1208"/>
                  </a:cubicBezTo>
                  <a:cubicBezTo>
                    <a:pt x="80" y="1207"/>
                    <a:pt x="103" y="1229"/>
                    <a:pt x="103" y="1257"/>
                  </a:cubicBezTo>
                  <a:lnTo>
                    <a:pt x="103" y="1257"/>
                  </a:lnTo>
                  <a:cubicBezTo>
                    <a:pt x="104" y="1285"/>
                    <a:pt x="82" y="1308"/>
                    <a:pt x="54" y="1308"/>
                  </a:cubicBezTo>
                  <a:cubicBezTo>
                    <a:pt x="27" y="1309"/>
                    <a:pt x="4" y="1287"/>
                    <a:pt x="3" y="1259"/>
                  </a:cubicBezTo>
                  <a:close/>
                  <a:moveTo>
                    <a:pt x="3" y="1059"/>
                  </a:moveTo>
                  <a:lnTo>
                    <a:pt x="3" y="1059"/>
                  </a:lnTo>
                  <a:cubicBezTo>
                    <a:pt x="2" y="1031"/>
                    <a:pt x="24" y="1008"/>
                    <a:pt x="52" y="1008"/>
                  </a:cubicBezTo>
                  <a:cubicBezTo>
                    <a:pt x="79" y="1007"/>
                    <a:pt x="102" y="1029"/>
                    <a:pt x="103" y="1057"/>
                  </a:cubicBezTo>
                  <a:lnTo>
                    <a:pt x="103" y="1057"/>
                  </a:lnTo>
                  <a:cubicBezTo>
                    <a:pt x="103" y="1085"/>
                    <a:pt x="81" y="1107"/>
                    <a:pt x="54" y="1108"/>
                  </a:cubicBezTo>
                  <a:cubicBezTo>
                    <a:pt x="26" y="1109"/>
                    <a:pt x="3" y="1087"/>
                    <a:pt x="3" y="1059"/>
                  </a:cubicBezTo>
                  <a:close/>
                  <a:moveTo>
                    <a:pt x="2" y="859"/>
                  </a:moveTo>
                  <a:lnTo>
                    <a:pt x="2" y="859"/>
                  </a:lnTo>
                  <a:cubicBezTo>
                    <a:pt x="2" y="831"/>
                    <a:pt x="24" y="808"/>
                    <a:pt x="51" y="808"/>
                  </a:cubicBezTo>
                  <a:cubicBezTo>
                    <a:pt x="79" y="807"/>
                    <a:pt x="102" y="829"/>
                    <a:pt x="102" y="857"/>
                  </a:cubicBezTo>
                  <a:lnTo>
                    <a:pt x="102" y="857"/>
                  </a:lnTo>
                  <a:cubicBezTo>
                    <a:pt x="103" y="885"/>
                    <a:pt x="81" y="907"/>
                    <a:pt x="53" y="908"/>
                  </a:cubicBezTo>
                  <a:cubicBezTo>
                    <a:pt x="25" y="908"/>
                    <a:pt x="3" y="886"/>
                    <a:pt x="2" y="859"/>
                  </a:cubicBezTo>
                  <a:close/>
                  <a:moveTo>
                    <a:pt x="2" y="659"/>
                  </a:moveTo>
                  <a:lnTo>
                    <a:pt x="2" y="659"/>
                  </a:lnTo>
                  <a:cubicBezTo>
                    <a:pt x="1" y="631"/>
                    <a:pt x="23" y="608"/>
                    <a:pt x="51" y="608"/>
                  </a:cubicBezTo>
                  <a:cubicBezTo>
                    <a:pt x="78" y="607"/>
                    <a:pt x="101" y="629"/>
                    <a:pt x="102" y="657"/>
                  </a:cubicBezTo>
                  <a:lnTo>
                    <a:pt x="102" y="657"/>
                  </a:lnTo>
                  <a:cubicBezTo>
                    <a:pt x="102" y="684"/>
                    <a:pt x="80" y="707"/>
                    <a:pt x="53" y="708"/>
                  </a:cubicBezTo>
                  <a:cubicBezTo>
                    <a:pt x="25" y="708"/>
                    <a:pt x="2" y="686"/>
                    <a:pt x="2" y="659"/>
                  </a:cubicBezTo>
                  <a:close/>
                  <a:moveTo>
                    <a:pt x="1" y="459"/>
                  </a:moveTo>
                  <a:lnTo>
                    <a:pt x="1" y="459"/>
                  </a:lnTo>
                  <a:cubicBezTo>
                    <a:pt x="0" y="431"/>
                    <a:pt x="22" y="408"/>
                    <a:pt x="50" y="408"/>
                  </a:cubicBezTo>
                  <a:cubicBezTo>
                    <a:pt x="78" y="407"/>
                    <a:pt x="100" y="429"/>
                    <a:pt x="101" y="457"/>
                  </a:cubicBezTo>
                  <a:lnTo>
                    <a:pt x="101" y="457"/>
                  </a:lnTo>
                  <a:cubicBezTo>
                    <a:pt x="101" y="484"/>
                    <a:pt x="80" y="507"/>
                    <a:pt x="52" y="508"/>
                  </a:cubicBezTo>
                  <a:cubicBezTo>
                    <a:pt x="24" y="508"/>
                    <a:pt x="1" y="486"/>
                    <a:pt x="1" y="459"/>
                  </a:cubicBezTo>
                  <a:close/>
                  <a:moveTo>
                    <a:pt x="93" y="250"/>
                  </a:moveTo>
                  <a:lnTo>
                    <a:pt x="93" y="250"/>
                  </a:lnTo>
                  <a:cubicBezTo>
                    <a:pt x="121" y="251"/>
                    <a:pt x="143" y="273"/>
                    <a:pt x="143" y="301"/>
                  </a:cubicBezTo>
                  <a:cubicBezTo>
                    <a:pt x="142" y="328"/>
                    <a:pt x="120" y="351"/>
                    <a:pt x="92" y="350"/>
                  </a:cubicBezTo>
                  <a:lnTo>
                    <a:pt x="92" y="350"/>
                  </a:lnTo>
                  <a:cubicBezTo>
                    <a:pt x="65" y="350"/>
                    <a:pt x="42" y="327"/>
                    <a:pt x="43" y="300"/>
                  </a:cubicBezTo>
                  <a:cubicBezTo>
                    <a:pt x="43" y="272"/>
                    <a:pt x="66" y="250"/>
                    <a:pt x="93" y="250"/>
                  </a:cubicBezTo>
                  <a:close/>
                  <a:moveTo>
                    <a:pt x="293" y="253"/>
                  </a:moveTo>
                  <a:lnTo>
                    <a:pt x="293" y="253"/>
                  </a:lnTo>
                  <a:cubicBezTo>
                    <a:pt x="321" y="253"/>
                    <a:pt x="343" y="276"/>
                    <a:pt x="343" y="303"/>
                  </a:cubicBezTo>
                  <a:cubicBezTo>
                    <a:pt x="343" y="331"/>
                    <a:pt x="320" y="353"/>
                    <a:pt x="292" y="353"/>
                  </a:cubicBezTo>
                  <a:lnTo>
                    <a:pt x="292" y="353"/>
                  </a:lnTo>
                  <a:cubicBezTo>
                    <a:pt x="265" y="353"/>
                    <a:pt x="242" y="330"/>
                    <a:pt x="243" y="302"/>
                  </a:cubicBezTo>
                  <a:cubicBezTo>
                    <a:pt x="243" y="275"/>
                    <a:pt x="266" y="253"/>
                    <a:pt x="293" y="253"/>
                  </a:cubicBezTo>
                  <a:close/>
                  <a:moveTo>
                    <a:pt x="493" y="255"/>
                  </a:moveTo>
                  <a:lnTo>
                    <a:pt x="493" y="255"/>
                  </a:lnTo>
                  <a:cubicBezTo>
                    <a:pt x="521" y="256"/>
                    <a:pt x="543" y="278"/>
                    <a:pt x="543" y="306"/>
                  </a:cubicBezTo>
                  <a:cubicBezTo>
                    <a:pt x="543" y="334"/>
                    <a:pt x="520" y="356"/>
                    <a:pt x="492" y="355"/>
                  </a:cubicBezTo>
                  <a:lnTo>
                    <a:pt x="492" y="355"/>
                  </a:lnTo>
                  <a:cubicBezTo>
                    <a:pt x="465" y="355"/>
                    <a:pt x="443" y="333"/>
                    <a:pt x="443" y="305"/>
                  </a:cubicBezTo>
                  <a:cubicBezTo>
                    <a:pt x="443" y="277"/>
                    <a:pt x="466" y="255"/>
                    <a:pt x="493" y="255"/>
                  </a:cubicBezTo>
                  <a:close/>
                  <a:moveTo>
                    <a:pt x="693" y="258"/>
                  </a:moveTo>
                  <a:lnTo>
                    <a:pt x="693" y="258"/>
                  </a:lnTo>
                  <a:cubicBezTo>
                    <a:pt x="721" y="258"/>
                    <a:pt x="743" y="281"/>
                    <a:pt x="743" y="309"/>
                  </a:cubicBezTo>
                  <a:cubicBezTo>
                    <a:pt x="743" y="336"/>
                    <a:pt x="720" y="358"/>
                    <a:pt x="693" y="358"/>
                  </a:cubicBezTo>
                  <a:lnTo>
                    <a:pt x="692" y="358"/>
                  </a:lnTo>
                  <a:cubicBezTo>
                    <a:pt x="665" y="358"/>
                    <a:pt x="643" y="335"/>
                    <a:pt x="643" y="308"/>
                  </a:cubicBezTo>
                  <a:cubicBezTo>
                    <a:pt x="643" y="280"/>
                    <a:pt x="666" y="258"/>
                    <a:pt x="693" y="258"/>
                  </a:cubicBezTo>
                  <a:close/>
                  <a:moveTo>
                    <a:pt x="893" y="261"/>
                  </a:moveTo>
                  <a:lnTo>
                    <a:pt x="894" y="261"/>
                  </a:lnTo>
                  <a:cubicBezTo>
                    <a:pt x="921" y="261"/>
                    <a:pt x="943" y="283"/>
                    <a:pt x="943" y="311"/>
                  </a:cubicBezTo>
                  <a:cubicBezTo>
                    <a:pt x="943" y="339"/>
                    <a:pt x="920" y="361"/>
                    <a:pt x="893" y="361"/>
                  </a:cubicBezTo>
                  <a:lnTo>
                    <a:pt x="892" y="361"/>
                  </a:lnTo>
                  <a:cubicBezTo>
                    <a:pt x="865" y="360"/>
                    <a:pt x="843" y="338"/>
                    <a:pt x="843" y="310"/>
                  </a:cubicBezTo>
                  <a:cubicBezTo>
                    <a:pt x="843" y="282"/>
                    <a:pt x="866" y="260"/>
                    <a:pt x="893" y="261"/>
                  </a:cubicBezTo>
                  <a:close/>
                  <a:moveTo>
                    <a:pt x="1094" y="263"/>
                  </a:moveTo>
                  <a:lnTo>
                    <a:pt x="1094" y="263"/>
                  </a:lnTo>
                  <a:cubicBezTo>
                    <a:pt x="1121" y="263"/>
                    <a:pt x="1143" y="286"/>
                    <a:pt x="1143" y="314"/>
                  </a:cubicBezTo>
                  <a:cubicBezTo>
                    <a:pt x="1143" y="341"/>
                    <a:pt x="1120" y="363"/>
                    <a:pt x="1093" y="363"/>
                  </a:cubicBezTo>
                  <a:lnTo>
                    <a:pt x="1093" y="363"/>
                  </a:lnTo>
                  <a:cubicBezTo>
                    <a:pt x="1065" y="363"/>
                    <a:pt x="1043" y="340"/>
                    <a:pt x="1043" y="313"/>
                  </a:cubicBezTo>
                  <a:cubicBezTo>
                    <a:pt x="1043" y="285"/>
                    <a:pt x="1066" y="263"/>
                    <a:pt x="1094" y="263"/>
                  </a:cubicBezTo>
                  <a:close/>
                  <a:moveTo>
                    <a:pt x="1294" y="266"/>
                  </a:moveTo>
                  <a:lnTo>
                    <a:pt x="1294" y="266"/>
                  </a:lnTo>
                  <a:cubicBezTo>
                    <a:pt x="1321" y="266"/>
                    <a:pt x="1344" y="289"/>
                    <a:pt x="1343" y="316"/>
                  </a:cubicBezTo>
                  <a:cubicBezTo>
                    <a:pt x="1343" y="344"/>
                    <a:pt x="1320" y="366"/>
                    <a:pt x="1293" y="366"/>
                  </a:cubicBezTo>
                  <a:lnTo>
                    <a:pt x="1293" y="366"/>
                  </a:lnTo>
                  <a:cubicBezTo>
                    <a:pt x="1265" y="365"/>
                    <a:pt x="1243" y="343"/>
                    <a:pt x="1243" y="315"/>
                  </a:cubicBezTo>
                  <a:cubicBezTo>
                    <a:pt x="1243" y="288"/>
                    <a:pt x="1266" y="265"/>
                    <a:pt x="1294" y="266"/>
                  </a:cubicBezTo>
                  <a:close/>
                  <a:moveTo>
                    <a:pt x="1494" y="268"/>
                  </a:moveTo>
                  <a:lnTo>
                    <a:pt x="1494" y="268"/>
                  </a:lnTo>
                  <a:cubicBezTo>
                    <a:pt x="1521" y="269"/>
                    <a:pt x="1544" y="291"/>
                    <a:pt x="1543" y="319"/>
                  </a:cubicBezTo>
                  <a:cubicBezTo>
                    <a:pt x="1543" y="346"/>
                    <a:pt x="1520" y="369"/>
                    <a:pt x="1493" y="368"/>
                  </a:cubicBezTo>
                  <a:lnTo>
                    <a:pt x="1493" y="368"/>
                  </a:lnTo>
                  <a:cubicBezTo>
                    <a:pt x="1465" y="368"/>
                    <a:pt x="1443" y="345"/>
                    <a:pt x="1443" y="318"/>
                  </a:cubicBezTo>
                  <a:cubicBezTo>
                    <a:pt x="1444" y="290"/>
                    <a:pt x="1466" y="268"/>
                    <a:pt x="1494" y="268"/>
                  </a:cubicBezTo>
                  <a:close/>
                  <a:moveTo>
                    <a:pt x="1694" y="271"/>
                  </a:moveTo>
                  <a:lnTo>
                    <a:pt x="1694" y="271"/>
                  </a:lnTo>
                  <a:cubicBezTo>
                    <a:pt x="1722" y="271"/>
                    <a:pt x="1744" y="294"/>
                    <a:pt x="1743" y="321"/>
                  </a:cubicBezTo>
                  <a:cubicBezTo>
                    <a:pt x="1743" y="349"/>
                    <a:pt x="1721" y="371"/>
                    <a:pt x="1693" y="371"/>
                  </a:cubicBezTo>
                  <a:lnTo>
                    <a:pt x="1693" y="371"/>
                  </a:lnTo>
                  <a:cubicBezTo>
                    <a:pt x="1665" y="371"/>
                    <a:pt x="1643" y="348"/>
                    <a:pt x="1643" y="320"/>
                  </a:cubicBezTo>
                  <a:cubicBezTo>
                    <a:pt x="1644" y="293"/>
                    <a:pt x="1666" y="271"/>
                    <a:pt x="1694" y="271"/>
                  </a:cubicBezTo>
                  <a:close/>
                  <a:moveTo>
                    <a:pt x="1894" y="273"/>
                  </a:moveTo>
                  <a:lnTo>
                    <a:pt x="1894" y="273"/>
                  </a:lnTo>
                  <a:cubicBezTo>
                    <a:pt x="1922" y="274"/>
                    <a:pt x="1944" y="296"/>
                    <a:pt x="1943" y="324"/>
                  </a:cubicBezTo>
                  <a:cubicBezTo>
                    <a:pt x="1943" y="352"/>
                    <a:pt x="1921" y="374"/>
                    <a:pt x="1893" y="373"/>
                  </a:cubicBezTo>
                  <a:lnTo>
                    <a:pt x="1893" y="373"/>
                  </a:lnTo>
                  <a:cubicBezTo>
                    <a:pt x="1865" y="373"/>
                    <a:pt x="1843" y="351"/>
                    <a:pt x="1843" y="323"/>
                  </a:cubicBezTo>
                  <a:cubicBezTo>
                    <a:pt x="1844" y="295"/>
                    <a:pt x="1866" y="273"/>
                    <a:pt x="1894" y="273"/>
                  </a:cubicBezTo>
                  <a:close/>
                  <a:moveTo>
                    <a:pt x="2094" y="276"/>
                  </a:moveTo>
                  <a:lnTo>
                    <a:pt x="2094" y="276"/>
                  </a:lnTo>
                  <a:cubicBezTo>
                    <a:pt x="2122" y="276"/>
                    <a:pt x="2144" y="299"/>
                    <a:pt x="2144" y="326"/>
                  </a:cubicBezTo>
                  <a:cubicBezTo>
                    <a:pt x="2143" y="354"/>
                    <a:pt x="2121" y="376"/>
                    <a:pt x="2093" y="376"/>
                  </a:cubicBezTo>
                  <a:lnTo>
                    <a:pt x="2093" y="376"/>
                  </a:lnTo>
                  <a:cubicBezTo>
                    <a:pt x="2065" y="376"/>
                    <a:pt x="2043" y="353"/>
                    <a:pt x="2043" y="326"/>
                  </a:cubicBezTo>
                  <a:cubicBezTo>
                    <a:pt x="2044" y="298"/>
                    <a:pt x="2066" y="276"/>
                    <a:pt x="2094" y="276"/>
                  </a:cubicBezTo>
                  <a:close/>
                  <a:moveTo>
                    <a:pt x="2294" y="279"/>
                  </a:moveTo>
                  <a:lnTo>
                    <a:pt x="2294" y="279"/>
                  </a:lnTo>
                  <a:cubicBezTo>
                    <a:pt x="2322" y="279"/>
                    <a:pt x="2344" y="301"/>
                    <a:pt x="2344" y="329"/>
                  </a:cubicBezTo>
                  <a:cubicBezTo>
                    <a:pt x="2343" y="357"/>
                    <a:pt x="2321" y="379"/>
                    <a:pt x="2293" y="379"/>
                  </a:cubicBezTo>
                  <a:lnTo>
                    <a:pt x="2293" y="379"/>
                  </a:lnTo>
                  <a:cubicBezTo>
                    <a:pt x="2265" y="378"/>
                    <a:pt x="2243" y="356"/>
                    <a:pt x="2244" y="328"/>
                  </a:cubicBezTo>
                  <a:cubicBezTo>
                    <a:pt x="2244" y="300"/>
                    <a:pt x="2266" y="278"/>
                    <a:pt x="2294" y="279"/>
                  </a:cubicBezTo>
                  <a:close/>
                  <a:moveTo>
                    <a:pt x="2494" y="281"/>
                  </a:moveTo>
                  <a:lnTo>
                    <a:pt x="2494" y="281"/>
                  </a:lnTo>
                  <a:cubicBezTo>
                    <a:pt x="2522" y="281"/>
                    <a:pt x="2544" y="304"/>
                    <a:pt x="2544" y="332"/>
                  </a:cubicBezTo>
                  <a:cubicBezTo>
                    <a:pt x="2543" y="359"/>
                    <a:pt x="2521" y="381"/>
                    <a:pt x="2493" y="381"/>
                  </a:cubicBezTo>
                  <a:lnTo>
                    <a:pt x="2493" y="381"/>
                  </a:lnTo>
                  <a:cubicBezTo>
                    <a:pt x="2466" y="381"/>
                    <a:pt x="2443" y="358"/>
                    <a:pt x="2444" y="331"/>
                  </a:cubicBezTo>
                  <a:cubicBezTo>
                    <a:pt x="2444" y="303"/>
                    <a:pt x="2467" y="281"/>
                    <a:pt x="2494" y="281"/>
                  </a:cubicBezTo>
                  <a:close/>
                  <a:moveTo>
                    <a:pt x="2694" y="284"/>
                  </a:moveTo>
                  <a:lnTo>
                    <a:pt x="2694" y="284"/>
                  </a:lnTo>
                  <a:cubicBezTo>
                    <a:pt x="2722" y="284"/>
                    <a:pt x="2744" y="307"/>
                    <a:pt x="2744" y="334"/>
                  </a:cubicBezTo>
                  <a:cubicBezTo>
                    <a:pt x="2744" y="362"/>
                    <a:pt x="2721" y="384"/>
                    <a:pt x="2693" y="384"/>
                  </a:cubicBezTo>
                  <a:lnTo>
                    <a:pt x="2693" y="384"/>
                  </a:lnTo>
                  <a:cubicBezTo>
                    <a:pt x="2666" y="383"/>
                    <a:pt x="2643" y="361"/>
                    <a:pt x="2644" y="333"/>
                  </a:cubicBezTo>
                  <a:cubicBezTo>
                    <a:pt x="2644" y="306"/>
                    <a:pt x="2667" y="283"/>
                    <a:pt x="2694" y="284"/>
                  </a:cubicBezTo>
                  <a:close/>
                  <a:moveTo>
                    <a:pt x="2638" y="0"/>
                  </a:moveTo>
                  <a:lnTo>
                    <a:pt x="3300" y="341"/>
                  </a:lnTo>
                  <a:lnTo>
                    <a:pt x="2630" y="666"/>
                  </a:lnTo>
                  <a:lnTo>
                    <a:pt x="26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72400" y="955800"/>
              <a:ext cx="185760" cy="3071520"/>
            </a:xfrm>
            <a:custGeom>
              <a:avLst/>
              <a:gdLst/>
              <a:ahLst/>
              <a:rect l="l" t="t" r="r" b="b"/>
              <a:pathLst>
                <a:path w="626" h="10349">
                  <a:moveTo>
                    <a:pt x="575" y="10324"/>
                  </a:moveTo>
                  <a:lnTo>
                    <a:pt x="575" y="10324"/>
                  </a:lnTo>
                  <a:cubicBezTo>
                    <a:pt x="575" y="10311"/>
                    <a:pt x="586" y="10299"/>
                    <a:pt x="600" y="10298"/>
                  </a:cubicBezTo>
                  <a:cubicBezTo>
                    <a:pt x="613" y="10298"/>
                    <a:pt x="625" y="10309"/>
                    <a:pt x="625" y="10322"/>
                  </a:cubicBezTo>
                  <a:lnTo>
                    <a:pt x="625" y="10323"/>
                  </a:lnTo>
                  <a:cubicBezTo>
                    <a:pt x="626" y="10336"/>
                    <a:pt x="615" y="10348"/>
                    <a:pt x="601" y="10348"/>
                  </a:cubicBezTo>
                  <a:cubicBezTo>
                    <a:pt x="588" y="10349"/>
                    <a:pt x="576" y="10338"/>
                    <a:pt x="575" y="10324"/>
                  </a:cubicBezTo>
                  <a:close/>
                  <a:moveTo>
                    <a:pt x="575" y="10224"/>
                  </a:moveTo>
                  <a:lnTo>
                    <a:pt x="575" y="10224"/>
                  </a:lnTo>
                  <a:cubicBezTo>
                    <a:pt x="575" y="10211"/>
                    <a:pt x="586" y="10199"/>
                    <a:pt x="599" y="10198"/>
                  </a:cubicBezTo>
                  <a:cubicBezTo>
                    <a:pt x="613" y="10198"/>
                    <a:pt x="625" y="10209"/>
                    <a:pt x="625" y="10222"/>
                  </a:cubicBezTo>
                  <a:lnTo>
                    <a:pt x="625" y="10222"/>
                  </a:lnTo>
                  <a:cubicBezTo>
                    <a:pt x="626" y="10236"/>
                    <a:pt x="615" y="10248"/>
                    <a:pt x="601" y="10248"/>
                  </a:cubicBezTo>
                  <a:cubicBezTo>
                    <a:pt x="587" y="10249"/>
                    <a:pt x="576" y="10238"/>
                    <a:pt x="575" y="10224"/>
                  </a:cubicBezTo>
                  <a:close/>
                  <a:moveTo>
                    <a:pt x="575" y="10124"/>
                  </a:moveTo>
                  <a:lnTo>
                    <a:pt x="575" y="10124"/>
                  </a:lnTo>
                  <a:cubicBezTo>
                    <a:pt x="575" y="10110"/>
                    <a:pt x="585" y="10099"/>
                    <a:pt x="599" y="10098"/>
                  </a:cubicBezTo>
                  <a:cubicBezTo>
                    <a:pt x="613" y="10098"/>
                    <a:pt x="625" y="10109"/>
                    <a:pt x="625" y="10122"/>
                  </a:cubicBezTo>
                  <a:lnTo>
                    <a:pt x="625" y="10122"/>
                  </a:lnTo>
                  <a:cubicBezTo>
                    <a:pt x="626" y="10136"/>
                    <a:pt x="615" y="10148"/>
                    <a:pt x="601" y="10148"/>
                  </a:cubicBezTo>
                  <a:cubicBezTo>
                    <a:pt x="587" y="10149"/>
                    <a:pt x="576" y="10138"/>
                    <a:pt x="575" y="10124"/>
                  </a:cubicBezTo>
                  <a:close/>
                  <a:moveTo>
                    <a:pt x="575" y="10024"/>
                  </a:moveTo>
                  <a:lnTo>
                    <a:pt x="575" y="10024"/>
                  </a:lnTo>
                  <a:cubicBezTo>
                    <a:pt x="574" y="10010"/>
                    <a:pt x="585" y="9999"/>
                    <a:pt x="599" y="9998"/>
                  </a:cubicBezTo>
                  <a:cubicBezTo>
                    <a:pt x="613" y="9998"/>
                    <a:pt x="624" y="10009"/>
                    <a:pt x="625" y="10022"/>
                  </a:cubicBezTo>
                  <a:lnTo>
                    <a:pt x="625" y="10022"/>
                  </a:lnTo>
                  <a:cubicBezTo>
                    <a:pt x="625" y="10036"/>
                    <a:pt x="615" y="10048"/>
                    <a:pt x="601" y="10048"/>
                  </a:cubicBezTo>
                  <a:cubicBezTo>
                    <a:pt x="587" y="10049"/>
                    <a:pt x="575" y="10038"/>
                    <a:pt x="575" y="10024"/>
                  </a:cubicBezTo>
                  <a:close/>
                  <a:moveTo>
                    <a:pt x="575" y="9924"/>
                  </a:moveTo>
                  <a:lnTo>
                    <a:pt x="575" y="9924"/>
                  </a:lnTo>
                  <a:cubicBezTo>
                    <a:pt x="574" y="9910"/>
                    <a:pt x="585" y="9899"/>
                    <a:pt x="599" y="9898"/>
                  </a:cubicBezTo>
                  <a:cubicBezTo>
                    <a:pt x="612" y="9898"/>
                    <a:pt x="624" y="9908"/>
                    <a:pt x="625" y="9922"/>
                  </a:cubicBezTo>
                  <a:lnTo>
                    <a:pt x="625" y="9922"/>
                  </a:lnTo>
                  <a:cubicBezTo>
                    <a:pt x="625" y="9936"/>
                    <a:pt x="614" y="9948"/>
                    <a:pt x="601" y="9948"/>
                  </a:cubicBezTo>
                  <a:cubicBezTo>
                    <a:pt x="587" y="9949"/>
                    <a:pt x="575" y="9938"/>
                    <a:pt x="575" y="9924"/>
                  </a:cubicBezTo>
                  <a:close/>
                  <a:moveTo>
                    <a:pt x="574" y="9824"/>
                  </a:moveTo>
                  <a:lnTo>
                    <a:pt x="574" y="9824"/>
                  </a:lnTo>
                  <a:cubicBezTo>
                    <a:pt x="574" y="9810"/>
                    <a:pt x="585" y="9799"/>
                    <a:pt x="598" y="9798"/>
                  </a:cubicBezTo>
                  <a:cubicBezTo>
                    <a:pt x="612" y="9798"/>
                    <a:pt x="624" y="9808"/>
                    <a:pt x="624" y="9822"/>
                  </a:cubicBezTo>
                  <a:lnTo>
                    <a:pt x="624" y="9822"/>
                  </a:lnTo>
                  <a:cubicBezTo>
                    <a:pt x="625" y="9836"/>
                    <a:pt x="614" y="9848"/>
                    <a:pt x="600" y="9848"/>
                  </a:cubicBezTo>
                  <a:cubicBezTo>
                    <a:pt x="587" y="9849"/>
                    <a:pt x="575" y="9838"/>
                    <a:pt x="574" y="9824"/>
                  </a:cubicBezTo>
                  <a:close/>
                  <a:moveTo>
                    <a:pt x="574" y="9724"/>
                  </a:moveTo>
                  <a:lnTo>
                    <a:pt x="574" y="9724"/>
                  </a:lnTo>
                  <a:cubicBezTo>
                    <a:pt x="574" y="9710"/>
                    <a:pt x="584" y="9699"/>
                    <a:pt x="598" y="9698"/>
                  </a:cubicBezTo>
                  <a:cubicBezTo>
                    <a:pt x="612" y="9698"/>
                    <a:pt x="624" y="9708"/>
                    <a:pt x="624" y="9722"/>
                  </a:cubicBezTo>
                  <a:lnTo>
                    <a:pt x="624" y="9722"/>
                  </a:lnTo>
                  <a:cubicBezTo>
                    <a:pt x="625" y="9736"/>
                    <a:pt x="614" y="9748"/>
                    <a:pt x="600" y="9748"/>
                  </a:cubicBezTo>
                  <a:cubicBezTo>
                    <a:pt x="586" y="9749"/>
                    <a:pt x="575" y="9738"/>
                    <a:pt x="574" y="9724"/>
                  </a:cubicBezTo>
                  <a:close/>
                  <a:moveTo>
                    <a:pt x="574" y="9624"/>
                  </a:moveTo>
                  <a:lnTo>
                    <a:pt x="574" y="9624"/>
                  </a:lnTo>
                  <a:cubicBezTo>
                    <a:pt x="574" y="9610"/>
                    <a:pt x="584" y="9599"/>
                    <a:pt x="598" y="9598"/>
                  </a:cubicBezTo>
                  <a:cubicBezTo>
                    <a:pt x="612" y="9598"/>
                    <a:pt x="623" y="9608"/>
                    <a:pt x="624" y="9622"/>
                  </a:cubicBezTo>
                  <a:lnTo>
                    <a:pt x="624" y="9622"/>
                  </a:lnTo>
                  <a:cubicBezTo>
                    <a:pt x="625" y="9636"/>
                    <a:pt x="614" y="9648"/>
                    <a:pt x="600" y="9648"/>
                  </a:cubicBezTo>
                  <a:cubicBezTo>
                    <a:pt x="586" y="9649"/>
                    <a:pt x="575" y="9638"/>
                    <a:pt x="574" y="9624"/>
                  </a:cubicBezTo>
                  <a:close/>
                  <a:moveTo>
                    <a:pt x="574" y="9524"/>
                  </a:moveTo>
                  <a:lnTo>
                    <a:pt x="574" y="9524"/>
                  </a:lnTo>
                  <a:cubicBezTo>
                    <a:pt x="573" y="9510"/>
                    <a:pt x="584" y="9499"/>
                    <a:pt x="598" y="9498"/>
                  </a:cubicBezTo>
                  <a:cubicBezTo>
                    <a:pt x="612" y="9497"/>
                    <a:pt x="623" y="9508"/>
                    <a:pt x="624" y="9522"/>
                  </a:cubicBezTo>
                  <a:lnTo>
                    <a:pt x="624" y="9522"/>
                  </a:lnTo>
                  <a:cubicBezTo>
                    <a:pt x="624" y="9536"/>
                    <a:pt x="614" y="9548"/>
                    <a:pt x="600" y="9548"/>
                  </a:cubicBezTo>
                  <a:cubicBezTo>
                    <a:pt x="586" y="9549"/>
                    <a:pt x="574" y="9538"/>
                    <a:pt x="574" y="9524"/>
                  </a:cubicBezTo>
                  <a:close/>
                  <a:moveTo>
                    <a:pt x="574" y="9424"/>
                  </a:moveTo>
                  <a:lnTo>
                    <a:pt x="574" y="9424"/>
                  </a:lnTo>
                  <a:cubicBezTo>
                    <a:pt x="573" y="9410"/>
                    <a:pt x="584" y="9399"/>
                    <a:pt x="598" y="9398"/>
                  </a:cubicBezTo>
                  <a:cubicBezTo>
                    <a:pt x="611" y="9397"/>
                    <a:pt x="623" y="9408"/>
                    <a:pt x="624" y="9422"/>
                  </a:cubicBezTo>
                  <a:lnTo>
                    <a:pt x="624" y="9422"/>
                  </a:lnTo>
                  <a:cubicBezTo>
                    <a:pt x="624" y="9436"/>
                    <a:pt x="613" y="9447"/>
                    <a:pt x="600" y="9448"/>
                  </a:cubicBezTo>
                  <a:cubicBezTo>
                    <a:pt x="586" y="9449"/>
                    <a:pt x="574" y="9438"/>
                    <a:pt x="574" y="9424"/>
                  </a:cubicBezTo>
                  <a:close/>
                  <a:moveTo>
                    <a:pt x="573" y="9324"/>
                  </a:moveTo>
                  <a:lnTo>
                    <a:pt x="573" y="9324"/>
                  </a:lnTo>
                  <a:cubicBezTo>
                    <a:pt x="573" y="9310"/>
                    <a:pt x="584" y="9298"/>
                    <a:pt x="597" y="9298"/>
                  </a:cubicBezTo>
                  <a:cubicBezTo>
                    <a:pt x="611" y="9297"/>
                    <a:pt x="623" y="9308"/>
                    <a:pt x="623" y="9322"/>
                  </a:cubicBezTo>
                  <a:lnTo>
                    <a:pt x="623" y="9322"/>
                  </a:lnTo>
                  <a:cubicBezTo>
                    <a:pt x="624" y="9336"/>
                    <a:pt x="613" y="9347"/>
                    <a:pt x="599" y="9348"/>
                  </a:cubicBezTo>
                  <a:cubicBezTo>
                    <a:pt x="586" y="9348"/>
                    <a:pt x="574" y="9338"/>
                    <a:pt x="573" y="9324"/>
                  </a:cubicBezTo>
                  <a:close/>
                  <a:moveTo>
                    <a:pt x="573" y="9224"/>
                  </a:moveTo>
                  <a:lnTo>
                    <a:pt x="573" y="9224"/>
                  </a:lnTo>
                  <a:cubicBezTo>
                    <a:pt x="573" y="9210"/>
                    <a:pt x="583" y="9198"/>
                    <a:pt x="597" y="9198"/>
                  </a:cubicBezTo>
                  <a:cubicBezTo>
                    <a:pt x="611" y="9197"/>
                    <a:pt x="623" y="9208"/>
                    <a:pt x="623" y="9222"/>
                  </a:cubicBezTo>
                  <a:lnTo>
                    <a:pt x="623" y="9222"/>
                  </a:lnTo>
                  <a:cubicBezTo>
                    <a:pt x="624" y="9236"/>
                    <a:pt x="613" y="9247"/>
                    <a:pt x="599" y="9248"/>
                  </a:cubicBezTo>
                  <a:cubicBezTo>
                    <a:pt x="585" y="9248"/>
                    <a:pt x="574" y="9238"/>
                    <a:pt x="573" y="9224"/>
                  </a:cubicBezTo>
                  <a:close/>
                  <a:moveTo>
                    <a:pt x="573" y="9124"/>
                  </a:moveTo>
                  <a:lnTo>
                    <a:pt x="573" y="9124"/>
                  </a:lnTo>
                  <a:cubicBezTo>
                    <a:pt x="572" y="9110"/>
                    <a:pt x="583" y="9098"/>
                    <a:pt x="597" y="9098"/>
                  </a:cubicBezTo>
                  <a:cubicBezTo>
                    <a:pt x="611" y="9097"/>
                    <a:pt x="622" y="9108"/>
                    <a:pt x="623" y="9122"/>
                  </a:cubicBezTo>
                  <a:lnTo>
                    <a:pt x="623" y="9122"/>
                  </a:lnTo>
                  <a:cubicBezTo>
                    <a:pt x="623" y="9136"/>
                    <a:pt x="613" y="9147"/>
                    <a:pt x="599" y="9148"/>
                  </a:cubicBezTo>
                  <a:cubicBezTo>
                    <a:pt x="585" y="9148"/>
                    <a:pt x="574" y="9138"/>
                    <a:pt x="573" y="9124"/>
                  </a:cubicBezTo>
                  <a:close/>
                  <a:moveTo>
                    <a:pt x="573" y="9024"/>
                  </a:moveTo>
                  <a:lnTo>
                    <a:pt x="573" y="9024"/>
                  </a:lnTo>
                  <a:cubicBezTo>
                    <a:pt x="572" y="9010"/>
                    <a:pt x="583" y="8998"/>
                    <a:pt x="597" y="8998"/>
                  </a:cubicBezTo>
                  <a:cubicBezTo>
                    <a:pt x="611" y="8997"/>
                    <a:pt x="622" y="9008"/>
                    <a:pt x="623" y="9022"/>
                  </a:cubicBezTo>
                  <a:lnTo>
                    <a:pt x="623" y="9022"/>
                  </a:lnTo>
                  <a:cubicBezTo>
                    <a:pt x="623" y="9036"/>
                    <a:pt x="613" y="9047"/>
                    <a:pt x="599" y="9048"/>
                  </a:cubicBezTo>
                  <a:cubicBezTo>
                    <a:pt x="585" y="9048"/>
                    <a:pt x="573" y="9038"/>
                    <a:pt x="573" y="9024"/>
                  </a:cubicBezTo>
                  <a:close/>
                  <a:moveTo>
                    <a:pt x="573" y="8924"/>
                  </a:moveTo>
                  <a:lnTo>
                    <a:pt x="573" y="8924"/>
                  </a:lnTo>
                  <a:cubicBezTo>
                    <a:pt x="572" y="8910"/>
                    <a:pt x="583" y="8898"/>
                    <a:pt x="597" y="8898"/>
                  </a:cubicBezTo>
                  <a:cubicBezTo>
                    <a:pt x="610" y="8897"/>
                    <a:pt x="622" y="8908"/>
                    <a:pt x="623" y="8922"/>
                  </a:cubicBezTo>
                  <a:lnTo>
                    <a:pt x="623" y="8922"/>
                  </a:lnTo>
                  <a:cubicBezTo>
                    <a:pt x="623" y="8936"/>
                    <a:pt x="612" y="8947"/>
                    <a:pt x="599" y="8948"/>
                  </a:cubicBezTo>
                  <a:cubicBezTo>
                    <a:pt x="585" y="8948"/>
                    <a:pt x="573" y="8938"/>
                    <a:pt x="573" y="8924"/>
                  </a:cubicBezTo>
                  <a:close/>
                  <a:moveTo>
                    <a:pt x="572" y="8824"/>
                  </a:moveTo>
                  <a:lnTo>
                    <a:pt x="572" y="8824"/>
                  </a:lnTo>
                  <a:cubicBezTo>
                    <a:pt x="572" y="8810"/>
                    <a:pt x="583" y="8798"/>
                    <a:pt x="596" y="8798"/>
                  </a:cubicBezTo>
                  <a:cubicBezTo>
                    <a:pt x="610" y="8797"/>
                    <a:pt x="622" y="8808"/>
                    <a:pt x="622" y="8822"/>
                  </a:cubicBezTo>
                  <a:lnTo>
                    <a:pt x="622" y="8822"/>
                  </a:lnTo>
                  <a:cubicBezTo>
                    <a:pt x="623" y="8836"/>
                    <a:pt x="612" y="8847"/>
                    <a:pt x="598" y="8848"/>
                  </a:cubicBezTo>
                  <a:cubicBezTo>
                    <a:pt x="585" y="8848"/>
                    <a:pt x="573" y="8837"/>
                    <a:pt x="572" y="8824"/>
                  </a:cubicBezTo>
                  <a:close/>
                  <a:moveTo>
                    <a:pt x="572" y="8724"/>
                  </a:moveTo>
                  <a:lnTo>
                    <a:pt x="572" y="8724"/>
                  </a:lnTo>
                  <a:cubicBezTo>
                    <a:pt x="572" y="8710"/>
                    <a:pt x="582" y="8698"/>
                    <a:pt x="596" y="8698"/>
                  </a:cubicBezTo>
                  <a:cubicBezTo>
                    <a:pt x="610" y="8697"/>
                    <a:pt x="622" y="8708"/>
                    <a:pt x="622" y="8722"/>
                  </a:cubicBezTo>
                  <a:lnTo>
                    <a:pt x="622" y="8722"/>
                  </a:lnTo>
                  <a:cubicBezTo>
                    <a:pt x="623" y="8735"/>
                    <a:pt x="612" y="8747"/>
                    <a:pt x="598" y="8748"/>
                  </a:cubicBezTo>
                  <a:cubicBezTo>
                    <a:pt x="584" y="8748"/>
                    <a:pt x="573" y="8737"/>
                    <a:pt x="572" y="8724"/>
                  </a:cubicBezTo>
                  <a:close/>
                  <a:moveTo>
                    <a:pt x="572" y="8624"/>
                  </a:moveTo>
                  <a:lnTo>
                    <a:pt x="572" y="8624"/>
                  </a:lnTo>
                  <a:cubicBezTo>
                    <a:pt x="571" y="8610"/>
                    <a:pt x="582" y="8598"/>
                    <a:pt x="596" y="8598"/>
                  </a:cubicBezTo>
                  <a:cubicBezTo>
                    <a:pt x="610" y="8597"/>
                    <a:pt x="621" y="8608"/>
                    <a:pt x="622" y="8622"/>
                  </a:cubicBezTo>
                  <a:lnTo>
                    <a:pt x="622" y="8622"/>
                  </a:lnTo>
                  <a:cubicBezTo>
                    <a:pt x="622" y="8635"/>
                    <a:pt x="612" y="8647"/>
                    <a:pt x="598" y="8648"/>
                  </a:cubicBezTo>
                  <a:cubicBezTo>
                    <a:pt x="584" y="8648"/>
                    <a:pt x="572" y="8637"/>
                    <a:pt x="572" y="8624"/>
                  </a:cubicBezTo>
                  <a:close/>
                  <a:moveTo>
                    <a:pt x="572" y="8524"/>
                  </a:moveTo>
                  <a:lnTo>
                    <a:pt x="572" y="8523"/>
                  </a:lnTo>
                  <a:cubicBezTo>
                    <a:pt x="571" y="8510"/>
                    <a:pt x="582" y="8498"/>
                    <a:pt x="596" y="8498"/>
                  </a:cubicBezTo>
                  <a:cubicBezTo>
                    <a:pt x="610" y="8497"/>
                    <a:pt x="621" y="8508"/>
                    <a:pt x="622" y="8522"/>
                  </a:cubicBezTo>
                  <a:lnTo>
                    <a:pt x="622" y="8522"/>
                  </a:lnTo>
                  <a:cubicBezTo>
                    <a:pt x="622" y="8535"/>
                    <a:pt x="611" y="8547"/>
                    <a:pt x="598" y="8548"/>
                  </a:cubicBezTo>
                  <a:cubicBezTo>
                    <a:pt x="584" y="8548"/>
                    <a:pt x="572" y="8537"/>
                    <a:pt x="572" y="8524"/>
                  </a:cubicBezTo>
                  <a:close/>
                  <a:moveTo>
                    <a:pt x="572" y="8423"/>
                  </a:moveTo>
                  <a:lnTo>
                    <a:pt x="572" y="8423"/>
                  </a:lnTo>
                  <a:cubicBezTo>
                    <a:pt x="571" y="8410"/>
                    <a:pt x="582" y="8398"/>
                    <a:pt x="596" y="8397"/>
                  </a:cubicBezTo>
                  <a:cubicBezTo>
                    <a:pt x="609" y="8397"/>
                    <a:pt x="621" y="8408"/>
                    <a:pt x="622" y="8421"/>
                  </a:cubicBezTo>
                  <a:lnTo>
                    <a:pt x="622" y="8422"/>
                  </a:lnTo>
                  <a:cubicBezTo>
                    <a:pt x="622" y="8435"/>
                    <a:pt x="611" y="8447"/>
                    <a:pt x="597" y="8447"/>
                  </a:cubicBezTo>
                  <a:cubicBezTo>
                    <a:pt x="584" y="8448"/>
                    <a:pt x="572" y="8437"/>
                    <a:pt x="572" y="8423"/>
                  </a:cubicBezTo>
                  <a:close/>
                  <a:moveTo>
                    <a:pt x="571" y="8323"/>
                  </a:moveTo>
                  <a:lnTo>
                    <a:pt x="571" y="8323"/>
                  </a:lnTo>
                  <a:cubicBezTo>
                    <a:pt x="571" y="8310"/>
                    <a:pt x="582" y="8298"/>
                    <a:pt x="595" y="8297"/>
                  </a:cubicBezTo>
                  <a:cubicBezTo>
                    <a:pt x="609" y="8297"/>
                    <a:pt x="621" y="8308"/>
                    <a:pt x="621" y="8321"/>
                  </a:cubicBezTo>
                  <a:lnTo>
                    <a:pt x="621" y="8321"/>
                  </a:lnTo>
                  <a:cubicBezTo>
                    <a:pt x="622" y="8335"/>
                    <a:pt x="611" y="8347"/>
                    <a:pt x="597" y="8347"/>
                  </a:cubicBezTo>
                  <a:cubicBezTo>
                    <a:pt x="583" y="8348"/>
                    <a:pt x="572" y="8337"/>
                    <a:pt x="571" y="8323"/>
                  </a:cubicBezTo>
                  <a:close/>
                  <a:moveTo>
                    <a:pt x="571" y="8223"/>
                  </a:moveTo>
                  <a:lnTo>
                    <a:pt x="571" y="8223"/>
                  </a:lnTo>
                  <a:cubicBezTo>
                    <a:pt x="571" y="8210"/>
                    <a:pt x="581" y="8198"/>
                    <a:pt x="595" y="8197"/>
                  </a:cubicBezTo>
                  <a:cubicBezTo>
                    <a:pt x="609" y="8197"/>
                    <a:pt x="621" y="8208"/>
                    <a:pt x="621" y="8221"/>
                  </a:cubicBezTo>
                  <a:lnTo>
                    <a:pt x="621" y="8221"/>
                  </a:lnTo>
                  <a:cubicBezTo>
                    <a:pt x="622" y="8235"/>
                    <a:pt x="611" y="8247"/>
                    <a:pt x="597" y="8247"/>
                  </a:cubicBezTo>
                  <a:cubicBezTo>
                    <a:pt x="583" y="8248"/>
                    <a:pt x="572" y="8237"/>
                    <a:pt x="571" y="8223"/>
                  </a:cubicBezTo>
                  <a:close/>
                  <a:moveTo>
                    <a:pt x="571" y="8123"/>
                  </a:moveTo>
                  <a:lnTo>
                    <a:pt x="571" y="8123"/>
                  </a:lnTo>
                  <a:cubicBezTo>
                    <a:pt x="570" y="8109"/>
                    <a:pt x="581" y="8098"/>
                    <a:pt x="595" y="8097"/>
                  </a:cubicBezTo>
                  <a:cubicBezTo>
                    <a:pt x="609" y="8097"/>
                    <a:pt x="620" y="8108"/>
                    <a:pt x="621" y="8121"/>
                  </a:cubicBezTo>
                  <a:lnTo>
                    <a:pt x="621" y="8121"/>
                  </a:lnTo>
                  <a:cubicBezTo>
                    <a:pt x="621" y="8135"/>
                    <a:pt x="611" y="8147"/>
                    <a:pt x="597" y="8147"/>
                  </a:cubicBezTo>
                  <a:cubicBezTo>
                    <a:pt x="583" y="8148"/>
                    <a:pt x="571" y="8137"/>
                    <a:pt x="571" y="8123"/>
                  </a:cubicBezTo>
                  <a:close/>
                  <a:moveTo>
                    <a:pt x="571" y="8023"/>
                  </a:moveTo>
                  <a:lnTo>
                    <a:pt x="571" y="8023"/>
                  </a:lnTo>
                  <a:cubicBezTo>
                    <a:pt x="570" y="8009"/>
                    <a:pt x="581" y="7998"/>
                    <a:pt x="595" y="7997"/>
                  </a:cubicBezTo>
                  <a:cubicBezTo>
                    <a:pt x="609" y="7997"/>
                    <a:pt x="620" y="8007"/>
                    <a:pt x="621" y="8021"/>
                  </a:cubicBezTo>
                  <a:lnTo>
                    <a:pt x="621" y="8021"/>
                  </a:lnTo>
                  <a:cubicBezTo>
                    <a:pt x="621" y="8035"/>
                    <a:pt x="610" y="8047"/>
                    <a:pt x="597" y="8047"/>
                  </a:cubicBezTo>
                  <a:cubicBezTo>
                    <a:pt x="583" y="8048"/>
                    <a:pt x="571" y="8037"/>
                    <a:pt x="571" y="8023"/>
                  </a:cubicBezTo>
                  <a:close/>
                  <a:moveTo>
                    <a:pt x="571" y="7923"/>
                  </a:moveTo>
                  <a:lnTo>
                    <a:pt x="571" y="7923"/>
                  </a:lnTo>
                  <a:cubicBezTo>
                    <a:pt x="570" y="7909"/>
                    <a:pt x="581" y="7898"/>
                    <a:pt x="595" y="7897"/>
                  </a:cubicBezTo>
                  <a:cubicBezTo>
                    <a:pt x="608" y="7897"/>
                    <a:pt x="620" y="7907"/>
                    <a:pt x="620" y="7921"/>
                  </a:cubicBezTo>
                  <a:lnTo>
                    <a:pt x="620" y="7921"/>
                  </a:lnTo>
                  <a:cubicBezTo>
                    <a:pt x="621" y="7935"/>
                    <a:pt x="610" y="7947"/>
                    <a:pt x="596" y="7947"/>
                  </a:cubicBezTo>
                  <a:cubicBezTo>
                    <a:pt x="583" y="7948"/>
                    <a:pt x="571" y="7937"/>
                    <a:pt x="571" y="7923"/>
                  </a:cubicBezTo>
                  <a:close/>
                  <a:moveTo>
                    <a:pt x="570" y="7823"/>
                  </a:moveTo>
                  <a:lnTo>
                    <a:pt x="570" y="7823"/>
                  </a:lnTo>
                  <a:cubicBezTo>
                    <a:pt x="570" y="7809"/>
                    <a:pt x="581" y="7798"/>
                    <a:pt x="594" y="7797"/>
                  </a:cubicBezTo>
                  <a:cubicBezTo>
                    <a:pt x="608" y="7797"/>
                    <a:pt x="620" y="7807"/>
                    <a:pt x="620" y="7821"/>
                  </a:cubicBezTo>
                  <a:lnTo>
                    <a:pt x="620" y="7821"/>
                  </a:lnTo>
                  <a:cubicBezTo>
                    <a:pt x="621" y="7835"/>
                    <a:pt x="610" y="7847"/>
                    <a:pt x="596" y="7847"/>
                  </a:cubicBezTo>
                  <a:cubicBezTo>
                    <a:pt x="582" y="7848"/>
                    <a:pt x="571" y="7837"/>
                    <a:pt x="570" y="7823"/>
                  </a:cubicBezTo>
                  <a:close/>
                  <a:moveTo>
                    <a:pt x="570" y="7723"/>
                  </a:moveTo>
                  <a:lnTo>
                    <a:pt x="570" y="7723"/>
                  </a:lnTo>
                  <a:cubicBezTo>
                    <a:pt x="570" y="7709"/>
                    <a:pt x="580" y="7698"/>
                    <a:pt x="594" y="7697"/>
                  </a:cubicBezTo>
                  <a:cubicBezTo>
                    <a:pt x="608" y="7697"/>
                    <a:pt x="620" y="7707"/>
                    <a:pt x="620" y="7721"/>
                  </a:cubicBezTo>
                  <a:lnTo>
                    <a:pt x="620" y="7721"/>
                  </a:lnTo>
                  <a:cubicBezTo>
                    <a:pt x="621" y="7735"/>
                    <a:pt x="610" y="7747"/>
                    <a:pt x="596" y="7747"/>
                  </a:cubicBezTo>
                  <a:cubicBezTo>
                    <a:pt x="582" y="7748"/>
                    <a:pt x="571" y="7737"/>
                    <a:pt x="570" y="7723"/>
                  </a:cubicBezTo>
                  <a:close/>
                  <a:moveTo>
                    <a:pt x="570" y="7623"/>
                  </a:moveTo>
                  <a:lnTo>
                    <a:pt x="570" y="7623"/>
                  </a:lnTo>
                  <a:cubicBezTo>
                    <a:pt x="569" y="7609"/>
                    <a:pt x="580" y="7598"/>
                    <a:pt x="594" y="7597"/>
                  </a:cubicBezTo>
                  <a:cubicBezTo>
                    <a:pt x="608" y="7597"/>
                    <a:pt x="619" y="7607"/>
                    <a:pt x="620" y="7621"/>
                  </a:cubicBezTo>
                  <a:lnTo>
                    <a:pt x="620" y="7621"/>
                  </a:lnTo>
                  <a:cubicBezTo>
                    <a:pt x="620" y="7635"/>
                    <a:pt x="610" y="7647"/>
                    <a:pt x="596" y="7647"/>
                  </a:cubicBezTo>
                  <a:cubicBezTo>
                    <a:pt x="582" y="7648"/>
                    <a:pt x="570" y="7637"/>
                    <a:pt x="570" y="7623"/>
                  </a:cubicBezTo>
                  <a:close/>
                  <a:moveTo>
                    <a:pt x="570" y="7523"/>
                  </a:moveTo>
                  <a:lnTo>
                    <a:pt x="570" y="7523"/>
                  </a:lnTo>
                  <a:cubicBezTo>
                    <a:pt x="569" y="7509"/>
                    <a:pt x="580" y="7498"/>
                    <a:pt x="594" y="7497"/>
                  </a:cubicBezTo>
                  <a:cubicBezTo>
                    <a:pt x="608" y="7496"/>
                    <a:pt x="619" y="7507"/>
                    <a:pt x="620" y="7521"/>
                  </a:cubicBezTo>
                  <a:lnTo>
                    <a:pt x="620" y="7521"/>
                  </a:lnTo>
                  <a:cubicBezTo>
                    <a:pt x="620" y="7535"/>
                    <a:pt x="609" y="7546"/>
                    <a:pt x="596" y="7547"/>
                  </a:cubicBezTo>
                  <a:cubicBezTo>
                    <a:pt x="582" y="7548"/>
                    <a:pt x="570" y="7537"/>
                    <a:pt x="570" y="7523"/>
                  </a:cubicBezTo>
                  <a:close/>
                  <a:moveTo>
                    <a:pt x="569" y="7423"/>
                  </a:moveTo>
                  <a:lnTo>
                    <a:pt x="569" y="7423"/>
                  </a:lnTo>
                  <a:cubicBezTo>
                    <a:pt x="569" y="7409"/>
                    <a:pt x="580" y="7397"/>
                    <a:pt x="594" y="7397"/>
                  </a:cubicBezTo>
                  <a:cubicBezTo>
                    <a:pt x="607" y="7396"/>
                    <a:pt x="619" y="7407"/>
                    <a:pt x="619" y="7421"/>
                  </a:cubicBezTo>
                  <a:lnTo>
                    <a:pt x="619" y="7421"/>
                  </a:lnTo>
                  <a:cubicBezTo>
                    <a:pt x="620" y="7435"/>
                    <a:pt x="609" y="7446"/>
                    <a:pt x="595" y="7447"/>
                  </a:cubicBezTo>
                  <a:cubicBezTo>
                    <a:pt x="582" y="7448"/>
                    <a:pt x="570" y="7437"/>
                    <a:pt x="569" y="7423"/>
                  </a:cubicBezTo>
                  <a:close/>
                  <a:moveTo>
                    <a:pt x="569" y="7323"/>
                  </a:moveTo>
                  <a:lnTo>
                    <a:pt x="569" y="7323"/>
                  </a:lnTo>
                  <a:cubicBezTo>
                    <a:pt x="569" y="7309"/>
                    <a:pt x="579" y="7297"/>
                    <a:pt x="593" y="7297"/>
                  </a:cubicBezTo>
                  <a:cubicBezTo>
                    <a:pt x="607" y="7296"/>
                    <a:pt x="619" y="7307"/>
                    <a:pt x="619" y="7321"/>
                  </a:cubicBezTo>
                  <a:lnTo>
                    <a:pt x="619" y="7321"/>
                  </a:lnTo>
                  <a:cubicBezTo>
                    <a:pt x="620" y="7335"/>
                    <a:pt x="609" y="7346"/>
                    <a:pt x="595" y="7347"/>
                  </a:cubicBezTo>
                  <a:cubicBezTo>
                    <a:pt x="581" y="7347"/>
                    <a:pt x="570" y="7337"/>
                    <a:pt x="569" y="7323"/>
                  </a:cubicBezTo>
                  <a:close/>
                  <a:moveTo>
                    <a:pt x="569" y="7223"/>
                  </a:moveTo>
                  <a:lnTo>
                    <a:pt x="569" y="7223"/>
                  </a:lnTo>
                  <a:cubicBezTo>
                    <a:pt x="569" y="7209"/>
                    <a:pt x="579" y="7197"/>
                    <a:pt x="593" y="7197"/>
                  </a:cubicBezTo>
                  <a:cubicBezTo>
                    <a:pt x="607" y="7196"/>
                    <a:pt x="618" y="7207"/>
                    <a:pt x="619" y="7221"/>
                  </a:cubicBezTo>
                  <a:lnTo>
                    <a:pt x="619" y="7221"/>
                  </a:lnTo>
                  <a:cubicBezTo>
                    <a:pt x="620" y="7235"/>
                    <a:pt x="609" y="7246"/>
                    <a:pt x="595" y="7247"/>
                  </a:cubicBezTo>
                  <a:cubicBezTo>
                    <a:pt x="581" y="7247"/>
                    <a:pt x="570" y="7237"/>
                    <a:pt x="569" y="7223"/>
                  </a:cubicBezTo>
                  <a:close/>
                  <a:moveTo>
                    <a:pt x="569" y="7123"/>
                  </a:moveTo>
                  <a:lnTo>
                    <a:pt x="569" y="7123"/>
                  </a:lnTo>
                  <a:cubicBezTo>
                    <a:pt x="568" y="7109"/>
                    <a:pt x="579" y="7097"/>
                    <a:pt x="593" y="7097"/>
                  </a:cubicBezTo>
                  <a:cubicBezTo>
                    <a:pt x="607" y="7096"/>
                    <a:pt x="618" y="7107"/>
                    <a:pt x="619" y="7121"/>
                  </a:cubicBezTo>
                  <a:lnTo>
                    <a:pt x="619" y="7121"/>
                  </a:lnTo>
                  <a:cubicBezTo>
                    <a:pt x="619" y="7135"/>
                    <a:pt x="609" y="7146"/>
                    <a:pt x="595" y="7147"/>
                  </a:cubicBezTo>
                  <a:cubicBezTo>
                    <a:pt x="581" y="7147"/>
                    <a:pt x="569" y="7137"/>
                    <a:pt x="569" y="7123"/>
                  </a:cubicBezTo>
                  <a:close/>
                  <a:moveTo>
                    <a:pt x="569" y="7023"/>
                  </a:moveTo>
                  <a:lnTo>
                    <a:pt x="569" y="7023"/>
                  </a:lnTo>
                  <a:cubicBezTo>
                    <a:pt x="568" y="7009"/>
                    <a:pt x="579" y="6997"/>
                    <a:pt x="593" y="6997"/>
                  </a:cubicBezTo>
                  <a:cubicBezTo>
                    <a:pt x="606" y="6996"/>
                    <a:pt x="618" y="7007"/>
                    <a:pt x="619" y="7021"/>
                  </a:cubicBezTo>
                  <a:lnTo>
                    <a:pt x="619" y="7021"/>
                  </a:lnTo>
                  <a:cubicBezTo>
                    <a:pt x="619" y="7035"/>
                    <a:pt x="608" y="7046"/>
                    <a:pt x="595" y="7047"/>
                  </a:cubicBezTo>
                  <a:cubicBezTo>
                    <a:pt x="581" y="7047"/>
                    <a:pt x="569" y="7037"/>
                    <a:pt x="569" y="7023"/>
                  </a:cubicBezTo>
                  <a:close/>
                  <a:moveTo>
                    <a:pt x="568" y="6923"/>
                  </a:moveTo>
                  <a:lnTo>
                    <a:pt x="568" y="6923"/>
                  </a:lnTo>
                  <a:cubicBezTo>
                    <a:pt x="568" y="6909"/>
                    <a:pt x="579" y="6897"/>
                    <a:pt x="592" y="6897"/>
                  </a:cubicBezTo>
                  <a:cubicBezTo>
                    <a:pt x="606" y="6896"/>
                    <a:pt x="618" y="6907"/>
                    <a:pt x="618" y="6921"/>
                  </a:cubicBezTo>
                  <a:lnTo>
                    <a:pt x="618" y="6921"/>
                  </a:lnTo>
                  <a:cubicBezTo>
                    <a:pt x="619" y="6935"/>
                    <a:pt x="608" y="6946"/>
                    <a:pt x="594" y="6947"/>
                  </a:cubicBezTo>
                  <a:cubicBezTo>
                    <a:pt x="581" y="6947"/>
                    <a:pt x="569" y="6936"/>
                    <a:pt x="568" y="6923"/>
                  </a:cubicBezTo>
                  <a:close/>
                  <a:moveTo>
                    <a:pt x="568" y="6823"/>
                  </a:moveTo>
                  <a:lnTo>
                    <a:pt x="568" y="6823"/>
                  </a:lnTo>
                  <a:cubicBezTo>
                    <a:pt x="568" y="6809"/>
                    <a:pt x="578" y="6797"/>
                    <a:pt x="592" y="6797"/>
                  </a:cubicBezTo>
                  <a:cubicBezTo>
                    <a:pt x="606" y="6796"/>
                    <a:pt x="618" y="6807"/>
                    <a:pt x="618" y="6821"/>
                  </a:cubicBezTo>
                  <a:lnTo>
                    <a:pt x="618" y="6821"/>
                  </a:lnTo>
                  <a:cubicBezTo>
                    <a:pt x="619" y="6835"/>
                    <a:pt x="608" y="6846"/>
                    <a:pt x="594" y="6847"/>
                  </a:cubicBezTo>
                  <a:cubicBezTo>
                    <a:pt x="580" y="6847"/>
                    <a:pt x="569" y="6836"/>
                    <a:pt x="568" y="6823"/>
                  </a:cubicBezTo>
                  <a:close/>
                  <a:moveTo>
                    <a:pt x="568" y="6723"/>
                  </a:moveTo>
                  <a:lnTo>
                    <a:pt x="568" y="6723"/>
                  </a:lnTo>
                  <a:cubicBezTo>
                    <a:pt x="567" y="6709"/>
                    <a:pt x="578" y="6697"/>
                    <a:pt x="592" y="6697"/>
                  </a:cubicBezTo>
                  <a:cubicBezTo>
                    <a:pt x="606" y="6696"/>
                    <a:pt x="617" y="6707"/>
                    <a:pt x="618" y="6721"/>
                  </a:cubicBezTo>
                  <a:lnTo>
                    <a:pt x="618" y="6721"/>
                  </a:lnTo>
                  <a:cubicBezTo>
                    <a:pt x="619" y="6734"/>
                    <a:pt x="608" y="6746"/>
                    <a:pt x="594" y="6747"/>
                  </a:cubicBezTo>
                  <a:cubicBezTo>
                    <a:pt x="580" y="6747"/>
                    <a:pt x="569" y="6736"/>
                    <a:pt x="568" y="6723"/>
                  </a:cubicBezTo>
                  <a:close/>
                  <a:moveTo>
                    <a:pt x="568" y="6623"/>
                  </a:moveTo>
                  <a:lnTo>
                    <a:pt x="568" y="6623"/>
                  </a:lnTo>
                  <a:cubicBezTo>
                    <a:pt x="567" y="6609"/>
                    <a:pt x="578" y="6597"/>
                    <a:pt x="592" y="6597"/>
                  </a:cubicBezTo>
                  <a:cubicBezTo>
                    <a:pt x="606" y="6596"/>
                    <a:pt x="617" y="6607"/>
                    <a:pt x="618" y="6621"/>
                  </a:cubicBezTo>
                  <a:lnTo>
                    <a:pt x="618" y="6621"/>
                  </a:lnTo>
                  <a:cubicBezTo>
                    <a:pt x="618" y="6634"/>
                    <a:pt x="608" y="6646"/>
                    <a:pt x="594" y="6647"/>
                  </a:cubicBezTo>
                  <a:cubicBezTo>
                    <a:pt x="580" y="6647"/>
                    <a:pt x="568" y="6636"/>
                    <a:pt x="568" y="6623"/>
                  </a:cubicBezTo>
                  <a:close/>
                  <a:moveTo>
                    <a:pt x="568" y="6523"/>
                  </a:moveTo>
                  <a:lnTo>
                    <a:pt x="568" y="6522"/>
                  </a:lnTo>
                  <a:cubicBezTo>
                    <a:pt x="567" y="6509"/>
                    <a:pt x="578" y="6497"/>
                    <a:pt x="592" y="6497"/>
                  </a:cubicBezTo>
                  <a:cubicBezTo>
                    <a:pt x="605" y="6496"/>
                    <a:pt x="617" y="6507"/>
                    <a:pt x="618" y="6521"/>
                  </a:cubicBezTo>
                  <a:lnTo>
                    <a:pt x="618" y="6521"/>
                  </a:lnTo>
                  <a:cubicBezTo>
                    <a:pt x="618" y="6534"/>
                    <a:pt x="607" y="6546"/>
                    <a:pt x="594" y="6547"/>
                  </a:cubicBezTo>
                  <a:cubicBezTo>
                    <a:pt x="580" y="6547"/>
                    <a:pt x="568" y="6536"/>
                    <a:pt x="568" y="6523"/>
                  </a:cubicBezTo>
                  <a:close/>
                  <a:moveTo>
                    <a:pt x="567" y="6422"/>
                  </a:moveTo>
                  <a:lnTo>
                    <a:pt x="567" y="6422"/>
                  </a:lnTo>
                  <a:cubicBezTo>
                    <a:pt x="567" y="6409"/>
                    <a:pt x="578" y="6397"/>
                    <a:pt x="591" y="6396"/>
                  </a:cubicBezTo>
                  <a:cubicBezTo>
                    <a:pt x="605" y="6396"/>
                    <a:pt x="617" y="6407"/>
                    <a:pt x="617" y="6420"/>
                  </a:cubicBezTo>
                  <a:lnTo>
                    <a:pt x="617" y="6421"/>
                  </a:lnTo>
                  <a:cubicBezTo>
                    <a:pt x="618" y="6434"/>
                    <a:pt x="607" y="6446"/>
                    <a:pt x="593" y="6446"/>
                  </a:cubicBezTo>
                  <a:cubicBezTo>
                    <a:pt x="580" y="6447"/>
                    <a:pt x="568" y="6436"/>
                    <a:pt x="567" y="6422"/>
                  </a:cubicBezTo>
                  <a:close/>
                  <a:moveTo>
                    <a:pt x="567" y="6322"/>
                  </a:moveTo>
                  <a:lnTo>
                    <a:pt x="567" y="6322"/>
                  </a:lnTo>
                  <a:cubicBezTo>
                    <a:pt x="567" y="6309"/>
                    <a:pt x="577" y="6297"/>
                    <a:pt x="591" y="6296"/>
                  </a:cubicBezTo>
                  <a:cubicBezTo>
                    <a:pt x="605" y="6296"/>
                    <a:pt x="617" y="6307"/>
                    <a:pt x="617" y="6320"/>
                  </a:cubicBezTo>
                  <a:lnTo>
                    <a:pt x="617" y="6320"/>
                  </a:lnTo>
                  <a:cubicBezTo>
                    <a:pt x="618" y="6334"/>
                    <a:pt x="607" y="6346"/>
                    <a:pt x="593" y="6346"/>
                  </a:cubicBezTo>
                  <a:cubicBezTo>
                    <a:pt x="579" y="6347"/>
                    <a:pt x="568" y="6336"/>
                    <a:pt x="567" y="6322"/>
                  </a:cubicBezTo>
                  <a:close/>
                  <a:moveTo>
                    <a:pt x="567" y="6222"/>
                  </a:moveTo>
                  <a:lnTo>
                    <a:pt x="567" y="6222"/>
                  </a:lnTo>
                  <a:cubicBezTo>
                    <a:pt x="566" y="6209"/>
                    <a:pt x="577" y="6197"/>
                    <a:pt x="591" y="6196"/>
                  </a:cubicBezTo>
                  <a:cubicBezTo>
                    <a:pt x="605" y="6196"/>
                    <a:pt x="616" y="6207"/>
                    <a:pt x="617" y="6220"/>
                  </a:cubicBezTo>
                  <a:lnTo>
                    <a:pt x="617" y="6220"/>
                  </a:lnTo>
                  <a:cubicBezTo>
                    <a:pt x="617" y="6234"/>
                    <a:pt x="607" y="6246"/>
                    <a:pt x="593" y="6246"/>
                  </a:cubicBezTo>
                  <a:cubicBezTo>
                    <a:pt x="579" y="6247"/>
                    <a:pt x="568" y="6236"/>
                    <a:pt x="567" y="6222"/>
                  </a:cubicBezTo>
                  <a:close/>
                  <a:moveTo>
                    <a:pt x="567" y="6122"/>
                  </a:moveTo>
                  <a:lnTo>
                    <a:pt x="567" y="6122"/>
                  </a:lnTo>
                  <a:cubicBezTo>
                    <a:pt x="566" y="6108"/>
                    <a:pt x="577" y="6097"/>
                    <a:pt x="591" y="6096"/>
                  </a:cubicBezTo>
                  <a:cubicBezTo>
                    <a:pt x="605" y="6096"/>
                    <a:pt x="616" y="6107"/>
                    <a:pt x="617" y="6120"/>
                  </a:cubicBezTo>
                  <a:lnTo>
                    <a:pt x="617" y="6120"/>
                  </a:lnTo>
                  <a:cubicBezTo>
                    <a:pt x="617" y="6134"/>
                    <a:pt x="607" y="6146"/>
                    <a:pt x="593" y="6146"/>
                  </a:cubicBezTo>
                  <a:cubicBezTo>
                    <a:pt x="579" y="6147"/>
                    <a:pt x="567" y="6136"/>
                    <a:pt x="567" y="6122"/>
                  </a:cubicBezTo>
                  <a:close/>
                  <a:moveTo>
                    <a:pt x="567" y="6022"/>
                  </a:moveTo>
                  <a:lnTo>
                    <a:pt x="567" y="6022"/>
                  </a:lnTo>
                  <a:cubicBezTo>
                    <a:pt x="566" y="6008"/>
                    <a:pt x="577" y="5997"/>
                    <a:pt x="591" y="5996"/>
                  </a:cubicBezTo>
                  <a:cubicBezTo>
                    <a:pt x="604" y="5996"/>
                    <a:pt x="616" y="6006"/>
                    <a:pt x="617" y="6020"/>
                  </a:cubicBezTo>
                  <a:lnTo>
                    <a:pt x="617" y="6020"/>
                  </a:lnTo>
                  <a:cubicBezTo>
                    <a:pt x="617" y="6034"/>
                    <a:pt x="606" y="6046"/>
                    <a:pt x="593" y="6046"/>
                  </a:cubicBezTo>
                  <a:cubicBezTo>
                    <a:pt x="579" y="6047"/>
                    <a:pt x="567" y="6036"/>
                    <a:pt x="567" y="6022"/>
                  </a:cubicBezTo>
                  <a:close/>
                  <a:moveTo>
                    <a:pt x="566" y="5922"/>
                  </a:moveTo>
                  <a:lnTo>
                    <a:pt x="566" y="5922"/>
                  </a:lnTo>
                  <a:cubicBezTo>
                    <a:pt x="566" y="5908"/>
                    <a:pt x="577" y="5897"/>
                    <a:pt x="590" y="5896"/>
                  </a:cubicBezTo>
                  <a:cubicBezTo>
                    <a:pt x="604" y="5896"/>
                    <a:pt x="616" y="5906"/>
                    <a:pt x="616" y="5920"/>
                  </a:cubicBezTo>
                  <a:lnTo>
                    <a:pt x="616" y="5920"/>
                  </a:lnTo>
                  <a:cubicBezTo>
                    <a:pt x="617" y="5934"/>
                    <a:pt x="606" y="5946"/>
                    <a:pt x="592" y="5946"/>
                  </a:cubicBezTo>
                  <a:cubicBezTo>
                    <a:pt x="579" y="5947"/>
                    <a:pt x="567" y="5936"/>
                    <a:pt x="566" y="5922"/>
                  </a:cubicBezTo>
                  <a:close/>
                  <a:moveTo>
                    <a:pt x="566" y="5822"/>
                  </a:moveTo>
                  <a:lnTo>
                    <a:pt x="566" y="5822"/>
                  </a:lnTo>
                  <a:cubicBezTo>
                    <a:pt x="566" y="5808"/>
                    <a:pt x="576" y="5797"/>
                    <a:pt x="590" y="5796"/>
                  </a:cubicBezTo>
                  <a:cubicBezTo>
                    <a:pt x="604" y="5796"/>
                    <a:pt x="616" y="5806"/>
                    <a:pt x="616" y="5820"/>
                  </a:cubicBezTo>
                  <a:lnTo>
                    <a:pt x="616" y="5820"/>
                  </a:lnTo>
                  <a:cubicBezTo>
                    <a:pt x="617" y="5834"/>
                    <a:pt x="606" y="5846"/>
                    <a:pt x="592" y="5846"/>
                  </a:cubicBezTo>
                  <a:cubicBezTo>
                    <a:pt x="578" y="5847"/>
                    <a:pt x="567" y="5836"/>
                    <a:pt x="566" y="5822"/>
                  </a:cubicBezTo>
                  <a:close/>
                  <a:moveTo>
                    <a:pt x="566" y="5722"/>
                  </a:moveTo>
                  <a:lnTo>
                    <a:pt x="566" y="5722"/>
                  </a:lnTo>
                  <a:cubicBezTo>
                    <a:pt x="565" y="5708"/>
                    <a:pt x="576" y="5697"/>
                    <a:pt x="590" y="5696"/>
                  </a:cubicBezTo>
                  <a:cubicBezTo>
                    <a:pt x="604" y="5696"/>
                    <a:pt x="615" y="5706"/>
                    <a:pt x="616" y="5720"/>
                  </a:cubicBezTo>
                  <a:lnTo>
                    <a:pt x="616" y="5720"/>
                  </a:lnTo>
                  <a:cubicBezTo>
                    <a:pt x="616" y="5734"/>
                    <a:pt x="606" y="5746"/>
                    <a:pt x="592" y="5746"/>
                  </a:cubicBezTo>
                  <a:cubicBezTo>
                    <a:pt x="578" y="5747"/>
                    <a:pt x="567" y="5736"/>
                    <a:pt x="566" y="5722"/>
                  </a:cubicBezTo>
                  <a:close/>
                  <a:moveTo>
                    <a:pt x="566" y="5622"/>
                  </a:moveTo>
                  <a:lnTo>
                    <a:pt x="566" y="5622"/>
                  </a:lnTo>
                  <a:cubicBezTo>
                    <a:pt x="565" y="5608"/>
                    <a:pt x="576" y="5597"/>
                    <a:pt x="590" y="5596"/>
                  </a:cubicBezTo>
                  <a:cubicBezTo>
                    <a:pt x="604" y="5596"/>
                    <a:pt x="615" y="5606"/>
                    <a:pt x="616" y="5620"/>
                  </a:cubicBezTo>
                  <a:lnTo>
                    <a:pt x="616" y="5620"/>
                  </a:lnTo>
                  <a:cubicBezTo>
                    <a:pt x="616" y="5634"/>
                    <a:pt x="606" y="5646"/>
                    <a:pt x="592" y="5646"/>
                  </a:cubicBezTo>
                  <a:cubicBezTo>
                    <a:pt x="578" y="5647"/>
                    <a:pt x="566" y="5636"/>
                    <a:pt x="566" y="5622"/>
                  </a:cubicBezTo>
                  <a:close/>
                  <a:moveTo>
                    <a:pt x="566" y="5522"/>
                  </a:moveTo>
                  <a:lnTo>
                    <a:pt x="566" y="5522"/>
                  </a:lnTo>
                  <a:cubicBezTo>
                    <a:pt x="565" y="5508"/>
                    <a:pt x="576" y="5497"/>
                    <a:pt x="590" y="5496"/>
                  </a:cubicBezTo>
                  <a:cubicBezTo>
                    <a:pt x="603" y="5495"/>
                    <a:pt x="615" y="5506"/>
                    <a:pt x="616" y="5520"/>
                  </a:cubicBezTo>
                  <a:lnTo>
                    <a:pt x="616" y="5520"/>
                  </a:lnTo>
                  <a:cubicBezTo>
                    <a:pt x="616" y="5534"/>
                    <a:pt x="605" y="5545"/>
                    <a:pt x="592" y="5546"/>
                  </a:cubicBezTo>
                  <a:cubicBezTo>
                    <a:pt x="578" y="5547"/>
                    <a:pt x="566" y="5536"/>
                    <a:pt x="566" y="5522"/>
                  </a:cubicBezTo>
                  <a:close/>
                  <a:moveTo>
                    <a:pt x="565" y="5422"/>
                  </a:moveTo>
                  <a:lnTo>
                    <a:pt x="565" y="5422"/>
                  </a:lnTo>
                  <a:cubicBezTo>
                    <a:pt x="565" y="5408"/>
                    <a:pt x="576" y="5396"/>
                    <a:pt x="589" y="5396"/>
                  </a:cubicBezTo>
                  <a:cubicBezTo>
                    <a:pt x="603" y="5395"/>
                    <a:pt x="615" y="5406"/>
                    <a:pt x="615" y="5420"/>
                  </a:cubicBezTo>
                  <a:lnTo>
                    <a:pt x="615" y="5420"/>
                  </a:lnTo>
                  <a:cubicBezTo>
                    <a:pt x="616" y="5434"/>
                    <a:pt x="605" y="5445"/>
                    <a:pt x="591" y="5446"/>
                  </a:cubicBezTo>
                  <a:cubicBezTo>
                    <a:pt x="578" y="5447"/>
                    <a:pt x="566" y="5436"/>
                    <a:pt x="565" y="5422"/>
                  </a:cubicBezTo>
                  <a:close/>
                  <a:moveTo>
                    <a:pt x="565" y="5322"/>
                  </a:moveTo>
                  <a:lnTo>
                    <a:pt x="565" y="5322"/>
                  </a:lnTo>
                  <a:cubicBezTo>
                    <a:pt x="565" y="5308"/>
                    <a:pt x="575" y="5296"/>
                    <a:pt x="589" y="5296"/>
                  </a:cubicBezTo>
                  <a:cubicBezTo>
                    <a:pt x="603" y="5295"/>
                    <a:pt x="615" y="5306"/>
                    <a:pt x="615" y="5320"/>
                  </a:cubicBezTo>
                  <a:lnTo>
                    <a:pt x="615" y="5320"/>
                  </a:lnTo>
                  <a:cubicBezTo>
                    <a:pt x="616" y="5334"/>
                    <a:pt x="605" y="5345"/>
                    <a:pt x="591" y="5346"/>
                  </a:cubicBezTo>
                  <a:cubicBezTo>
                    <a:pt x="577" y="5346"/>
                    <a:pt x="566" y="5336"/>
                    <a:pt x="565" y="5322"/>
                  </a:cubicBezTo>
                  <a:close/>
                  <a:moveTo>
                    <a:pt x="565" y="5222"/>
                  </a:moveTo>
                  <a:lnTo>
                    <a:pt x="565" y="5222"/>
                  </a:lnTo>
                  <a:cubicBezTo>
                    <a:pt x="564" y="5208"/>
                    <a:pt x="575" y="5196"/>
                    <a:pt x="589" y="5196"/>
                  </a:cubicBezTo>
                  <a:cubicBezTo>
                    <a:pt x="603" y="5195"/>
                    <a:pt x="614" y="5206"/>
                    <a:pt x="615" y="5220"/>
                  </a:cubicBezTo>
                  <a:lnTo>
                    <a:pt x="615" y="5220"/>
                  </a:lnTo>
                  <a:cubicBezTo>
                    <a:pt x="615" y="5234"/>
                    <a:pt x="605" y="5245"/>
                    <a:pt x="591" y="5246"/>
                  </a:cubicBezTo>
                  <a:cubicBezTo>
                    <a:pt x="577" y="5246"/>
                    <a:pt x="565" y="5236"/>
                    <a:pt x="565" y="5222"/>
                  </a:cubicBezTo>
                  <a:close/>
                  <a:moveTo>
                    <a:pt x="565" y="5122"/>
                  </a:moveTo>
                  <a:lnTo>
                    <a:pt x="565" y="5122"/>
                  </a:lnTo>
                  <a:cubicBezTo>
                    <a:pt x="564" y="5108"/>
                    <a:pt x="575" y="5096"/>
                    <a:pt x="589" y="5096"/>
                  </a:cubicBezTo>
                  <a:cubicBezTo>
                    <a:pt x="603" y="5095"/>
                    <a:pt x="614" y="5106"/>
                    <a:pt x="615" y="5120"/>
                  </a:cubicBezTo>
                  <a:lnTo>
                    <a:pt x="615" y="5120"/>
                  </a:lnTo>
                  <a:cubicBezTo>
                    <a:pt x="615" y="5134"/>
                    <a:pt x="604" y="5145"/>
                    <a:pt x="591" y="5146"/>
                  </a:cubicBezTo>
                  <a:cubicBezTo>
                    <a:pt x="577" y="5146"/>
                    <a:pt x="565" y="5136"/>
                    <a:pt x="565" y="5122"/>
                  </a:cubicBezTo>
                  <a:close/>
                  <a:moveTo>
                    <a:pt x="565" y="5022"/>
                  </a:moveTo>
                  <a:lnTo>
                    <a:pt x="565" y="5022"/>
                  </a:lnTo>
                  <a:cubicBezTo>
                    <a:pt x="564" y="5008"/>
                    <a:pt x="575" y="4996"/>
                    <a:pt x="589" y="4996"/>
                  </a:cubicBezTo>
                  <a:cubicBezTo>
                    <a:pt x="602" y="4995"/>
                    <a:pt x="614" y="5006"/>
                    <a:pt x="614" y="5020"/>
                  </a:cubicBezTo>
                  <a:lnTo>
                    <a:pt x="614" y="5020"/>
                  </a:lnTo>
                  <a:cubicBezTo>
                    <a:pt x="615" y="5034"/>
                    <a:pt x="604" y="5045"/>
                    <a:pt x="590" y="5046"/>
                  </a:cubicBezTo>
                  <a:cubicBezTo>
                    <a:pt x="577" y="5046"/>
                    <a:pt x="565" y="5036"/>
                    <a:pt x="565" y="5022"/>
                  </a:cubicBezTo>
                  <a:close/>
                  <a:moveTo>
                    <a:pt x="564" y="4922"/>
                  </a:moveTo>
                  <a:lnTo>
                    <a:pt x="564" y="4922"/>
                  </a:lnTo>
                  <a:cubicBezTo>
                    <a:pt x="564" y="4908"/>
                    <a:pt x="575" y="4896"/>
                    <a:pt x="588" y="4896"/>
                  </a:cubicBezTo>
                  <a:cubicBezTo>
                    <a:pt x="602" y="4895"/>
                    <a:pt x="614" y="4906"/>
                    <a:pt x="614" y="4920"/>
                  </a:cubicBezTo>
                  <a:lnTo>
                    <a:pt x="614" y="4920"/>
                  </a:lnTo>
                  <a:cubicBezTo>
                    <a:pt x="615" y="4934"/>
                    <a:pt x="604" y="4945"/>
                    <a:pt x="590" y="4946"/>
                  </a:cubicBezTo>
                  <a:cubicBezTo>
                    <a:pt x="576" y="4946"/>
                    <a:pt x="565" y="4936"/>
                    <a:pt x="564" y="4922"/>
                  </a:cubicBezTo>
                  <a:close/>
                  <a:moveTo>
                    <a:pt x="564" y="4822"/>
                  </a:moveTo>
                  <a:lnTo>
                    <a:pt x="564" y="4822"/>
                  </a:lnTo>
                  <a:cubicBezTo>
                    <a:pt x="564" y="4808"/>
                    <a:pt x="574" y="4796"/>
                    <a:pt x="588" y="4796"/>
                  </a:cubicBezTo>
                  <a:cubicBezTo>
                    <a:pt x="602" y="4795"/>
                    <a:pt x="614" y="4806"/>
                    <a:pt x="614" y="4820"/>
                  </a:cubicBezTo>
                  <a:lnTo>
                    <a:pt x="614" y="4820"/>
                  </a:lnTo>
                  <a:cubicBezTo>
                    <a:pt x="615" y="4834"/>
                    <a:pt x="604" y="4845"/>
                    <a:pt x="590" y="4846"/>
                  </a:cubicBezTo>
                  <a:cubicBezTo>
                    <a:pt x="576" y="4846"/>
                    <a:pt x="565" y="4835"/>
                    <a:pt x="564" y="4822"/>
                  </a:cubicBezTo>
                  <a:close/>
                  <a:moveTo>
                    <a:pt x="564" y="4722"/>
                  </a:moveTo>
                  <a:lnTo>
                    <a:pt x="564" y="4722"/>
                  </a:lnTo>
                  <a:cubicBezTo>
                    <a:pt x="563" y="4708"/>
                    <a:pt x="574" y="4696"/>
                    <a:pt x="588" y="4696"/>
                  </a:cubicBezTo>
                  <a:cubicBezTo>
                    <a:pt x="602" y="4695"/>
                    <a:pt x="613" y="4706"/>
                    <a:pt x="614" y="4720"/>
                  </a:cubicBezTo>
                  <a:lnTo>
                    <a:pt x="614" y="4720"/>
                  </a:lnTo>
                  <a:cubicBezTo>
                    <a:pt x="614" y="4733"/>
                    <a:pt x="604" y="4745"/>
                    <a:pt x="590" y="4746"/>
                  </a:cubicBezTo>
                  <a:cubicBezTo>
                    <a:pt x="576" y="4746"/>
                    <a:pt x="564" y="4735"/>
                    <a:pt x="564" y="4722"/>
                  </a:cubicBezTo>
                  <a:close/>
                  <a:moveTo>
                    <a:pt x="564" y="4622"/>
                  </a:moveTo>
                  <a:lnTo>
                    <a:pt x="564" y="4622"/>
                  </a:lnTo>
                  <a:cubicBezTo>
                    <a:pt x="563" y="4608"/>
                    <a:pt x="574" y="4596"/>
                    <a:pt x="588" y="4596"/>
                  </a:cubicBezTo>
                  <a:cubicBezTo>
                    <a:pt x="602" y="4595"/>
                    <a:pt x="613" y="4606"/>
                    <a:pt x="614" y="4620"/>
                  </a:cubicBezTo>
                  <a:lnTo>
                    <a:pt x="614" y="4620"/>
                  </a:lnTo>
                  <a:cubicBezTo>
                    <a:pt x="614" y="4633"/>
                    <a:pt x="603" y="4645"/>
                    <a:pt x="590" y="4646"/>
                  </a:cubicBezTo>
                  <a:cubicBezTo>
                    <a:pt x="576" y="4646"/>
                    <a:pt x="564" y="4635"/>
                    <a:pt x="564" y="4622"/>
                  </a:cubicBezTo>
                  <a:close/>
                  <a:moveTo>
                    <a:pt x="564" y="4522"/>
                  </a:moveTo>
                  <a:lnTo>
                    <a:pt x="564" y="4521"/>
                  </a:lnTo>
                  <a:cubicBezTo>
                    <a:pt x="563" y="4508"/>
                    <a:pt x="574" y="4496"/>
                    <a:pt x="588" y="4496"/>
                  </a:cubicBezTo>
                  <a:cubicBezTo>
                    <a:pt x="601" y="4495"/>
                    <a:pt x="613" y="4506"/>
                    <a:pt x="613" y="4520"/>
                  </a:cubicBezTo>
                  <a:lnTo>
                    <a:pt x="613" y="4520"/>
                  </a:lnTo>
                  <a:cubicBezTo>
                    <a:pt x="614" y="4533"/>
                    <a:pt x="603" y="4545"/>
                    <a:pt x="589" y="4546"/>
                  </a:cubicBezTo>
                  <a:cubicBezTo>
                    <a:pt x="576" y="4546"/>
                    <a:pt x="564" y="4535"/>
                    <a:pt x="564" y="4522"/>
                  </a:cubicBezTo>
                  <a:close/>
                  <a:moveTo>
                    <a:pt x="563" y="4421"/>
                  </a:moveTo>
                  <a:lnTo>
                    <a:pt x="563" y="4421"/>
                  </a:lnTo>
                  <a:cubicBezTo>
                    <a:pt x="563" y="4408"/>
                    <a:pt x="574" y="4396"/>
                    <a:pt x="587" y="4395"/>
                  </a:cubicBezTo>
                  <a:cubicBezTo>
                    <a:pt x="601" y="4395"/>
                    <a:pt x="613" y="4406"/>
                    <a:pt x="613" y="4419"/>
                  </a:cubicBezTo>
                  <a:lnTo>
                    <a:pt x="613" y="4420"/>
                  </a:lnTo>
                  <a:cubicBezTo>
                    <a:pt x="614" y="4433"/>
                    <a:pt x="603" y="4445"/>
                    <a:pt x="589" y="4445"/>
                  </a:cubicBezTo>
                  <a:cubicBezTo>
                    <a:pt x="575" y="4446"/>
                    <a:pt x="564" y="4435"/>
                    <a:pt x="563" y="4421"/>
                  </a:cubicBezTo>
                  <a:close/>
                  <a:moveTo>
                    <a:pt x="563" y="4321"/>
                  </a:moveTo>
                  <a:lnTo>
                    <a:pt x="563" y="4321"/>
                  </a:lnTo>
                  <a:cubicBezTo>
                    <a:pt x="563" y="4308"/>
                    <a:pt x="573" y="4296"/>
                    <a:pt x="587" y="4295"/>
                  </a:cubicBezTo>
                  <a:cubicBezTo>
                    <a:pt x="601" y="4295"/>
                    <a:pt x="613" y="4306"/>
                    <a:pt x="613" y="4319"/>
                  </a:cubicBezTo>
                  <a:lnTo>
                    <a:pt x="613" y="4319"/>
                  </a:lnTo>
                  <a:cubicBezTo>
                    <a:pt x="614" y="4333"/>
                    <a:pt x="603" y="4345"/>
                    <a:pt x="589" y="4345"/>
                  </a:cubicBezTo>
                  <a:cubicBezTo>
                    <a:pt x="575" y="4346"/>
                    <a:pt x="564" y="4335"/>
                    <a:pt x="563" y="4321"/>
                  </a:cubicBezTo>
                  <a:close/>
                  <a:moveTo>
                    <a:pt x="563" y="4221"/>
                  </a:moveTo>
                  <a:lnTo>
                    <a:pt x="563" y="4221"/>
                  </a:lnTo>
                  <a:cubicBezTo>
                    <a:pt x="562" y="4208"/>
                    <a:pt x="573" y="4196"/>
                    <a:pt x="587" y="4195"/>
                  </a:cubicBezTo>
                  <a:cubicBezTo>
                    <a:pt x="601" y="4195"/>
                    <a:pt x="612" y="4206"/>
                    <a:pt x="613" y="4219"/>
                  </a:cubicBezTo>
                  <a:lnTo>
                    <a:pt x="613" y="4219"/>
                  </a:lnTo>
                  <a:cubicBezTo>
                    <a:pt x="613" y="4233"/>
                    <a:pt x="603" y="4245"/>
                    <a:pt x="589" y="4245"/>
                  </a:cubicBezTo>
                  <a:cubicBezTo>
                    <a:pt x="575" y="4246"/>
                    <a:pt x="563" y="4235"/>
                    <a:pt x="563" y="4221"/>
                  </a:cubicBezTo>
                  <a:close/>
                  <a:moveTo>
                    <a:pt x="563" y="4121"/>
                  </a:moveTo>
                  <a:lnTo>
                    <a:pt x="563" y="4121"/>
                  </a:lnTo>
                  <a:cubicBezTo>
                    <a:pt x="562" y="4107"/>
                    <a:pt x="573" y="4096"/>
                    <a:pt x="587" y="4095"/>
                  </a:cubicBezTo>
                  <a:cubicBezTo>
                    <a:pt x="600" y="4095"/>
                    <a:pt x="612" y="4106"/>
                    <a:pt x="613" y="4119"/>
                  </a:cubicBezTo>
                  <a:lnTo>
                    <a:pt x="613" y="4119"/>
                  </a:lnTo>
                  <a:cubicBezTo>
                    <a:pt x="613" y="4133"/>
                    <a:pt x="602" y="4145"/>
                    <a:pt x="589" y="4145"/>
                  </a:cubicBezTo>
                  <a:cubicBezTo>
                    <a:pt x="575" y="4146"/>
                    <a:pt x="563" y="4135"/>
                    <a:pt x="563" y="4121"/>
                  </a:cubicBezTo>
                  <a:close/>
                  <a:moveTo>
                    <a:pt x="562" y="4021"/>
                  </a:moveTo>
                  <a:lnTo>
                    <a:pt x="562" y="4021"/>
                  </a:lnTo>
                  <a:cubicBezTo>
                    <a:pt x="562" y="4007"/>
                    <a:pt x="573" y="3996"/>
                    <a:pt x="586" y="3995"/>
                  </a:cubicBezTo>
                  <a:cubicBezTo>
                    <a:pt x="600" y="3995"/>
                    <a:pt x="612" y="4005"/>
                    <a:pt x="612" y="4019"/>
                  </a:cubicBezTo>
                  <a:lnTo>
                    <a:pt x="612" y="4019"/>
                  </a:lnTo>
                  <a:cubicBezTo>
                    <a:pt x="613" y="4033"/>
                    <a:pt x="602" y="4045"/>
                    <a:pt x="588" y="4045"/>
                  </a:cubicBezTo>
                  <a:cubicBezTo>
                    <a:pt x="575" y="4046"/>
                    <a:pt x="563" y="4035"/>
                    <a:pt x="562" y="4021"/>
                  </a:cubicBezTo>
                  <a:close/>
                  <a:moveTo>
                    <a:pt x="562" y="3921"/>
                  </a:moveTo>
                  <a:lnTo>
                    <a:pt x="562" y="3921"/>
                  </a:lnTo>
                  <a:cubicBezTo>
                    <a:pt x="562" y="3907"/>
                    <a:pt x="572" y="3896"/>
                    <a:pt x="586" y="3895"/>
                  </a:cubicBezTo>
                  <a:cubicBezTo>
                    <a:pt x="600" y="3895"/>
                    <a:pt x="612" y="3905"/>
                    <a:pt x="612" y="3919"/>
                  </a:cubicBezTo>
                  <a:lnTo>
                    <a:pt x="612" y="3919"/>
                  </a:lnTo>
                  <a:cubicBezTo>
                    <a:pt x="613" y="3933"/>
                    <a:pt x="602" y="3945"/>
                    <a:pt x="588" y="3945"/>
                  </a:cubicBezTo>
                  <a:cubicBezTo>
                    <a:pt x="574" y="3946"/>
                    <a:pt x="563" y="3935"/>
                    <a:pt x="562" y="3921"/>
                  </a:cubicBezTo>
                  <a:close/>
                  <a:moveTo>
                    <a:pt x="562" y="3821"/>
                  </a:moveTo>
                  <a:lnTo>
                    <a:pt x="562" y="3821"/>
                  </a:lnTo>
                  <a:cubicBezTo>
                    <a:pt x="562" y="3807"/>
                    <a:pt x="572" y="3796"/>
                    <a:pt x="586" y="3795"/>
                  </a:cubicBezTo>
                  <a:cubicBezTo>
                    <a:pt x="600" y="3795"/>
                    <a:pt x="611" y="3805"/>
                    <a:pt x="612" y="3819"/>
                  </a:cubicBezTo>
                  <a:lnTo>
                    <a:pt x="612" y="3819"/>
                  </a:lnTo>
                  <a:cubicBezTo>
                    <a:pt x="613" y="3833"/>
                    <a:pt x="602" y="3845"/>
                    <a:pt x="588" y="3845"/>
                  </a:cubicBezTo>
                  <a:cubicBezTo>
                    <a:pt x="574" y="3846"/>
                    <a:pt x="563" y="3835"/>
                    <a:pt x="562" y="3821"/>
                  </a:cubicBezTo>
                  <a:close/>
                  <a:moveTo>
                    <a:pt x="562" y="3721"/>
                  </a:moveTo>
                  <a:lnTo>
                    <a:pt x="562" y="3721"/>
                  </a:lnTo>
                  <a:cubicBezTo>
                    <a:pt x="561" y="3707"/>
                    <a:pt x="572" y="3696"/>
                    <a:pt x="586" y="3695"/>
                  </a:cubicBezTo>
                  <a:cubicBezTo>
                    <a:pt x="600" y="3695"/>
                    <a:pt x="611" y="3705"/>
                    <a:pt x="612" y="3719"/>
                  </a:cubicBezTo>
                  <a:lnTo>
                    <a:pt x="612" y="3719"/>
                  </a:lnTo>
                  <a:cubicBezTo>
                    <a:pt x="612" y="3733"/>
                    <a:pt x="602" y="3745"/>
                    <a:pt x="588" y="3745"/>
                  </a:cubicBezTo>
                  <a:cubicBezTo>
                    <a:pt x="574" y="3746"/>
                    <a:pt x="562" y="3735"/>
                    <a:pt x="562" y="3721"/>
                  </a:cubicBezTo>
                  <a:close/>
                  <a:moveTo>
                    <a:pt x="562" y="3621"/>
                  </a:moveTo>
                  <a:lnTo>
                    <a:pt x="562" y="3621"/>
                  </a:lnTo>
                  <a:cubicBezTo>
                    <a:pt x="561" y="3607"/>
                    <a:pt x="572" y="3596"/>
                    <a:pt x="586" y="3595"/>
                  </a:cubicBezTo>
                  <a:cubicBezTo>
                    <a:pt x="599" y="3595"/>
                    <a:pt x="611" y="3605"/>
                    <a:pt x="612" y="3619"/>
                  </a:cubicBezTo>
                  <a:lnTo>
                    <a:pt x="612" y="3619"/>
                  </a:lnTo>
                  <a:cubicBezTo>
                    <a:pt x="612" y="3633"/>
                    <a:pt x="601" y="3645"/>
                    <a:pt x="588" y="3645"/>
                  </a:cubicBezTo>
                  <a:cubicBezTo>
                    <a:pt x="574" y="3646"/>
                    <a:pt x="562" y="3635"/>
                    <a:pt x="562" y="3621"/>
                  </a:cubicBezTo>
                  <a:close/>
                  <a:moveTo>
                    <a:pt x="561" y="3521"/>
                  </a:moveTo>
                  <a:lnTo>
                    <a:pt x="561" y="3521"/>
                  </a:lnTo>
                  <a:cubicBezTo>
                    <a:pt x="561" y="3507"/>
                    <a:pt x="572" y="3496"/>
                    <a:pt x="585" y="3495"/>
                  </a:cubicBezTo>
                  <a:cubicBezTo>
                    <a:pt x="599" y="3494"/>
                    <a:pt x="611" y="3505"/>
                    <a:pt x="611" y="3519"/>
                  </a:cubicBezTo>
                  <a:lnTo>
                    <a:pt x="611" y="3519"/>
                  </a:lnTo>
                  <a:cubicBezTo>
                    <a:pt x="612" y="3533"/>
                    <a:pt x="601" y="3544"/>
                    <a:pt x="587" y="3545"/>
                  </a:cubicBezTo>
                  <a:cubicBezTo>
                    <a:pt x="574" y="3546"/>
                    <a:pt x="562" y="3535"/>
                    <a:pt x="561" y="3521"/>
                  </a:cubicBezTo>
                  <a:close/>
                  <a:moveTo>
                    <a:pt x="561" y="3421"/>
                  </a:moveTo>
                  <a:lnTo>
                    <a:pt x="561" y="3421"/>
                  </a:lnTo>
                  <a:cubicBezTo>
                    <a:pt x="561" y="3407"/>
                    <a:pt x="571" y="3395"/>
                    <a:pt x="585" y="3395"/>
                  </a:cubicBezTo>
                  <a:cubicBezTo>
                    <a:pt x="599" y="3394"/>
                    <a:pt x="611" y="3405"/>
                    <a:pt x="611" y="3419"/>
                  </a:cubicBezTo>
                  <a:lnTo>
                    <a:pt x="611" y="3419"/>
                  </a:lnTo>
                  <a:cubicBezTo>
                    <a:pt x="612" y="3433"/>
                    <a:pt x="601" y="3444"/>
                    <a:pt x="587" y="3445"/>
                  </a:cubicBezTo>
                  <a:cubicBezTo>
                    <a:pt x="573" y="3446"/>
                    <a:pt x="562" y="3435"/>
                    <a:pt x="561" y="3421"/>
                  </a:cubicBezTo>
                  <a:close/>
                  <a:moveTo>
                    <a:pt x="561" y="3321"/>
                  </a:moveTo>
                  <a:lnTo>
                    <a:pt x="561" y="3321"/>
                  </a:lnTo>
                  <a:cubicBezTo>
                    <a:pt x="561" y="3307"/>
                    <a:pt x="571" y="3295"/>
                    <a:pt x="585" y="3295"/>
                  </a:cubicBezTo>
                  <a:cubicBezTo>
                    <a:pt x="599" y="3294"/>
                    <a:pt x="610" y="3305"/>
                    <a:pt x="611" y="3319"/>
                  </a:cubicBezTo>
                  <a:lnTo>
                    <a:pt x="611" y="3319"/>
                  </a:lnTo>
                  <a:cubicBezTo>
                    <a:pt x="612" y="3333"/>
                    <a:pt x="601" y="3344"/>
                    <a:pt x="587" y="3345"/>
                  </a:cubicBezTo>
                  <a:cubicBezTo>
                    <a:pt x="573" y="3345"/>
                    <a:pt x="562" y="3335"/>
                    <a:pt x="561" y="3321"/>
                  </a:cubicBezTo>
                  <a:close/>
                  <a:moveTo>
                    <a:pt x="561" y="3221"/>
                  </a:moveTo>
                  <a:lnTo>
                    <a:pt x="561" y="3221"/>
                  </a:lnTo>
                  <a:cubicBezTo>
                    <a:pt x="560" y="3207"/>
                    <a:pt x="571" y="3195"/>
                    <a:pt x="585" y="3195"/>
                  </a:cubicBezTo>
                  <a:cubicBezTo>
                    <a:pt x="599" y="3194"/>
                    <a:pt x="610" y="3205"/>
                    <a:pt x="611" y="3219"/>
                  </a:cubicBezTo>
                  <a:lnTo>
                    <a:pt x="611" y="3219"/>
                  </a:lnTo>
                  <a:cubicBezTo>
                    <a:pt x="611" y="3233"/>
                    <a:pt x="601" y="3244"/>
                    <a:pt x="587" y="3245"/>
                  </a:cubicBezTo>
                  <a:cubicBezTo>
                    <a:pt x="573" y="3245"/>
                    <a:pt x="561" y="3235"/>
                    <a:pt x="561" y="3221"/>
                  </a:cubicBezTo>
                  <a:close/>
                  <a:moveTo>
                    <a:pt x="561" y="3121"/>
                  </a:moveTo>
                  <a:lnTo>
                    <a:pt x="561" y="3121"/>
                  </a:lnTo>
                  <a:cubicBezTo>
                    <a:pt x="560" y="3107"/>
                    <a:pt x="571" y="3095"/>
                    <a:pt x="585" y="3095"/>
                  </a:cubicBezTo>
                  <a:cubicBezTo>
                    <a:pt x="598" y="3094"/>
                    <a:pt x="610" y="3105"/>
                    <a:pt x="611" y="3119"/>
                  </a:cubicBezTo>
                  <a:lnTo>
                    <a:pt x="611" y="3119"/>
                  </a:lnTo>
                  <a:cubicBezTo>
                    <a:pt x="611" y="3133"/>
                    <a:pt x="600" y="3144"/>
                    <a:pt x="587" y="3145"/>
                  </a:cubicBezTo>
                  <a:cubicBezTo>
                    <a:pt x="573" y="3145"/>
                    <a:pt x="561" y="3135"/>
                    <a:pt x="561" y="3121"/>
                  </a:cubicBezTo>
                  <a:close/>
                  <a:moveTo>
                    <a:pt x="560" y="3021"/>
                  </a:moveTo>
                  <a:lnTo>
                    <a:pt x="560" y="3021"/>
                  </a:lnTo>
                  <a:cubicBezTo>
                    <a:pt x="560" y="3007"/>
                    <a:pt x="571" y="2995"/>
                    <a:pt x="584" y="2995"/>
                  </a:cubicBezTo>
                  <a:cubicBezTo>
                    <a:pt x="598" y="2994"/>
                    <a:pt x="610" y="3005"/>
                    <a:pt x="610" y="3019"/>
                  </a:cubicBezTo>
                  <a:lnTo>
                    <a:pt x="610" y="3019"/>
                  </a:lnTo>
                  <a:cubicBezTo>
                    <a:pt x="611" y="3033"/>
                    <a:pt x="600" y="3044"/>
                    <a:pt x="586" y="3045"/>
                  </a:cubicBezTo>
                  <a:cubicBezTo>
                    <a:pt x="573" y="3045"/>
                    <a:pt x="561" y="3035"/>
                    <a:pt x="560" y="3021"/>
                  </a:cubicBezTo>
                  <a:close/>
                  <a:moveTo>
                    <a:pt x="560" y="2921"/>
                  </a:moveTo>
                  <a:lnTo>
                    <a:pt x="560" y="2921"/>
                  </a:lnTo>
                  <a:cubicBezTo>
                    <a:pt x="560" y="2907"/>
                    <a:pt x="570" y="2895"/>
                    <a:pt x="584" y="2895"/>
                  </a:cubicBezTo>
                  <a:cubicBezTo>
                    <a:pt x="598" y="2894"/>
                    <a:pt x="610" y="2905"/>
                    <a:pt x="610" y="2919"/>
                  </a:cubicBezTo>
                  <a:lnTo>
                    <a:pt x="610" y="2919"/>
                  </a:lnTo>
                  <a:cubicBezTo>
                    <a:pt x="611" y="2933"/>
                    <a:pt x="600" y="2944"/>
                    <a:pt x="586" y="2945"/>
                  </a:cubicBezTo>
                  <a:cubicBezTo>
                    <a:pt x="572" y="2945"/>
                    <a:pt x="561" y="2935"/>
                    <a:pt x="560" y="2921"/>
                  </a:cubicBezTo>
                  <a:close/>
                  <a:moveTo>
                    <a:pt x="560" y="2821"/>
                  </a:moveTo>
                  <a:lnTo>
                    <a:pt x="560" y="2821"/>
                  </a:lnTo>
                  <a:cubicBezTo>
                    <a:pt x="559" y="2807"/>
                    <a:pt x="570" y="2795"/>
                    <a:pt x="584" y="2795"/>
                  </a:cubicBezTo>
                  <a:cubicBezTo>
                    <a:pt x="598" y="2794"/>
                    <a:pt x="609" y="2805"/>
                    <a:pt x="610" y="2819"/>
                  </a:cubicBezTo>
                  <a:lnTo>
                    <a:pt x="610" y="2819"/>
                  </a:lnTo>
                  <a:cubicBezTo>
                    <a:pt x="611" y="2833"/>
                    <a:pt x="600" y="2844"/>
                    <a:pt x="586" y="2845"/>
                  </a:cubicBezTo>
                  <a:cubicBezTo>
                    <a:pt x="572" y="2845"/>
                    <a:pt x="561" y="2834"/>
                    <a:pt x="560" y="2821"/>
                  </a:cubicBezTo>
                  <a:close/>
                  <a:moveTo>
                    <a:pt x="560" y="2721"/>
                  </a:moveTo>
                  <a:lnTo>
                    <a:pt x="560" y="2721"/>
                  </a:lnTo>
                  <a:cubicBezTo>
                    <a:pt x="559" y="2707"/>
                    <a:pt x="570" y="2695"/>
                    <a:pt x="584" y="2695"/>
                  </a:cubicBezTo>
                  <a:cubicBezTo>
                    <a:pt x="598" y="2694"/>
                    <a:pt x="609" y="2705"/>
                    <a:pt x="610" y="2719"/>
                  </a:cubicBezTo>
                  <a:lnTo>
                    <a:pt x="610" y="2719"/>
                  </a:lnTo>
                  <a:cubicBezTo>
                    <a:pt x="610" y="2732"/>
                    <a:pt x="600" y="2744"/>
                    <a:pt x="586" y="2745"/>
                  </a:cubicBezTo>
                  <a:cubicBezTo>
                    <a:pt x="572" y="2745"/>
                    <a:pt x="560" y="2734"/>
                    <a:pt x="560" y="2721"/>
                  </a:cubicBezTo>
                  <a:close/>
                  <a:moveTo>
                    <a:pt x="560" y="2621"/>
                  </a:moveTo>
                  <a:lnTo>
                    <a:pt x="560" y="2621"/>
                  </a:lnTo>
                  <a:cubicBezTo>
                    <a:pt x="559" y="2607"/>
                    <a:pt x="570" y="2595"/>
                    <a:pt x="584" y="2595"/>
                  </a:cubicBezTo>
                  <a:cubicBezTo>
                    <a:pt x="597" y="2594"/>
                    <a:pt x="609" y="2605"/>
                    <a:pt x="610" y="2619"/>
                  </a:cubicBezTo>
                  <a:lnTo>
                    <a:pt x="610" y="2619"/>
                  </a:lnTo>
                  <a:cubicBezTo>
                    <a:pt x="610" y="2632"/>
                    <a:pt x="599" y="2644"/>
                    <a:pt x="586" y="2645"/>
                  </a:cubicBezTo>
                  <a:cubicBezTo>
                    <a:pt x="572" y="2645"/>
                    <a:pt x="560" y="2634"/>
                    <a:pt x="560" y="2621"/>
                  </a:cubicBezTo>
                  <a:close/>
                  <a:moveTo>
                    <a:pt x="559" y="2521"/>
                  </a:moveTo>
                  <a:lnTo>
                    <a:pt x="559" y="2520"/>
                  </a:lnTo>
                  <a:cubicBezTo>
                    <a:pt x="559" y="2507"/>
                    <a:pt x="570" y="2495"/>
                    <a:pt x="583" y="2495"/>
                  </a:cubicBezTo>
                  <a:cubicBezTo>
                    <a:pt x="597" y="2494"/>
                    <a:pt x="609" y="2505"/>
                    <a:pt x="609" y="2519"/>
                  </a:cubicBezTo>
                  <a:lnTo>
                    <a:pt x="609" y="2519"/>
                  </a:lnTo>
                  <a:cubicBezTo>
                    <a:pt x="610" y="2532"/>
                    <a:pt x="599" y="2544"/>
                    <a:pt x="585" y="2545"/>
                  </a:cubicBezTo>
                  <a:cubicBezTo>
                    <a:pt x="572" y="2545"/>
                    <a:pt x="560" y="2534"/>
                    <a:pt x="559" y="2521"/>
                  </a:cubicBezTo>
                  <a:close/>
                  <a:moveTo>
                    <a:pt x="559" y="2420"/>
                  </a:moveTo>
                  <a:lnTo>
                    <a:pt x="559" y="2420"/>
                  </a:lnTo>
                  <a:cubicBezTo>
                    <a:pt x="559" y="2407"/>
                    <a:pt x="569" y="2395"/>
                    <a:pt x="583" y="2394"/>
                  </a:cubicBezTo>
                  <a:cubicBezTo>
                    <a:pt x="597" y="2394"/>
                    <a:pt x="609" y="2405"/>
                    <a:pt x="609" y="2418"/>
                  </a:cubicBezTo>
                  <a:lnTo>
                    <a:pt x="609" y="2419"/>
                  </a:lnTo>
                  <a:cubicBezTo>
                    <a:pt x="610" y="2432"/>
                    <a:pt x="599" y="2444"/>
                    <a:pt x="585" y="2444"/>
                  </a:cubicBezTo>
                  <a:cubicBezTo>
                    <a:pt x="571" y="2445"/>
                    <a:pt x="560" y="2434"/>
                    <a:pt x="559" y="2420"/>
                  </a:cubicBezTo>
                  <a:close/>
                  <a:moveTo>
                    <a:pt x="559" y="2320"/>
                  </a:moveTo>
                  <a:lnTo>
                    <a:pt x="559" y="2320"/>
                  </a:lnTo>
                  <a:cubicBezTo>
                    <a:pt x="558" y="2307"/>
                    <a:pt x="569" y="2295"/>
                    <a:pt x="583" y="2294"/>
                  </a:cubicBezTo>
                  <a:cubicBezTo>
                    <a:pt x="597" y="2294"/>
                    <a:pt x="608" y="2305"/>
                    <a:pt x="609" y="2318"/>
                  </a:cubicBezTo>
                  <a:lnTo>
                    <a:pt x="609" y="2318"/>
                  </a:lnTo>
                  <a:cubicBezTo>
                    <a:pt x="610" y="2332"/>
                    <a:pt x="599" y="2344"/>
                    <a:pt x="585" y="2344"/>
                  </a:cubicBezTo>
                  <a:cubicBezTo>
                    <a:pt x="571" y="2345"/>
                    <a:pt x="560" y="2334"/>
                    <a:pt x="559" y="2320"/>
                  </a:cubicBezTo>
                  <a:close/>
                  <a:moveTo>
                    <a:pt x="559" y="2220"/>
                  </a:moveTo>
                  <a:lnTo>
                    <a:pt x="559" y="2220"/>
                  </a:lnTo>
                  <a:cubicBezTo>
                    <a:pt x="558" y="2207"/>
                    <a:pt x="569" y="2195"/>
                    <a:pt x="583" y="2194"/>
                  </a:cubicBezTo>
                  <a:cubicBezTo>
                    <a:pt x="597" y="2194"/>
                    <a:pt x="608" y="2205"/>
                    <a:pt x="609" y="2218"/>
                  </a:cubicBezTo>
                  <a:lnTo>
                    <a:pt x="609" y="2218"/>
                  </a:lnTo>
                  <a:cubicBezTo>
                    <a:pt x="609" y="2232"/>
                    <a:pt x="599" y="2244"/>
                    <a:pt x="585" y="2244"/>
                  </a:cubicBezTo>
                  <a:cubicBezTo>
                    <a:pt x="571" y="2245"/>
                    <a:pt x="559" y="2234"/>
                    <a:pt x="559" y="2220"/>
                  </a:cubicBezTo>
                  <a:close/>
                  <a:moveTo>
                    <a:pt x="559" y="2120"/>
                  </a:moveTo>
                  <a:lnTo>
                    <a:pt x="559" y="2120"/>
                  </a:lnTo>
                  <a:cubicBezTo>
                    <a:pt x="558" y="2106"/>
                    <a:pt x="569" y="2095"/>
                    <a:pt x="583" y="2094"/>
                  </a:cubicBezTo>
                  <a:cubicBezTo>
                    <a:pt x="596" y="2094"/>
                    <a:pt x="608" y="2105"/>
                    <a:pt x="609" y="2118"/>
                  </a:cubicBezTo>
                  <a:lnTo>
                    <a:pt x="609" y="2118"/>
                  </a:lnTo>
                  <a:cubicBezTo>
                    <a:pt x="609" y="2132"/>
                    <a:pt x="598" y="2144"/>
                    <a:pt x="585" y="2144"/>
                  </a:cubicBezTo>
                  <a:cubicBezTo>
                    <a:pt x="571" y="2145"/>
                    <a:pt x="559" y="2134"/>
                    <a:pt x="559" y="2120"/>
                  </a:cubicBezTo>
                  <a:close/>
                  <a:moveTo>
                    <a:pt x="558" y="2020"/>
                  </a:moveTo>
                  <a:lnTo>
                    <a:pt x="558" y="2020"/>
                  </a:lnTo>
                  <a:cubicBezTo>
                    <a:pt x="558" y="2006"/>
                    <a:pt x="569" y="1995"/>
                    <a:pt x="582" y="1994"/>
                  </a:cubicBezTo>
                  <a:cubicBezTo>
                    <a:pt x="596" y="1994"/>
                    <a:pt x="608" y="2004"/>
                    <a:pt x="608" y="2018"/>
                  </a:cubicBezTo>
                  <a:lnTo>
                    <a:pt x="608" y="2018"/>
                  </a:lnTo>
                  <a:cubicBezTo>
                    <a:pt x="609" y="2032"/>
                    <a:pt x="598" y="2044"/>
                    <a:pt x="584" y="2044"/>
                  </a:cubicBezTo>
                  <a:cubicBezTo>
                    <a:pt x="571" y="2045"/>
                    <a:pt x="559" y="2034"/>
                    <a:pt x="558" y="2020"/>
                  </a:cubicBezTo>
                  <a:close/>
                  <a:moveTo>
                    <a:pt x="558" y="1920"/>
                  </a:moveTo>
                  <a:lnTo>
                    <a:pt x="558" y="1920"/>
                  </a:lnTo>
                  <a:cubicBezTo>
                    <a:pt x="558" y="1906"/>
                    <a:pt x="568" y="1895"/>
                    <a:pt x="582" y="1894"/>
                  </a:cubicBezTo>
                  <a:cubicBezTo>
                    <a:pt x="596" y="1894"/>
                    <a:pt x="608" y="1904"/>
                    <a:pt x="608" y="1918"/>
                  </a:cubicBezTo>
                  <a:lnTo>
                    <a:pt x="608" y="1918"/>
                  </a:lnTo>
                  <a:cubicBezTo>
                    <a:pt x="609" y="1932"/>
                    <a:pt x="598" y="1944"/>
                    <a:pt x="584" y="1944"/>
                  </a:cubicBezTo>
                  <a:cubicBezTo>
                    <a:pt x="570" y="1945"/>
                    <a:pt x="559" y="1934"/>
                    <a:pt x="558" y="1920"/>
                  </a:cubicBezTo>
                  <a:close/>
                  <a:moveTo>
                    <a:pt x="558" y="1820"/>
                  </a:moveTo>
                  <a:lnTo>
                    <a:pt x="558" y="1820"/>
                  </a:lnTo>
                  <a:cubicBezTo>
                    <a:pt x="557" y="1806"/>
                    <a:pt x="568" y="1795"/>
                    <a:pt x="582" y="1794"/>
                  </a:cubicBezTo>
                  <a:cubicBezTo>
                    <a:pt x="596" y="1794"/>
                    <a:pt x="607" y="1804"/>
                    <a:pt x="608" y="1818"/>
                  </a:cubicBezTo>
                  <a:lnTo>
                    <a:pt x="608" y="1818"/>
                  </a:lnTo>
                  <a:cubicBezTo>
                    <a:pt x="608" y="1832"/>
                    <a:pt x="598" y="1844"/>
                    <a:pt x="584" y="1844"/>
                  </a:cubicBezTo>
                  <a:cubicBezTo>
                    <a:pt x="570" y="1845"/>
                    <a:pt x="559" y="1834"/>
                    <a:pt x="558" y="1820"/>
                  </a:cubicBezTo>
                  <a:close/>
                  <a:moveTo>
                    <a:pt x="558" y="1720"/>
                  </a:moveTo>
                  <a:lnTo>
                    <a:pt x="558" y="1720"/>
                  </a:lnTo>
                  <a:cubicBezTo>
                    <a:pt x="557" y="1706"/>
                    <a:pt x="568" y="1695"/>
                    <a:pt x="582" y="1694"/>
                  </a:cubicBezTo>
                  <a:cubicBezTo>
                    <a:pt x="596" y="1694"/>
                    <a:pt x="607" y="1704"/>
                    <a:pt x="608" y="1718"/>
                  </a:cubicBezTo>
                  <a:lnTo>
                    <a:pt x="608" y="1718"/>
                  </a:lnTo>
                  <a:cubicBezTo>
                    <a:pt x="608" y="1732"/>
                    <a:pt x="598" y="1744"/>
                    <a:pt x="584" y="1744"/>
                  </a:cubicBezTo>
                  <a:cubicBezTo>
                    <a:pt x="570" y="1745"/>
                    <a:pt x="558" y="1734"/>
                    <a:pt x="558" y="1720"/>
                  </a:cubicBezTo>
                  <a:close/>
                  <a:moveTo>
                    <a:pt x="558" y="1620"/>
                  </a:moveTo>
                  <a:lnTo>
                    <a:pt x="558" y="1620"/>
                  </a:lnTo>
                  <a:cubicBezTo>
                    <a:pt x="557" y="1606"/>
                    <a:pt x="568" y="1595"/>
                    <a:pt x="582" y="1594"/>
                  </a:cubicBezTo>
                  <a:cubicBezTo>
                    <a:pt x="595" y="1594"/>
                    <a:pt x="607" y="1604"/>
                    <a:pt x="608" y="1618"/>
                  </a:cubicBezTo>
                  <a:lnTo>
                    <a:pt x="608" y="1618"/>
                  </a:lnTo>
                  <a:cubicBezTo>
                    <a:pt x="608" y="1632"/>
                    <a:pt x="597" y="1644"/>
                    <a:pt x="584" y="1644"/>
                  </a:cubicBezTo>
                  <a:cubicBezTo>
                    <a:pt x="570" y="1645"/>
                    <a:pt x="558" y="1634"/>
                    <a:pt x="558" y="1620"/>
                  </a:cubicBezTo>
                  <a:close/>
                  <a:moveTo>
                    <a:pt x="557" y="1520"/>
                  </a:moveTo>
                  <a:lnTo>
                    <a:pt x="557" y="1520"/>
                  </a:lnTo>
                  <a:cubicBezTo>
                    <a:pt x="557" y="1506"/>
                    <a:pt x="568" y="1495"/>
                    <a:pt x="581" y="1494"/>
                  </a:cubicBezTo>
                  <a:cubicBezTo>
                    <a:pt x="595" y="1493"/>
                    <a:pt x="607" y="1504"/>
                    <a:pt x="607" y="1518"/>
                  </a:cubicBezTo>
                  <a:lnTo>
                    <a:pt x="607" y="1518"/>
                  </a:lnTo>
                  <a:cubicBezTo>
                    <a:pt x="608" y="1532"/>
                    <a:pt x="597" y="1543"/>
                    <a:pt x="583" y="1544"/>
                  </a:cubicBezTo>
                  <a:cubicBezTo>
                    <a:pt x="570" y="1545"/>
                    <a:pt x="558" y="1534"/>
                    <a:pt x="557" y="1520"/>
                  </a:cubicBezTo>
                  <a:close/>
                  <a:moveTo>
                    <a:pt x="557" y="1420"/>
                  </a:moveTo>
                  <a:lnTo>
                    <a:pt x="557" y="1420"/>
                  </a:lnTo>
                  <a:cubicBezTo>
                    <a:pt x="557" y="1406"/>
                    <a:pt x="567" y="1395"/>
                    <a:pt x="581" y="1394"/>
                  </a:cubicBezTo>
                  <a:cubicBezTo>
                    <a:pt x="595" y="1393"/>
                    <a:pt x="607" y="1404"/>
                    <a:pt x="607" y="1418"/>
                  </a:cubicBezTo>
                  <a:lnTo>
                    <a:pt x="607" y="1418"/>
                  </a:lnTo>
                  <a:cubicBezTo>
                    <a:pt x="608" y="1432"/>
                    <a:pt x="597" y="1443"/>
                    <a:pt x="583" y="1444"/>
                  </a:cubicBezTo>
                  <a:cubicBezTo>
                    <a:pt x="569" y="1445"/>
                    <a:pt x="558" y="1434"/>
                    <a:pt x="557" y="1420"/>
                  </a:cubicBezTo>
                  <a:close/>
                  <a:moveTo>
                    <a:pt x="557" y="1320"/>
                  </a:moveTo>
                  <a:lnTo>
                    <a:pt x="557" y="1320"/>
                  </a:lnTo>
                  <a:cubicBezTo>
                    <a:pt x="556" y="1306"/>
                    <a:pt x="567" y="1294"/>
                    <a:pt x="581" y="1294"/>
                  </a:cubicBezTo>
                  <a:cubicBezTo>
                    <a:pt x="595" y="1293"/>
                    <a:pt x="606" y="1304"/>
                    <a:pt x="607" y="1318"/>
                  </a:cubicBezTo>
                  <a:lnTo>
                    <a:pt x="607" y="1318"/>
                  </a:lnTo>
                  <a:cubicBezTo>
                    <a:pt x="607" y="1332"/>
                    <a:pt x="597" y="1343"/>
                    <a:pt x="583" y="1344"/>
                  </a:cubicBezTo>
                  <a:cubicBezTo>
                    <a:pt x="569" y="1344"/>
                    <a:pt x="558" y="1334"/>
                    <a:pt x="557" y="1320"/>
                  </a:cubicBezTo>
                  <a:close/>
                  <a:moveTo>
                    <a:pt x="557" y="1220"/>
                  </a:moveTo>
                  <a:lnTo>
                    <a:pt x="557" y="1220"/>
                  </a:lnTo>
                  <a:cubicBezTo>
                    <a:pt x="556" y="1206"/>
                    <a:pt x="567" y="1194"/>
                    <a:pt x="581" y="1194"/>
                  </a:cubicBezTo>
                  <a:cubicBezTo>
                    <a:pt x="595" y="1193"/>
                    <a:pt x="606" y="1204"/>
                    <a:pt x="607" y="1218"/>
                  </a:cubicBezTo>
                  <a:lnTo>
                    <a:pt x="607" y="1218"/>
                  </a:lnTo>
                  <a:cubicBezTo>
                    <a:pt x="607" y="1232"/>
                    <a:pt x="597" y="1243"/>
                    <a:pt x="583" y="1244"/>
                  </a:cubicBezTo>
                  <a:cubicBezTo>
                    <a:pt x="569" y="1244"/>
                    <a:pt x="557" y="1234"/>
                    <a:pt x="557" y="1220"/>
                  </a:cubicBezTo>
                  <a:close/>
                  <a:moveTo>
                    <a:pt x="557" y="1120"/>
                  </a:moveTo>
                  <a:lnTo>
                    <a:pt x="557" y="1120"/>
                  </a:lnTo>
                  <a:cubicBezTo>
                    <a:pt x="556" y="1106"/>
                    <a:pt x="567" y="1094"/>
                    <a:pt x="581" y="1094"/>
                  </a:cubicBezTo>
                  <a:cubicBezTo>
                    <a:pt x="594" y="1093"/>
                    <a:pt x="606" y="1104"/>
                    <a:pt x="607" y="1118"/>
                  </a:cubicBezTo>
                  <a:lnTo>
                    <a:pt x="607" y="1118"/>
                  </a:lnTo>
                  <a:cubicBezTo>
                    <a:pt x="607" y="1132"/>
                    <a:pt x="596" y="1143"/>
                    <a:pt x="583" y="1144"/>
                  </a:cubicBezTo>
                  <a:cubicBezTo>
                    <a:pt x="569" y="1144"/>
                    <a:pt x="557" y="1134"/>
                    <a:pt x="557" y="1120"/>
                  </a:cubicBezTo>
                  <a:close/>
                  <a:moveTo>
                    <a:pt x="556" y="1020"/>
                  </a:moveTo>
                  <a:lnTo>
                    <a:pt x="556" y="1020"/>
                  </a:lnTo>
                  <a:cubicBezTo>
                    <a:pt x="556" y="1006"/>
                    <a:pt x="567" y="994"/>
                    <a:pt x="580" y="994"/>
                  </a:cubicBezTo>
                  <a:cubicBezTo>
                    <a:pt x="594" y="993"/>
                    <a:pt x="606" y="1004"/>
                    <a:pt x="606" y="1018"/>
                  </a:cubicBezTo>
                  <a:lnTo>
                    <a:pt x="606" y="1018"/>
                  </a:lnTo>
                  <a:cubicBezTo>
                    <a:pt x="607" y="1032"/>
                    <a:pt x="596" y="1043"/>
                    <a:pt x="582" y="1044"/>
                  </a:cubicBezTo>
                  <a:cubicBezTo>
                    <a:pt x="569" y="1044"/>
                    <a:pt x="557" y="1034"/>
                    <a:pt x="556" y="1020"/>
                  </a:cubicBezTo>
                  <a:close/>
                  <a:moveTo>
                    <a:pt x="556" y="920"/>
                  </a:moveTo>
                  <a:lnTo>
                    <a:pt x="556" y="920"/>
                  </a:lnTo>
                  <a:cubicBezTo>
                    <a:pt x="556" y="906"/>
                    <a:pt x="566" y="894"/>
                    <a:pt x="580" y="894"/>
                  </a:cubicBezTo>
                  <a:cubicBezTo>
                    <a:pt x="594" y="893"/>
                    <a:pt x="606" y="904"/>
                    <a:pt x="606" y="918"/>
                  </a:cubicBezTo>
                  <a:lnTo>
                    <a:pt x="606" y="918"/>
                  </a:lnTo>
                  <a:cubicBezTo>
                    <a:pt x="607" y="932"/>
                    <a:pt x="596" y="943"/>
                    <a:pt x="582" y="944"/>
                  </a:cubicBezTo>
                  <a:cubicBezTo>
                    <a:pt x="568" y="944"/>
                    <a:pt x="557" y="934"/>
                    <a:pt x="556" y="920"/>
                  </a:cubicBezTo>
                  <a:close/>
                  <a:moveTo>
                    <a:pt x="556" y="820"/>
                  </a:moveTo>
                  <a:lnTo>
                    <a:pt x="556" y="820"/>
                  </a:lnTo>
                  <a:cubicBezTo>
                    <a:pt x="555" y="806"/>
                    <a:pt x="566" y="794"/>
                    <a:pt x="580" y="794"/>
                  </a:cubicBezTo>
                  <a:cubicBezTo>
                    <a:pt x="594" y="793"/>
                    <a:pt x="605" y="804"/>
                    <a:pt x="606" y="818"/>
                  </a:cubicBezTo>
                  <a:lnTo>
                    <a:pt x="606" y="818"/>
                  </a:lnTo>
                  <a:cubicBezTo>
                    <a:pt x="606" y="832"/>
                    <a:pt x="596" y="843"/>
                    <a:pt x="582" y="844"/>
                  </a:cubicBezTo>
                  <a:cubicBezTo>
                    <a:pt x="568" y="844"/>
                    <a:pt x="557" y="833"/>
                    <a:pt x="556" y="820"/>
                  </a:cubicBezTo>
                  <a:close/>
                  <a:moveTo>
                    <a:pt x="556" y="720"/>
                  </a:moveTo>
                  <a:lnTo>
                    <a:pt x="556" y="720"/>
                  </a:lnTo>
                  <a:cubicBezTo>
                    <a:pt x="555" y="706"/>
                    <a:pt x="566" y="694"/>
                    <a:pt x="580" y="694"/>
                  </a:cubicBezTo>
                  <a:cubicBezTo>
                    <a:pt x="594" y="693"/>
                    <a:pt x="605" y="704"/>
                    <a:pt x="606" y="718"/>
                  </a:cubicBezTo>
                  <a:lnTo>
                    <a:pt x="606" y="718"/>
                  </a:lnTo>
                  <a:cubicBezTo>
                    <a:pt x="606" y="731"/>
                    <a:pt x="596" y="743"/>
                    <a:pt x="582" y="744"/>
                  </a:cubicBezTo>
                  <a:cubicBezTo>
                    <a:pt x="568" y="744"/>
                    <a:pt x="556" y="733"/>
                    <a:pt x="556" y="720"/>
                  </a:cubicBezTo>
                  <a:close/>
                  <a:moveTo>
                    <a:pt x="556" y="620"/>
                  </a:moveTo>
                  <a:lnTo>
                    <a:pt x="556" y="620"/>
                  </a:lnTo>
                  <a:cubicBezTo>
                    <a:pt x="555" y="606"/>
                    <a:pt x="566" y="594"/>
                    <a:pt x="580" y="594"/>
                  </a:cubicBezTo>
                  <a:cubicBezTo>
                    <a:pt x="593" y="593"/>
                    <a:pt x="605" y="604"/>
                    <a:pt x="606" y="618"/>
                  </a:cubicBezTo>
                  <a:lnTo>
                    <a:pt x="606" y="618"/>
                  </a:lnTo>
                  <a:cubicBezTo>
                    <a:pt x="606" y="631"/>
                    <a:pt x="595" y="643"/>
                    <a:pt x="582" y="644"/>
                  </a:cubicBezTo>
                  <a:cubicBezTo>
                    <a:pt x="568" y="644"/>
                    <a:pt x="556" y="633"/>
                    <a:pt x="556" y="620"/>
                  </a:cubicBezTo>
                  <a:close/>
                  <a:moveTo>
                    <a:pt x="555" y="520"/>
                  </a:moveTo>
                  <a:lnTo>
                    <a:pt x="555" y="519"/>
                  </a:lnTo>
                  <a:cubicBezTo>
                    <a:pt x="555" y="506"/>
                    <a:pt x="566" y="494"/>
                    <a:pt x="579" y="494"/>
                  </a:cubicBezTo>
                  <a:cubicBezTo>
                    <a:pt x="593" y="493"/>
                    <a:pt x="605" y="504"/>
                    <a:pt x="605" y="518"/>
                  </a:cubicBezTo>
                  <a:lnTo>
                    <a:pt x="605" y="518"/>
                  </a:lnTo>
                  <a:cubicBezTo>
                    <a:pt x="606" y="531"/>
                    <a:pt x="595" y="543"/>
                    <a:pt x="581" y="544"/>
                  </a:cubicBezTo>
                  <a:cubicBezTo>
                    <a:pt x="568" y="544"/>
                    <a:pt x="556" y="533"/>
                    <a:pt x="555" y="520"/>
                  </a:cubicBezTo>
                  <a:close/>
                  <a:moveTo>
                    <a:pt x="555" y="419"/>
                  </a:moveTo>
                  <a:lnTo>
                    <a:pt x="555" y="419"/>
                  </a:lnTo>
                  <a:cubicBezTo>
                    <a:pt x="555" y="406"/>
                    <a:pt x="565" y="394"/>
                    <a:pt x="579" y="393"/>
                  </a:cubicBezTo>
                  <a:cubicBezTo>
                    <a:pt x="593" y="393"/>
                    <a:pt x="605" y="404"/>
                    <a:pt x="605" y="417"/>
                  </a:cubicBezTo>
                  <a:lnTo>
                    <a:pt x="605" y="418"/>
                  </a:lnTo>
                  <a:cubicBezTo>
                    <a:pt x="606" y="431"/>
                    <a:pt x="595" y="443"/>
                    <a:pt x="581" y="443"/>
                  </a:cubicBezTo>
                  <a:cubicBezTo>
                    <a:pt x="567" y="444"/>
                    <a:pt x="556" y="433"/>
                    <a:pt x="555" y="419"/>
                  </a:cubicBezTo>
                  <a:close/>
                  <a:moveTo>
                    <a:pt x="555" y="319"/>
                  </a:moveTo>
                  <a:lnTo>
                    <a:pt x="555" y="319"/>
                  </a:lnTo>
                  <a:cubicBezTo>
                    <a:pt x="554" y="306"/>
                    <a:pt x="565" y="294"/>
                    <a:pt x="579" y="293"/>
                  </a:cubicBezTo>
                  <a:cubicBezTo>
                    <a:pt x="593" y="293"/>
                    <a:pt x="604" y="304"/>
                    <a:pt x="605" y="317"/>
                  </a:cubicBezTo>
                  <a:lnTo>
                    <a:pt x="605" y="317"/>
                  </a:lnTo>
                  <a:cubicBezTo>
                    <a:pt x="605" y="331"/>
                    <a:pt x="595" y="343"/>
                    <a:pt x="581" y="343"/>
                  </a:cubicBezTo>
                  <a:cubicBezTo>
                    <a:pt x="567" y="344"/>
                    <a:pt x="556" y="333"/>
                    <a:pt x="555" y="319"/>
                  </a:cubicBezTo>
                  <a:close/>
                  <a:moveTo>
                    <a:pt x="555" y="219"/>
                  </a:moveTo>
                  <a:lnTo>
                    <a:pt x="555" y="219"/>
                  </a:lnTo>
                  <a:cubicBezTo>
                    <a:pt x="554" y="206"/>
                    <a:pt x="565" y="194"/>
                    <a:pt x="579" y="193"/>
                  </a:cubicBezTo>
                  <a:cubicBezTo>
                    <a:pt x="593" y="193"/>
                    <a:pt x="604" y="204"/>
                    <a:pt x="605" y="217"/>
                  </a:cubicBezTo>
                  <a:lnTo>
                    <a:pt x="605" y="217"/>
                  </a:lnTo>
                  <a:cubicBezTo>
                    <a:pt x="605" y="231"/>
                    <a:pt x="595" y="243"/>
                    <a:pt x="581" y="243"/>
                  </a:cubicBezTo>
                  <a:cubicBezTo>
                    <a:pt x="567" y="244"/>
                    <a:pt x="555" y="233"/>
                    <a:pt x="555" y="219"/>
                  </a:cubicBezTo>
                  <a:close/>
                  <a:moveTo>
                    <a:pt x="551" y="176"/>
                  </a:moveTo>
                  <a:lnTo>
                    <a:pt x="551" y="176"/>
                  </a:lnTo>
                  <a:cubicBezTo>
                    <a:pt x="538" y="177"/>
                    <a:pt x="526" y="166"/>
                    <a:pt x="525" y="152"/>
                  </a:cubicBezTo>
                  <a:cubicBezTo>
                    <a:pt x="524" y="139"/>
                    <a:pt x="534" y="127"/>
                    <a:pt x="548" y="126"/>
                  </a:cubicBezTo>
                  <a:lnTo>
                    <a:pt x="548" y="126"/>
                  </a:lnTo>
                  <a:cubicBezTo>
                    <a:pt x="562" y="125"/>
                    <a:pt x="574" y="135"/>
                    <a:pt x="575" y="149"/>
                  </a:cubicBezTo>
                  <a:cubicBezTo>
                    <a:pt x="576" y="163"/>
                    <a:pt x="565" y="175"/>
                    <a:pt x="551" y="176"/>
                  </a:cubicBezTo>
                  <a:close/>
                  <a:moveTo>
                    <a:pt x="452" y="183"/>
                  </a:moveTo>
                  <a:lnTo>
                    <a:pt x="451" y="183"/>
                  </a:lnTo>
                  <a:cubicBezTo>
                    <a:pt x="438" y="184"/>
                    <a:pt x="426" y="173"/>
                    <a:pt x="425" y="160"/>
                  </a:cubicBezTo>
                  <a:cubicBezTo>
                    <a:pt x="424" y="146"/>
                    <a:pt x="434" y="134"/>
                    <a:pt x="448" y="133"/>
                  </a:cubicBezTo>
                  <a:lnTo>
                    <a:pt x="448" y="133"/>
                  </a:lnTo>
                  <a:cubicBezTo>
                    <a:pt x="462" y="132"/>
                    <a:pt x="474" y="142"/>
                    <a:pt x="475" y="156"/>
                  </a:cubicBezTo>
                  <a:cubicBezTo>
                    <a:pt x="476" y="170"/>
                    <a:pt x="465" y="182"/>
                    <a:pt x="452" y="183"/>
                  </a:cubicBezTo>
                  <a:close/>
                  <a:moveTo>
                    <a:pt x="352" y="190"/>
                  </a:moveTo>
                  <a:lnTo>
                    <a:pt x="352" y="190"/>
                  </a:lnTo>
                  <a:cubicBezTo>
                    <a:pt x="338" y="191"/>
                    <a:pt x="326" y="181"/>
                    <a:pt x="325" y="167"/>
                  </a:cubicBezTo>
                  <a:cubicBezTo>
                    <a:pt x="324" y="153"/>
                    <a:pt x="334" y="141"/>
                    <a:pt x="348" y="140"/>
                  </a:cubicBezTo>
                  <a:lnTo>
                    <a:pt x="348" y="140"/>
                  </a:lnTo>
                  <a:cubicBezTo>
                    <a:pt x="362" y="139"/>
                    <a:pt x="374" y="149"/>
                    <a:pt x="375" y="163"/>
                  </a:cubicBezTo>
                  <a:cubicBezTo>
                    <a:pt x="376" y="177"/>
                    <a:pt x="366" y="189"/>
                    <a:pt x="352" y="190"/>
                  </a:cubicBezTo>
                  <a:close/>
                  <a:moveTo>
                    <a:pt x="345" y="332"/>
                  </a:moveTo>
                  <a:lnTo>
                    <a:pt x="0" y="190"/>
                  </a:lnTo>
                  <a:lnTo>
                    <a:pt x="321" y="0"/>
                  </a:lnTo>
                  <a:lnTo>
                    <a:pt x="345" y="3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6200000">
              <a:off x="4767120" y="287388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573" name=""/>
            <p:cNvSpPr/>
            <p:nvPr/>
          </p:nvSpPr>
          <p:spPr>
            <a:xfrm rot="16200000">
              <a:off x="7675560" y="281520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4" name=""/>
          <p:cNvGrpSpPr/>
          <p:nvPr/>
        </p:nvGrpSpPr>
        <p:grpSpPr>
          <a:xfrm>
            <a:off x="1047600" y="1622520"/>
            <a:ext cx="847800" cy="1839960"/>
            <a:chOff x="1047600" y="1622520"/>
            <a:chExt cx="847800" cy="1839960"/>
          </a:xfrm>
        </p:grpSpPr>
        <p:sp>
          <p:nvSpPr>
            <p:cNvPr id="575" name=""/>
            <p:cNvSpPr/>
            <p:nvPr/>
          </p:nvSpPr>
          <p:spPr>
            <a:xfrm>
              <a:off x="1174680" y="1622520"/>
              <a:ext cx="720720" cy="1839960"/>
            </a:xfrm>
            <a:custGeom>
              <a:avLst/>
              <a:gdLst/>
              <a:ahLst/>
              <a:rect l="l" t="t" r="r" b="b"/>
              <a:pathLst>
                <a:path w="4849" h="12399">
                  <a:moveTo>
                    <a:pt x="38" y="12349"/>
                  </a:moveTo>
                  <a:lnTo>
                    <a:pt x="38" y="12349"/>
                  </a:lnTo>
                  <a:cubicBezTo>
                    <a:pt x="38" y="12321"/>
                    <a:pt x="60" y="12298"/>
                    <a:pt x="88" y="12298"/>
                  </a:cubicBezTo>
                  <a:cubicBezTo>
                    <a:pt x="115" y="12298"/>
                    <a:pt x="138" y="12321"/>
                    <a:pt x="138" y="12348"/>
                  </a:cubicBezTo>
                  <a:lnTo>
                    <a:pt x="138" y="12348"/>
                  </a:lnTo>
                  <a:cubicBezTo>
                    <a:pt x="138" y="12376"/>
                    <a:pt x="116" y="12398"/>
                    <a:pt x="88" y="12398"/>
                  </a:cubicBezTo>
                  <a:cubicBezTo>
                    <a:pt x="60" y="12399"/>
                    <a:pt x="38" y="12376"/>
                    <a:pt x="38" y="12349"/>
                  </a:cubicBezTo>
                  <a:close/>
                  <a:moveTo>
                    <a:pt x="37" y="12149"/>
                  </a:moveTo>
                  <a:lnTo>
                    <a:pt x="37" y="12148"/>
                  </a:lnTo>
                  <a:cubicBezTo>
                    <a:pt x="37" y="12121"/>
                    <a:pt x="59" y="12098"/>
                    <a:pt x="87" y="12098"/>
                  </a:cubicBezTo>
                  <a:cubicBezTo>
                    <a:pt x="115" y="12098"/>
                    <a:pt x="137" y="12120"/>
                    <a:pt x="137" y="12148"/>
                  </a:cubicBezTo>
                  <a:lnTo>
                    <a:pt x="137" y="12148"/>
                  </a:lnTo>
                  <a:cubicBezTo>
                    <a:pt x="137" y="12176"/>
                    <a:pt x="115" y="12198"/>
                    <a:pt x="87" y="12198"/>
                  </a:cubicBezTo>
                  <a:cubicBezTo>
                    <a:pt x="60" y="12198"/>
                    <a:pt x="37" y="12176"/>
                    <a:pt x="37" y="12149"/>
                  </a:cubicBezTo>
                  <a:close/>
                  <a:moveTo>
                    <a:pt x="37" y="11948"/>
                  </a:moveTo>
                  <a:lnTo>
                    <a:pt x="37" y="11948"/>
                  </a:lnTo>
                  <a:cubicBezTo>
                    <a:pt x="37" y="11921"/>
                    <a:pt x="59" y="11898"/>
                    <a:pt x="86" y="11898"/>
                  </a:cubicBezTo>
                  <a:cubicBezTo>
                    <a:pt x="114" y="11898"/>
                    <a:pt x="137" y="11920"/>
                    <a:pt x="137" y="11948"/>
                  </a:cubicBezTo>
                  <a:lnTo>
                    <a:pt x="137" y="11948"/>
                  </a:lnTo>
                  <a:cubicBezTo>
                    <a:pt x="137" y="11976"/>
                    <a:pt x="114" y="11998"/>
                    <a:pt x="87" y="11998"/>
                  </a:cubicBezTo>
                  <a:cubicBezTo>
                    <a:pt x="59" y="11998"/>
                    <a:pt x="37" y="11976"/>
                    <a:pt x="37" y="11948"/>
                  </a:cubicBezTo>
                  <a:close/>
                  <a:moveTo>
                    <a:pt x="36" y="11748"/>
                  </a:moveTo>
                  <a:lnTo>
                    <a:pt x="36" y="11748"/>
                  </a:lnTo>
                  <a:cubicBezTo>
                    <a:pt x="36" y="11721"/>
                    <a:pt x="58" y="11698"/>
                    <a:pt x="86" y="11698"/>
                  </a:cubicBezTo>
                  <a:cubicBezTo>
                    <a:pt x="113" y="11698"/>
                    <a:pt x="136" y="11720"/>
                    <a:pt x="136" y="11748"/>
                  </a:cubicBezTo>
                  <a:lnTo>
                    <a:pt x="136" y="11748"/>
                  </a:lnTo>
                  <a:cubicBezTo>
                    <a:pt x="136" y="11776"/>
                    <a:pt x="114" y="11798"/>
                    <a:pt x="86" y="11798"/>
                  </a:cubicBezTo>
                  <a:cubicBezTo>
                    <a:pt x="59" y="11798"/>
                    <a:pt x="36" y="11776"/>
                    <a:pt x="36" y="11748"/>
                  </a:cubicBezTo>
                  <a:close/>
                  <a:moveTo>
                    <a:pt x="35" y="11548"/>
                  </a:moveTo>
                  <a:lnTo>
                    <a:pt x="35" y="11548"/>
                  </a:lnTo>
                  <a:cubicBezTo>
                    <a:pt x="35" y="11521"/>
                    <a:pt x="58" y="11498"/>
                    <a:pt x="85" y="11498"/>
                  </a:cubicBezTo>
                  <a:cubicBezTo>
                    <a:pt x="113" y="11498"/>
                    <a:pt x="135" y="11520"/>
                    <a:pt x="135" y="11548"/>
                  </a:cubicBezTo>
                  <a:lnTo>
                    <a:pt x="135" y="11548"/>
                  </a:lnTo>
                  <a:cubicBezTo>
                    <a:pt x="135" y="11575"/>
                    <a:pt x="113" y="11598"/>
                    <a:pt x="86" y="11598"/>
                  </a:cubicBezTo>
                  <a:cubicBezTo>
                    <a:pt x="58" y="11598"/>
                    <a:pt x="35" y="11576"/>
                    <a:pt x="35" y="11548"/>
                  </a:cubicBezTo>
                  <a:close/>
                  <a:moveTo>
                    <a:pt x="35" y="11348"/>
                  </a:moveTo>
                  <a:lnTo>
                    <a:pt x="35" y="11348"/>
                  </a:lnTo>
                  <a:cubicBezTo>
                    <a:pt x="35" y="11320"/>
                    <a:pt x="57" y="11298"/>
                    <a:pt x="85" y="11298"/>
                  </a:cubicBezTo>
                  <a:cubicBezTo>
                    <a:pt x="112" y="11298"/>
                    <a:pt x="135" y="11320"/>
                    <a:pt x="135" y="11348"/>
                  </a:cubicBezTo>
                  <a:lnTo>
                    <a:pt x="135" y="11348"/>
                  </a:lnTo>
                  <a:cubicBezTo>
                    <a:pt x="135" y="11375"/>
                    <a:pt x="112" y="11398"/>
                    <a:pt x="85" y="11398"/>
                  </a:cubicBezTo>
                  <a:cubicBezTo>
                    <a:pt x="57" y="11398"/>
                    <a:pt x="35" y="11376"/>
                    <a:pt x="35" y="11348"/>
                  </a:cubicBezTo>
                  <a:close/>
                  <a:moveTo>
                    <a:pt x="34" y="11148"/>
                  </a:moveTo>
                  <a:lnTo>
                    <a:pt x="34" y="11148"/>
                  </a:lnTo>
                  <a:cubicBezTo>
                    <a:pt x="34" y="11120"/>
                    <a:pt x="56" y="11098"/>
                    <a:pt x="84" y="11098"/>
                  </a:cubicBezTo>
                  <a:cubicBezTo>
                    <a:pt x="112" y="11098"/>
                    <a:pt x="134" y="11120"/>
                    <a:pt x="134" y="11148"/>
                  </a:cubicBezTo>
                  <a:lnTo>
                    <a:pt x="134" y="11148"/>
                  </a:lnTo>
                  <a:cubicBezTo>
                    <a:pt x="134" y="11175"/>
                    <a:pt x="112" y="11198"/>
                    <a:pt x="84" y="11198"/>
                  </a:cubicBezTo>
                  <a:cubicBezTo>
                    <a:pt x="57" y="11198"/>
                    <a:pt x="34" y="11176"/>
                    <a:pt x="34" y="11148"/>
                  </a:cubicBezTo>
                  <a:close/>
                  <a:moveTo>
                    <a:pt x="33" y="10948"/>
                  </a:moveTo>
                  <a:lnTo>
                    <a:pt x="33" y="10948"/>
                  </a:lnTo>
                  <a:cubicBezTo>
                    <a:pt x="33" y="10920"/>
                    <a:pt x="56" y="10898"/>
                    <a:pt x="83" y="10898"/>
                  </a:cubicBezTo>
                  <a:cubicBezTo>
                    <a:pt x="111" y="10898"/>
                    <a:pt x="133" y="10920"/>
                    <a:pt x="133" y="10947"/>
                  </a:cubicBezTo>
                  <a:lnTo>
                    <a:pt x="133" y="10948"/>
                  </a:lnTo>
                  <a:cubicBezTo>
                    <a:pt x="134" y="10975"/>
                    <a:pt x="111" y="10998"/>
                    <a:pt x="84" y="10998"/>
                  </a:cubicBezTo>
                  <a:cubicBezTo>
                    <a:pt x="56" y="10998"/>
                    <a:pt x="34" y="10976"/>
                    <a:pt x="33" y="10948"/>
                  </a:cubicBezTo>
                  <a:close/>
                  <a:moveTo>
                    <a:pt x="33" y="10748"/>
                  </a:moveTo>
                  <a:lnTo>
                    <a:pt x="33" y="10748"/>
                  </a:lnTo>
                  <a:cubicBezTo>
                    <a:pt x="33" y="10720"/>
                    <a:pt x="55" y="10698"/>
                    <a:pt x="83" y="10698"/>
                  </a:cubicBezTo>
                  <a:cubicBezTo>
                    <a:pt x="110" y="10697"/>
                    <a:pt x="133" y="10720"/>
                    <a:pt x="133" y="10747"/>
                  </a:cubicBezTo>
                  <a:lnTo>
                    <a:pt x="133" y="10747"/>
                  </a:lnTo>
                  <a:cubicBezTo>
                    <a:pt x="133" y="10775"/>
                    <a:pt x="111" y="10798"/>
                    <a:pt x="83" y="10798"/>
                  </a:cubicBezTo>
                  <a:cubicBezTo>
                    <a:pt x="55" y="10798"/>
                    <a:pt x="33" y="10775"/>
                    <a:pt x="33" y="10748"/>
                  </a:cubicBezTo>
                  <a:close/>
                  <a:moveTo>
                    <a:pt x="32" y="10548"/>
                  </a:moveTo>
                  <a:lnTo>
                    <a:pt x="32" y="10548"/>
                  </a:lnTo>
                  <a:cubicBezTo>
                    <a:pt x="32" y="10520"/>
                    <a:pt x="54" y="10498"/>
                    <a:pt x="82" y="10497"/>
                  </a:cubicBezTo>
                  <a:cubicBezTo>
                    <a:pt x="110" y="10497"/>
                    <a:pt x="132" y="10520"/>
                    <a:pt x="132" y="10547"/>
                  </a:cubicBezTo>
                  <a:lnTo>
                    <a:pt x="132" y="10547"/>
                  </a:lnTo>
                  <a:cubicBezTo>
                    <a:pt x="132" y="10575"/>
                    <a:pt x="110" y="10597"/>
                    <a:pt x="82" y="10598"/>
                  </a:cubicBezTo>
                  <a:cubicBezTo>
                    <a:pt x="55" y="10598"/>
                    <a:pt x="32" y="10575"/>
                    <a:pt x="32" y="10548"/>
                  </a:cubicBezTo>
                  <a:close/>
                  <a:moveTo>
                    <a:pt x="32" y="10348"/>
                  </a:moveTo>
                  <a:lnTo>
                    <a:pt x="32" y="10348"/>
                  </a:lnTo>
                  <a:cubicBezTo>
                    <a:pt x="31" y="10320"/>
                    <a:pt x="54" y="10297"/>
                    <a:pt x="81" y="10297"/>
                  </a:cubicBezTo>
                  <a:cubicBezTo>
                    <a:pt x="109" y="10297"/>
                    <a:pt x="131" y="10320"/>
                    <a:pt x="132" y="10347"/>
                  </a:cubicBezTo>
                  <a:lnTo>
                    <a:pt x="132" y="10347"/>
                  </a:lnTo>
                  <a:cubicBezTo>
                    <a:pt x="132" y="10375"/>
                    <a:pt x="109" y="10397"/>
                    <a:pt x="82" y="10397"/>
                  </a:cubicBezTo>
                  <a:cubicBezTo>
                    <a:pt x="54" y="10398"/>
                    <a:pt x="32" y="10375"/>
                    <a:pt x="32" y="10348"/>
                  </a:cubicBezTo>
                  <a:close/>
                  <a:moveTo>
                    <a:pt x="31" y="10148"/>
                  </a:moveTo>
                  <a:lnTo>
                    <a:pt x="31" y="10147"/>
                  </a:lnTo>
                  <a:cubicBezTo>
                    <a:pt x="31" y="10120"/>
                    <a:pt x="53" y="10097"/>
                    <a:pt x="81" y="10097"/>
                  </a:cubicBezTo>
                  <a:cubicBezTo>
                    <a:pt x="108" y="10097"/>
                    <a:pt x="131" y="10119"/>
                    <a:pt x="131" y="10147"/>
                  </a:cubicBezTo>
                  <a:lnTo>
                    <a:pt x="131" y="10147"/>
                  </a:lnTo>
                  <a:cubicBezTo>
                    <a:pt x="131" y="10175"/>
                    <a:pt x="109" y="10197"/>
                    <a:pt x="81" y="10197"/>
                  </a:cubicBezTo>
                  <a:cubicBezTo>
                    <a:pt x="53" y="10197"/>
                    <a:pt x="31" y="10175"/>
                    <a:pt x="31" y="10148"/>
                  </a:cubicBezTo>
                  <a:close/>
                  <a:moveTo>
                    <a:pt x="30" y="9947"/>
                  </a:moveTo>
                  <a:lnTo>
                    <a:pt x="30" y="9947"/>
                  </a:lnTo>
                  <a:cubicBezTo>
                    <a:pt x="30" y="9920"/>
                    <a:pt x="52" y="9897"/>
                    <a:pt x="80" y="9897"/>
                  </a:cubicBezTo>
                  <a:cubicBezTo>
                    <a:pt x="108" y="9897"/>
                    <a:pt x="130" y="9919"/>
                    <a:pt x="130" y="9947"/>
                  </a:cubicBezTo>
                  <a:lnTo>
                    <a:pt x="130" y="9947"/>
                  </a:lnTo>
                  <a:cubicBezTo>
                    <a:pt x="130" y="9975"/>
                    <a:pt x="108" y="9997"/>
                    <a:pt x="80" y="9997"/>
                  </a:cubicBezTo>
                  <a:cubicBezTo>
                    <a:pt x="53" y="9997"/>
                    <a:pt x="30" y="9975"/>
                    <a:pt x="30" y="9947"/>
                  </a:cubicBezTo>
                  <a:close/>
                  <a:moveTo>
                    <a:pt x="30" y="9747"/>
                  </a:moveTo>
                  <a:lnTo>
                    <a:pt x="30" y="9747"/>
                  </a:lnTo>
                  <a:cubicBezTo>
                    <a:pt x="30" y="9720"/>
                    <a:pt x="52" y="9697"/>
                    <a:pt x="79" y="9697"/>
                  </a:cubicBezTo>
                  <a:cubicBezTo>
                    <a:pt x="107" y="9697"/>
                    <a:pt x="130" y="9719"/>
                    <a:pt x="130" y="9747"/>
                  </a:cubicBezTo>
                  <a:lnTo>
                    <a:pt x="130" y="9747"/>
                  </a:lnTo>
                  <a:cubicBezTo>
                    <a:pt x="130" y="9775"/>
                    <a:pt x="107" y="9797"/>
                    <a:pt x="80" y="9797"/>
                  </a:cubicBezTo>
                  <a:cubicBezTo>
                    <a:pt x="52" y="9797"/>
                    <a:pt x="30" y="9775"/>
                    <a:pt x="30" y="9747"/>
                  </a:cubicBezTo>
                  <a:close/>
                  <a:moveTo>
                    <a:pt x="29" y="9547"/>
                  </a:moveTo>
                  <a:lnTo>
                    <a:pt x="29" y="9547"/>
                  </a:lnTo>
                  <a:cubicBezTo>
                    <a:pt x="29" y="9520"/>
                    <a:pt x="51" y="9497"/>
                    <a:pt x="79" y="9497"/>
                  </a:cubicBezTo>
                  <a:cubicBezTo>
                    <a:pt x="106" y="9497"/>
                    <a:pt x="129" y="9519"/>
                    <a:pt x="129" y="9547"/>
                  </a:cubicBezTo>
                  <a:lnTo>
                    <a:pt x="129" y="9547"/>
                  </a:lnTo>
                  <a:cubicBezTo>
                    <a:pt x="129" y="9574"/>
                    <a:pt x="107" y="9597"/>
                    <a:pt x="79" y="9597"/>
                  </a:cubicBezTo>
                  <a:cubicBezTo>
                    <a:pt x="52" y="9597"/>
                    <a:pt x="29" y="9575"/>
                    <a:pt x="29" y="9547"/>
                  </a:cubicBezTo>
                  <a:close/>
                  <a:moveTo>
                    <a:pt x="28" y="9347"/>
                  </a:moveTo>
                  <a:lnTo>
                    <a:pt x="28" y="9347"/>
                  </a:lnTo>
                  <a:cubicBezTo>
                    <a:pt x="28" y="9319"/>
                    <a:pt x="51" y="9297"/>
                    <a:pt x="78" y="9297"/>
                  </a:cubicBezTo>
                  <a:cubicBezTo>
                    <a:pt x="106" y="9297"/>
                    <a:pt x="128" y="9319"/>
                    <a:pt x="128" y="9347"/>
                  </a:cubicBezTo>
                  <a:lnTo>
                    <a:pt x="128" y="9347"/>
                  </a:lnTo>
                  <a:cubicBezTo>
                    <a:pt x="128" y="9374"/>
                    <a:pt x="106" y="9397"/>
                    <a:pt x="79" y="9397"/>
                  </a:cubicBezTo>
                  <a:cubicBezTo>
                    <a:pt x="51" y="9397"/>
                    <a:pt x="28" y="9375"/>
                    <a:pt x="28" y="9347"/>
                  </a:cubicBezTo>
                  <a:close/>
                  <a:moveTo>
                    <a:pt x="28" y="9147"/>
                  </a:moveTo>
                  <a:lnTo>
                    <a:pt x="28" y="9147"/>
                  </a:lnTo>
                  <a:cubicBezTo>
                    <a:pt x="28" y="9119"/>
                    <a:pt x="50" y="9097"/>
                    <a:pt x="78" y="9097"/>
                  </a:cubicBezTo>
                  <a:cubicBezTo>
                    <a:pt x="105" y="9097"/>
                    <a:pt x="128" y="9119"/>
                    <a:pt x="128" y="9147"/>
                  </a:cubicBezTo>
                  <a:lnTo>
                    <a:pt x="128" y="9147"/>
                  </a:lnTo>
                  <a:cubicBezTo>
                    <a:pt x="128" y="9174"/>
                    <a:pt x="106" y="9197"/>
                    <a:pt x="78" y="9197"/>
                  </a:cubicBezTo>
                  <a:cubicBezTo>
                    <a:pt x="50" y="9197"/>
                    <a:pt x="28" y="9175"/>
                    <a:pt x="28" y="9147"/>
                  </a:cubicBezTo>
                  <a:close/>
                  <a:moveTo>
                    <a:pt x="27" y="8947"/>
                  </a:moveTo>
                  <a:lnTo>
                    <a:pt x="27" y="8947"/>
                  </a:lnTo>
                  <a:cubicBezTo>
                    <a:pt x="27" y="8919"/>
                    <a:pt x="49" y="8897"/>
                    <a:pt x="77" y="8897"/>
                  </a:cubicBezTo>
                  <a:cubicBezTo>
                    <a:pt x="105" y="8897"/>
                    <a:pt x="127" y="8919"/>
                    <a:pt x="127" y="8946"/>
                  </a:cubicBezTo>
                  <a:lnTo>
                    <a:pt x="127" y="8947"/>
                  </a:lnTo>
                  <a:cubicBezTo>
                    <a:pt x="127" y="8974"/>
                    <a:pt x="105" y="8997"/>
                    <a:pt x="77" y="8997"/>
                  </a:cubicBezTo>
                  <a:cubicBezTo>
                    <a:pt x="50" y="8997"/>
                    <a:pt x="27" y="8975"/>
                    <a:pt x="27" y="8947"/>
                  </a:cubicBezTo>
                  <a:close/>
                  <a:moveTo>
                    <a:pt x="26" y="8747"/>
                  </a:moveTo>
                  <a:lnTo>
                    <a:pt x="26" y="8747"/>
                  </a:lnTo>
                  <a:cubicBezTo>
                    <a:pt x="26" y="8719"/>
                    <a:pt x="49" y="8697"/>
                    <a:pt x="76" y="8697"/>
                  </a:cubicBezTo>
                  <a:cubicBezTo>
                    <a:pt x="104" y="8696"/>
                    <a:pt x="126" y="8719"/>
                    <a:pt x="126" y="8746"/>
                  </a:cubicBezTo>
                  <a:lnTo>
                    <a:pt x="126" y="8746"/>
                  </a:lnTo>
                  <a:cubicBezTo>
                    <a:pt x="127" y="8774"/>
                    <a:pt x="104" y="8797"/>
                    <a:pt x="77" y="8797"/>
                  </a:cubicBezTo>
                  <a:cubicBezTo>
                    <a:pt x="49" y="8797"/>
                    <a:pt x="27" y="8774"/>
                    <a:pt x="26" y="8747"/>
                  </a:cubicBezTo>
                  <a:close/>
                  <a:moveTo>
                    <a:pt x="26" y="8547"/>
                  </a:moveTo>
                  <a:lnTo>
                    <a:pt x="26" y="8547"/>
                  </a:lnTo>
                  <a:cubicBezTo>
                    <a:pt x="26" y="8519"/>
                    <a:pt x="48" y="8497"/>
                    <a:pt x="76" y="8496"/>
                  </a:cubicBezTo>
                  <a:cubicBezTo>
                    <a:pt x="103" y="8496"/>
                    <a:pt x="126" y="8519"/>
                    <a:pt x="126" y="8546"/>
                  </a:cubicBezTo>
                  <a:lnTo>
                    <a:pt x="126" y="8546"/>
                  </a:lnTo>
                  <a:cubicBezTo>
                    <a:pt x="126" y="8574"/>
                    <a:pt x="104" y="8596"/>
                    <a:pt x="76" y="8597"/>
                  </a:cubicBezTo>
                  <a:cubicBezTo>
                    <a:pt x="48" y="8597"/>
                    <a:pt x="26" y="8574"/>
                    <a:pt x="26" y="8547"/>
                  </a:cubicBezTo>
                  <a:close/>
                  <a:moveTo>
                    <a:pt x="25" y="8347"/>
                  </a:moveTo>
                  <a:lnTo>
                    <a:pt x="25" y="8347"/>
                  </a:lnTo>
                  <a:cubicBezTo>
                    <a:pt x="25" y="8319"/>
                    <a:pt x="47" y="8296"/>
                    <a:pt x="75" y="8296"/>
                  </a:cubicBezTo>
                  <a:cubicBezTo>
                    <a:pt x="103" y="8296"/>
                    <a:pt x="125" y="8319"/>
                    <a:pt x="125" y="8346"/>
                  </a:cubicBezTo>
                  <a:lnTo>
                    <a:pt x="125" y="8346"/>
                  </a:lnTo>
                  <a:cubicBezTo>
                    <a:pt x="125" y="8374"/>
                    <a:pt x="103" y="8396"/>
                    <a:pt x="75" y="8396"/>
                  </a:cubicBezTo>
                  <a:cubicBezTo>
                    <a:pt x="48" y="8397"/>
                    <a:pt x="25" y="8374"/>
                    <a:pt x="25" y="8347"/>
                  </a:cubicBezTo>
                  <a:close/>
                  <a:moveTo>
                    <a:pt x="25" y="8147"/>
                  </a:moveTo>
                  <a:lnTo>
                    <a:pt x="25" y="8146"/>
                  </a:lnTo>
                  <a:cubicBezTo>
                    <a:pt x="24" y="8119"/>
                    <a:pt x="47" y="8096"/>
                    <a:pt x="74" y="8096"/>
                  </a:cubicBezTo>
                  <a:cubicBezTo>
                    <a:pt x="102" y="8096"/>
                    <a:pt x="124" y="8118"/>
                    <a:pt x="125" y="8146"/>
                  </a:cubicBezTo>
                  <a:lnTo>
                    <a:pt x="125" y="8146"/>
                  </a:lnTo>
                  <a:cubicBezTo>
                    <a:pt x="125" y="8174"/>
                    <a:pt x="102" y="8196"/>
                    <a:pt x="75" y="8196"/>
                  </a:cubicBezTo>
                  <a:cubicBezTo>
                    <a:pt x="47" y="8196"/>
                    <a:pt x="25" y="8174"/>
                    <a:pt x="25" y="8147"/>
                  </a:cubicBezTo>
                  <a:close/>
                  <a:moveTo>
                    <a:pt x="24" y="7946"/>
                  </a:moveTo>
                  <a:lnTo>
                    <a:pt x="24" y="7946"/>
                  </a:lnTo>
                  <a:cubicBezTo>
                    <a:pt x="24" y="7919"/>
                    <a:pt x="46" y="7896"/>
                    <a:pt x="74" y="7896"/>
                  </a:cubicBezTo>
                  <a:cubicBezTo>
                    <a:pt x="101" y="7896"/>
                    <a:pt x="124" y="7918"/>
                    <a:pt x="124" y="7946"/>
                  </a:cubicBezTo>
                  <a:lnTo>
                    <a:pt x="124" y="7946"/>
                  </a:lnTo>
                  <a:cubicBezTo>
                    <a:pt x="124" y="7974"/>
                    <a:pt x="102" y="7996"/>
                    <a:pt x="74" y="7996"/>
                  </a:cubicBezTo>
                  <a:cubicBezTo>
                    <a:pt x="47" y="7996"/>
                    <a:pt x="24" y="7974"/>
                    <a:pt x="24" y="7946"/>
                  </a:cubicBezTo>
                  <a:close/>
                  <a:moveTo>
                    <a:pt x="23" y="7746"/>
                  </a:moveTo>
                  <a:lnTo>
                    <a:pt x="23" y="7746"/>
                  </a:lnTo>
                  <a:cubicBezTo>
                    <a:pt x="23" y="7719"/>
                    <a:pt x="46" y="7696"/>
                    <a:pt x="73" y="7696"/>
                  </a:cubicBezTo>
                  <a:cubicBezTo>
                    <a:pt x="101" y="7696"/>
                    <a:pt x="123" y="7718"/>
                    <a:pt x="123" y="7746"/>
                  </a:cubicBezTo>
                  <a:lnTo>
                    <a:pt x="123" y="7746"/>
                  </a:lnTo>
                  <a:cubicBezTo>
                    <a:pt x="123" y="7774"/>
                    <a:pt x="101" y="7796"/>
                    <a:pt x="73" y="7796"/>
                  </a:cubicBezTo>
                  <a:cubicBezTo>
                    <a:pt x="46" y="7796"/>
                    <a:pt x="23" y="7774"/>
                    <a:pt x="23" y="7746"/>
                  </a:cubicBezTo>
                  <a:close/>
                  <a:moveTo>
                    <a:pt x="23" y="7546"/>
                  </a:moveTo>
                  <a:lnTo>
                    <a:pt x="23" y="7546"/>
                  </a:lnTo>
                  <a:cubicBezTo>
                    <a:pt x="23" y="7519"/>
                    <a:pt x="45" y="7496"/>
                    <a:pt x="72" y="7496"/>
                  </a:cubicBezTo>
                  <a:cubicBezTo>
                    <a:pt x="100" y="7496"/>
                    <a:pt x="123" y="7518"/>
                    <a:pt x="123" y="7546"/>
                  </a:cubicBezTo>
                  <a:lnTo>
                    <a:pt x="123" y="7546"/>
                  </a:lnTo>
                  <a:cubicBezTo>
                    <a:pt x="123" y="7573"/>
                    <a:pt x="100" y="7596"/>
                    <a:pt x="73" y="7596"/>
                  </a:cubicBezTo>
                  <a:cubicBezTo>
                    <a:pt x="45" y="7596"/>
                    <a:pt x="23" y="7574"/>
                    <a:pt x="23" y="7546"/>
                  </a:cubicBezTo>
                  <a:close/>
                  <a:moveTo>
                    <a:pt x="22" y="7346"/>
                  </a:moveTo>
                  <a:lnTo>
                    <a:pt x="22" y="7346"/>
                  </a:lnTo>
                  <a:cubicBezTo>
                    <a:pt x="22" y="7318"/>
                    <a:pt x="44" y="7296"/>
                    <a:pt x="72" y="7296"/>
                  </a:cubicBezTo>
                  <a:cubicBezTo>
                    <a:pt x="99" y="7296"/>
                    <a:pt x="122" y="7318"/>
                    <a:pt x="122" y="7346"/>
                  </a:cubicBezTo>
                  <a:lnTo>
                    <a:pt x="122" y="7346"/>
                  </a:lnTo>
                  <a:cubicBezTo>
                    <a:pt x="122" y="7373"/>
                    <a:pt x="100" y="7396"/>
                    <a:pt x="72" y="7396"/>
                  </a:cubicBezTo>
                  <a:cubicBezTo>
                    <a:pt x="45" y="7396"/>
                    <a:pt x="22" y="7374"/>
                    <a:pt x="22" y="7346"/>
                  </a:cubicBezTo>
                  <a:close/>
                  <a:moveTo>
                    <a:pt x="21" y="7146"/>
                  </a:moveTo>
                  <a:lnTo>
                    <a:pt x="21" y="7146"/>
                  </a:lnTo>
                  <a:cubicBezTo>
                    <a:pt x="21" y="7118"/>
                    <a:pt x="44" y="7096"/>
                    <a:pt x="71" y="7096"/>
                  </a:cubicBezTo>
                  <a:cubicBezTo>
                    <a:pt x="99" y="7096"/>
                    <a:pt x="121" y="7118"/>
                    <a:pt x="121" y="7146"/>
                  </a:cubicBezTo>
                  <a:lnTo>
                    <a:pt x="121" y="7146"/>
                  </a:lnTo>
                  <a:cubicBezTo>
                    <a:pt x="122" y="7173"/>
                    <a:pt x="99" y="7196"/>
                    <a:pt x="72" y="7196"/>
                  </a:cubicBezTo>
                  <a:cubicBezTo>
                    <a:pt x="44" y="7196"/>
                    <a:pt x="22" y="7174"/>
                    <a:pt x="21" y="7146"/>
                  </a:cubicBezTo>
                  <a:close/>
                  <a:moveTo>
                    <a:pt x="21" y="6946"/>
                  </a:moveTo>
                  <a:lnTo>
                    <a:pt x="21" y="6946"/>
                  </a:lnTo>
                  <a:cubicBezTo>
                    <a:pt x="21" y="6918"/>
                    <a:pt x="43" y="6896"/>
                    <a:pt x="71" y="6896"/>
                  </a:cubicBezTo>
                  <a:cubicBezTo>
                    <a:pt x="98" y="6896"/>
                    <a:pt x="121" y="6918"/>
                    <a:pt x="121" y="6945"/>
                  </a:cubicBezTo>
                  <a:lnTo>
                    <a:pt x="121" y="6946"/>
                  </a:lnTo>
                  <a:cubicBezTo>
                    <a:pt x="121" y="6973"/>
                    <a:pt x="99" y="6996"/>
                    <a:pt x="71" y="6996"/>
                  </a:cubicBezTo>
                  <a:cubicBezTo>
                    <a:pt x="43" y="6996"/>
                    <a:pt x="21" y="6974"/>
                    <a:pt x="21" y="6946"/>
                  </a:cubicBezTo>
                  <a:close/>
                  <a:moveTo>
                    <a:pt x="20" y="6746"/>
                  </a:moveTo>
                  <a:lnTo>
                    <a:pt x="20" y="6746"/>
                  </a:lnTo>
                  <a:cubicBezTo>
                    <a:pt x="20" y="6718"/>
                    <a:pt x="42" y="6696"/>
                    <a:pt x="70" y="6696"/>
                  </a:cubicBezTo>
                  <a:cubicBezTo>
                    <a:pt x="98" y="6695"/>
                    <a:pt x="120" y="6718"/>
                    <a:pt x="120" y="6745"/>
                  </a:cubicBezTo>
                  <a:lnTo>
                    <a:pt x="120" y="6745"/>
                  </a:lnTo>
                  <a:cubicBezTo>
                    <a:pt x="120" y="6773"/>
                    <a:pt x="98" y="6796"/>
                    <a:pt x="70" y="6796"/>
                  </a:cubicBezTo>
                  <a:cubicBezTo>
                    <a:pt x="43" y="6796"/>
                    <a:pt x="20" y="6773"/>
                    <a:pt x="20" y="6746"/>
                  </a:cubicBezTo>
                  <a:close/>
                  <a:moveTo>
                    <a:pt x="20" y="6546"/>
                  </a:moveTo>
                  <a:lnTo>
                    <a:pt x="20" y="6546"/>
                  </a:lnTo>
                  <a:cubicBezTo>
                    <a:pt x="19" y="6518"/>
                    <a:pt x="42" y="6496"/>
                    <a:pt x="69" y="6495"/>
                  </a:cubicBezTo>
                  <a:cubicBezTo>
                    <a:pt x="97" y="6495"/>
                    <a:pt x="119" y="6518"/>
                    <a:pt x="120" y="6545"/>
                  </a:cubicBezTo>
                  <a:lnTo>
                    <a:pt x="120" y="6545"/>
                  </a:lnTo>
                  <a:cubicBezTo>
                    <a:pt x="120" y="6573"/>
                    <a:pt x="97" y="6595"/>
                    <a:pt x="70" y="6596"/>
                  </a:cubicBezTo>
                  <a:cubicBezTo>
                    <a:pt x="42" y="6596"/>
                    <a:pt x="20" y="6573"/>
                    <a:pt x="20" y="6546"/>
                  </a:cubicBezTo>
                  <a:close/>
                  <a:moveTo>
                    <a:pt x="19" y="6346"/>
                  </a:moveTo>
                  <a:lnTo>
                    <a:pt x="19" y="6346"/>
                  </a:lnTo>
                  <a:cubicBezTo>
                    <a:pt x="19" y="6318"/>
                    <a:pt x="41" y="6295"/>
                    <a:pt x="69" y="6295"/>
                  </a:cubicBezTo>
                  <a:cubicBezTo>
                    <a:pt x="96" y="6295"/>
                    <a:pt x="119" y="6318"/>
                    <a:pt x="119" y="6345"/>
                  </a:cubicBezTo>
                  <a:lnTo>
                    <a:pt x="119" y="6345"/>
                  </a:lnTo>
                  <a:cubicBezTo>
                    <a:pt x="119" y="6373"/>
                    <a:pt x="97" y="6395"/>
                    <a:pt x="69" y="6395"/>
                  </a:cubicBezTo>
                  <a:cubicBezTo>
                    <a:pt x="41" y="6396"/>
                    <a:pt x="19" y="6373"/>
                    <a:pt x="19" y="6346"/>
                  </a:cubicBezTo>
                  <a:close/>
                  <a:moveTo>
                    <a:pt x="18" y="6146"/>
                  </a:moveTo>
                  <a:lnTo>
                    <a:pt x="18" y="6145"/>
                  </a:lnTo>
                  <a:cubicBezTo>
                    <a:pt x="18" y="6118"/>
                    <a:pt x="40" y="6095"/>
                    <a:pt x="68" y="6095"/>
                  </a:cubicBezTo>
                  <a:cubicBezTo>
                    <a:pt x="96" y="6095"/>
                    <a:pt x="118" y="6117"/>
                    <a:pt x="118" y="6145"/>
                  </a:cubicBezTo>
                  <a:lnTo>
                    <a:pt x="118" y="6145"/>
                  </a:lnTo>
                  <a:cubicBezTo>
                    <a:pt x="118" y="6173"/>
                    <a:pt x="96" y="6195"/>
                    <a:pt x="68" y="6195"/>
                  </a:cubicBezTo>
                  <a:cubicBezTo>
                    <a:pt x="41" y="6195"/>
                    <a:pt x="18" y="6173"/>
                    <a:pt x="18" y="6146"/>
                  </a:cubicBezTo>
                  <a:close/>
                  <a:moveTo>
                    <a:pt x="18" y="5945"/>
                  </a:moveTo>
                  <a:lnTo>
                    <a:pt x="18" y="5945"/>
                  </a:lnTo>
                  <a:cubicBezTo>
                    <a:pt x="18" y="5918"/>
                    <a:pt x="40" y="5895"/>
                    <a:pt x="67" y="5895"/>
                  </a:cubicBezTo>
                  <a:cubicBezTo>
                    <a:pt x="95" y="5895"/>
                    <a:pt x="118" y="5917"/>
                    <a:pt x="118" y="5945"/>
                  </a:cubicBezTo>
                  <a:lnTo>
                    <a:pt x="118" y="5945"/>
                  </a:lnTo>
                  <a:cubicBezTo>
                    <a:pt x="118" y="5973"/>
                    <a:pt x="95" y="5995"/>
                    <a:pt x="68" y="5995"/>
                  </a:cubicBezTo>
                  <a:cubicBezTo>
                    <a:pt x="40" y="5995"/>
                    <a:pt x="18" y="5973"/>
                    <a:pt x="18" y="5945"/>
                  </a:cubicBezTo>
                  <a:close/>
                  <a:moveTo>
                    <a:pt x="17" y="5745"/>
                  </a:moveTo>
                  <a:lnTo>
                    <a:pt x="17" y="5745"/>
                  </a:lnTo>
                  <a:cubicBezTo>
                    <a:pt x="17" y="5718"/>
                    <a:pt x="39" y="5695"/>
                    <a:pt x="67" y="5695"/>
                  </a:cubicBezTo>
                  <a:cubicBezTo>
                    <a:pt x="94" y="5695"/>
                    <a:pt x="117" y="5717"/>
                    <a:pt x="117" y="5745"/>
                  </a:cubicBezTo>
                  <a:lnTo>
                    <a:pt x="117" y="5745"/>
                  </a:lnTo>
                  <a:cubicBezTo>
                    <a:pt x="117" y="5773"/>
                    <a:pt x="95" y="5795"/>
                    <a:pt x="67" y="5795"/>
                  </a:cubicBezTo>
                  <a:cubicBezTo>
                    <a:pt x="40" y="5795"/>
                    <a:pt x="17" y="5773"/>
                    <a:pt x="17" y="5745"/>
                  </a:cubicBezTo>
                  <a:close/>
                  <a:moveTo>
                    <a:pt x="16" y="5545"/>
                  </a:moveTo>
                  <a:lnTo>
                    <a:pt x="16" y="5545"/>
                  </a:lnTo>
                  <a:cubicBezTo>
                    <a:pt x="16" y="5518"/>
                    <a:pt x="39" y="5495"/>
                    <a:pt x="66" y="5495"/>
                  </a:cubicBezTo>
                  <a:cubicBezTo>
                    <a:pt x="94" y="5495"/>
                    <a:pt x="116" y="5517"/>
                    <a:pt x="116" y="5545"/>
                  </a:cubicBezTo>
                  <a:lnTo>
                    <a:pt x="116" y="5545"/>
                  </a:lnTo>
                  <a:cubicBezTo>
                    <a:pt x="116" y="5572"/>
                    <a:pt x="94" y="5595"/>
                    <a:pt x="67" y="5595"/>
                  </a:cubicBezTo>
                  <a:cubicBezTo>
                    <a:pt x="39" y="5595"/>
                    <a:pt x="16" y="5573"/>
                    <a:pt x="16" y="5545"/>
                  </a:cubicBezTo>
                  <a:close/>
                  <a:moveTo>
                    <a:pt x="16" y="5345"/>
                  </a:moveTo>
                  <a:lnTo>
                    <a:pt x="16" y="5345"/>
                  </a:lnTo>
                  <a:cubicBezTo>
                    <a:pt x="16" y="5317"/>
                    <a:pt x="38" y="5295"/>
                    <a:pt x="66" y="5295"/>
                  </a:cubicBezTo>
                  <a:cubicBezTo>
                    <a:pt x="93" y="5295"/>
                    <a:pt x="116" y="5317"/>
                    <a:pt x="116" y="5345"/>
                  </a:cubicBezTo>
                  <a:lnTo>
                    <a:pt x="116" y="5345"/>
                  </a:lnTo>
                  <a:cubicBezTo>
                    <a:pt x="116" y="5372"/>
                    <a:pt x="93" y="5395"/>
                    <a:pt x="66" y="5395"/>
                  </a:cubicBezTo>
                  <a:cubicBezTo>
                    <a:pt x="38" y="5395"/>
                    <a:pt x="16" y="5373"/>
                    <a:pt x="16" y="5345"/>
                  </a:cubicBezTo>
                  <a:close/>
                  <a:moveTo>
                    <a:pt x="15" y="5145"/>
                  </a:moveTo>
                  <a:lnTo>
                    <a:pt x="15" y="5145"/>
                  </a:lnTo>
                  <a:cubicBezTo>
                    <a:pt x="15" y="5117"/>
                    <a:pt x="37" y="5095"/>
                    <a:pt x="65" y="5095"/>
                  </a:cubicBezTo>
                  <a:cubicBezTo>
                    <a:pt x="93" y="5095"/>
                    <a:pt x="115" y="5117"/>
                    <a:pt x="115" y="5145"/>
                  </a:cubicBezTo>
                  <a:lnTo>
                    <a:pt x="115" y="5145"/>
                  </a:lnTo>
                  <a:cubicBezTo>
                    <a:pt x="115" y="5172"/>
                    <a:pt x="93" y="5195"/>
                    <a:pt x="65" y="5195"/>
                  </a:cubicBezTo>
                  <a:cubicBezTo>
                    <a:pt x="38" y="5195"/>
                    <a:pt x="15" y="5173"/>
                    <a:pt x="15" y="5145"/>
                  </a:cubicBezTo>
                  <a:close/>
                  <a:moveTo>
                    <a:pt x="14" y="4945"/>
                  </a:moveTo>
                  <a:lnTo>
                    <a:pt x="14" y="4945"/>
                  </a:lnTo>
                  <a:cubicBezTo>
                    <a:pt x="14" y="4917"/>
                    <a:pt x="37" y="4895"/>
                    <a:pt x="64" y="4895"/>
                  </a:cubicBezTo>
                  <a:cubicBezTo>
                    <a:pt x="92" y="4895"/>
                    <a:pt x="114" y="4917"/>
                    <a:pt x="114" y="4944"/>
                  </a:cubicBezTo>
                  <a:lnTo>
                    <a:pt x="114" y="4945"/>
                  </a:lnTo>
                  <a:cubicBezTo>
                    <a:pt x="115" y="4972"/>
                    <a:pt x="92" y="4995"/>
                    <a:pt x="65" y="4995"/>
                  </a:cubicBezTo>
                  <a:cubicBezTo>
                    <a:pt x="37" y="4995"/>
                    <a:pt x="15" y="4973"/>
                    <a:pt x="14" y="4945"/>
                  </a:cubicBezTo>
                  <a:close/>
                  <a:moveTo>
                    <a:pt x="14" y="4745"/>
                  </a:moveTo>
                  <a:lnTo>
                    <a:pt x="14" y="4745"/>
                  </a:lnTo>
                  <a:cubicBezTo>
                    <a:pt x="14" y="4717"/>
                    <a:pt x="36" y="4695"/>
                    <a:pt x="64" y="4695"/>
                  </a:cubicBezTo>
                  <a:cubicBezTo>
                    <a:pt x="91" y="4694"/>
                    <a:pt x="114" y="4717"/>
                    <a:pt x="114" y="4744"/>
                  </a:cubicBezTo>
                  <a:lnTo>
                    <a:pt x="114" y="4744"/>
                  </a:lnTo>
                  <a:cubicBezTo>
                    <a:pt x="114" y="4772"/>
                    <a:pt x="92" y="4795"/>
                    <a:pt x="64" y="4795"/>
                  </a:cubicBezTo>
                  <a:cubicBezTo>
                    <a:pt x="36" y="4795"/>
                    <a:pt x="14" y="4772"/>
                    <a:pt x="14" y="4745"/>
                  </a:cubicBezTo>
                  <a:close/>
                  <a:moveTo>
                    <a:pt x="13" y="4545"/>
                  </a:moveTo>
                  <a:lnTo>
                    <a:pt x="13" y="4545"/>
                  </a:lnTo>
                  <a:cubicBezTo>
                    <a:pt x="13" y="4517"/>
                    <a:pt x="35" y="4495"/>
                    <a:pt x="63" y="4494"/>
                  </a:cubicBezTo>
                  <a:cubicBezTo>
                    <a:pt x="91" y="4494"/>
                    <a:pt x="113" y="4517"/>
                    <a:pt x="113" y="4544"/>
                  </a:cubicBezTo>
                  <a:lnTo>
                    <a:pt x="113" y="4544"/>
                  </a:lnTo>
                  <a:cubicBezTo>
                    <a:pt x="113" y="4572"/>
                    <a:pt x="91" y="4594"/>
                    <a:pt x="63" y="4595"/>
                  </a:cubicBezTo>
                  <a:cubicBezTo>
                    <a:pt x="36" y="4595"/>
                    <a:pt x="13" y="4572"/>
                    <a:pt x="13" y="4545"/>
                  </a:cubicBezTo>
                  <a:close/>
                  <a:moveTo>
                    <a:pt x="13" y="4345"/>
                  </a:moveTo>
                  <a:lnTo>
                    <a:pt x="13" y="4345"/>
                  </a:lnTo>
                  <a:cubicBezTo>
                    <a:pt x="12" y="4317"/>
                    <a:pt x="35" y="4294"/>
                    <a:pt x="62" y="4294"/>
                  </a:cubicBezTo>
                  <a:cubicBezTo>
                    <a:pt x="90" y="4294"/>
                    <a:pt x="112" y="4317"/>
                    <a:pt x="113" y="4344"/>
                  </a:cubicBezTo>
                  <a:lnTo>
                    <a:pt x="113" y="4344"/>
                  </a:lnTo>
                  <a:cubicBezTo>
                    <a:pt x="113" y="4372"/>
                    <a:pt x="90" y="4394"/>
                    <a:pt x="63" y="4394"/>
                  </a:cubicBezTo>
                  <a:cubicBezTo>
                    <a:pt x="35" y="4395"/>
                    <a:pt x="13" y="4372"/>
                    <a:pt x="13" y="4345"/>
                  </a:cubicBezTo>
                  <a:close/>
                  <a:moveTo>
                    <a:pt x="12" y="4145"/>
                  </a:moveTo>
                  <a:lnTo>
                    <a:pt x="12" y="4144"/>
                  </a:lnTo>
                  <a:cubicBezTo>
                    <a:pt x="12" y="4117"/>
                    <a:pt x="34" y="4094"/>
                    <a:pt x="62" y="4094"/>
                  </a:cubicBezTo>
                  <a:cubicBezTo>
                    <a:pt x="89" y="4094"/>
                    <a:pt x="112" y="4116"/>
                    <a:pt x="112" y="4144"/>
                  </a:cubicBezTo>
                  <a:lnTo>
                    <a:pt x="112" y="4144"/>
                  </a:lnTo>
                  <a:cubicBezTo>
                    <a:pt x="112" y="4172"/>
                    <a:pt x="90" y="4194"/>
                    <a:pt x="62" y="4194"/>
                  </a:cubicBezTo>
                  <a:cubicBezTo>
                    <a:pt x="34" y="4194"/>
                    <a:pt x="12" y="4172"/>
                    <a:pt x="12" y="4145"/>
                  </a:cubicBezTo>
                  <a:close/>
                  <a:moveTo>
                    <a:pt x="11" y="3944"/>
                  </a:moveTo>
                  <a:lnTo>
                    <a:pt x="11" y="3944"/>
                  </a:lnTo>
                  <a:cubicBezTo>
                    <a:pt x="11" y="3917"/>
                    <a:pt x="33" y="3894"/>
                    <a:pt x="61" y="3894"/>
                  </a:cubicBezTo>
                  <a:cubicBezTo>
                    <a:pt x="89" y="3894"/>
                    <a:pt x="111" y="3916"/>
                    <a:pt x="111" y="3944"/>
                  </a:cubicBezTo>
                  <a:lnTo>
                    <a:pt x="111" y="3944"/>
                  </a:lnTo>
                  <a:cubicBezTo>
                    <a:pt x="111" y="3972"/>
                    <a:pt x="89" y="3994"/>
                    <a:pt x="61" y="3994"/>
                  </a:cubicBezTo>
                  <a:cubicBezTo>
                    <a:pt x="34" y="3994"/>
                    <a:pt x="11" y="3972"/>
                    <a:pt x="11" y="3944"/>
                  </a:cubicBezTo>
                  <a:close/>
                  <a:moveTo>
                    <a:pt x="11" y="3744"/>
                  </a:moveTo>
                  <a:lnTo>
                    <a:pt x="11" y="3744"/>
                  </a:lnTo>
                  <a:cubicBezTo>
                    <a:pt x="11" y="3717"/>
                    <a:pt x="33" y="3694"/>
                    <a:pt x="60" y="3694"/>
                  </a:cubicBezTo>
                  <a:cubicBezTo>
                    <a:pt x="88" y="3694"/>
                    <a:pt x="111" y="3716"/>
                    <a:pt x="111" y="3744"/>
                  </a:cubicBezTo>
                  <a:lnTo>
                    <a:pt x="111" y="3744"/>
                  </a:lnTo>
                  <a:cubicBezTo>
                    <a:pt x="111" y="3772"/>
                    <a:pt x="88" y="3794"/>
                    <a:pt x="61" y="3794"/>
                  </a:cubicBezTo>
                  <a:cubicBezTo>
                    <a:pt x="33" y="3794"/>
                    <a:pt x="11" y="3772"/>
                    <a:pt x="11" y="3744"/>
                  </a:cubicBezTo>
                  <a:close/>
                  <a:moveTo>
                    <a:pt x="10" y="3544"/>
                  </a:moveTo>
                  <a:lnTo>
                    <a:pt x="10" y="3544"/>
                  </a:lnTo>
                  <a:cubicBezTo>
                    <a:pt x="10" y="3517"/>
                    <a:pt x="32" y="3494"/>
                    <a:pt x="60" y="3494"/>
                  </a:cubicBezTo>
                  <a:cubicBezTo>
                    <a:pt x="87" y="3494"/>
                    <a:pt x="110" y="3516"/>
                    <a:pt x="110" y="3544"/>
                  </a:cubicBezTo>
                  <a:lnTo>
                    <a:pt x="110" y="3544"/>
                  </a:lnTo>
                  <a:cubicBezTo>
                    <a:pt x="110" y="3572"/>
                    <a:pt x="88" y="3594"/>
                    <a:pt x="60" y="3594"/>
                  </a:cubicBezTo>
                  <a:cubicBezTo>
                    <a:pt x="33" y="3594"/>
                    <a:pt x="10" y="3572"/>
                    <a:pt x="10" y="3544"/>
                  </a:cubicBezTo>
                  <a:close/>
                  <a:moveTo>
                    <a:pt x="9" y="3344"/>
                  </a:moveTo>
                  <a:lnTo>
                    <a:pt x="9" y="3344"/>
                  </a:lnTo>
                  <a:cubicBezTo>
                    <a:pt x="9" y="3316"/>
                    <a:pt x="32" y="3294"/>
                    <a:pt x="59" y="3294"/>
                  </a:cubicBezTo>
                  <a:cubicBezTo>
                    <a:pt x="87" y="3294"/>
                    <a:pt x="109" y="3316"/>
                    <a:pt x="109" y="3344"/>
                  </a:cubicBezTo>
                  <a:lnTo>
                    <a:pt x="109" y="3344"/>
                  </a:lnTo>
                  <a:cubicBezTo>
                    <a:pt x="109" y="3371"/>
                    <a:pt x="87" y="3394"/>
                    <a:pt x="60" y="3394"/>
                  </a:cubicBezTo>
                  <a:cubicBezTo>
                    <a:pt x="32" y="3394"/>
                    <a:pt x="9" y="3372"/>
                    <a:pt x="9" y="3344"/>
                  </a:cubicBezTo>
                  <a:close/>
                  <a:moveTo>
                    <a:pt x="9" y="3144"/>
                  </a:moveTo>
                  <a:lnTo>
                    <a:pt x="9" y="3144"/>
                  </a:lnTo>
                  <a:cubicBezTo>
                    <a:pt x="9" y="3116"/>
                    <a:pt x="31" y="3094"/>
                    <a:pt x="59" y="3094"/>
                  </a:cubicBezTo>
                  <a:cubicBezTo>
                    <a:pt x="86" y="3094"/>
                    <a:pt x="109" y="3116"/>
                    <a:pt x="109" y="3144"/>
                  </a:cubicBezTo>
                  <a:lnTo>
                    <a:pt x="109" y="3144"/>
                  </a:lnTo>
                  <a:cubicBezTo>
                    <a:pt x="109" y="3171"/>
                    <a:pt x="87" y="3194"/>
                    <a:pt x="59" y="3194"/>
                  </a:cubicBezTo>
                  <a:cubicBezTo>
                    <a:pt x="31" y="3194"/>
                    <a:pt x="9" y="3172"/>
                    <a:pt x="9" y="3144"/>
                  </a:cubicBezTo>
                  <a:close/>
                  <a:moveTo>
                    <a:pt x="8" y="2944"/>
                  </a:moveTo>
                  <a:lnTo>
                    <a:pt x="8" y="2944"/>
                  </a:lnTo>
                  <a:cubicBezTo>
                    <a:pt x="8" y="2916"/>
                    <a:pt x="30" y="2894"/>
                    <a:pt x="58" y="2894"/>
                  </a:cubicBezTo>
                  <a:cubicBezTo>
                    <a:pt x="86" y="2894"/>
                    <a:pt x="108" y="2916"/>
                    <a:pt x="108" y="2943"/>
                  </a:cubicBezTo>
                  <a:lnTo>
                    <a:pt x="108" y="2944"/>
                  </a:lnTo>
                  <a:cubicBezTo>
                    <a:pt x="108" y="2971"/>
                    <a:pt x="86" y="2994"/>
                    <a:pt x="58" y="2994"/>
                  </a:cubicBezTo>
                  <a:cubicBezTo>
                    <a:pt x="31" y="2994"/>
                    <a:pt x="8" y="2972"/>
                    <a:pt x="8" y="2944"/>
                  </a:cubicBezTo>
                  <a:close/>
                  <a:moveTo>
                    <a:pt x="7" y="2744"/>
                  </a:moveTo>
                  <a:lnTo>
                    <a:pt x="7" y="2744"/>
                  </a:lnTo>
                  <a:cubicBezTo>
                    <a:pt x="7" y="2716"/>
                    <a:pt x="30" y="2694"/>
                    <a:pt x="57" y="2694"/>
                  </a:cubicBezTo>
                  <a:cubicBezTo>
                    <a:pt x="85" y="2693"/>
                    <a:pt x="107" y="2716"/>
                    <a:pt x="107" y="2743"/>
                  </a:cubicBezTo>
                  <a:lnTo>
                    <a:pt x="107" y="2743"/>
                  </a:lnTo>
                  <a:cubicBezTo>
                    <a:pt x="108" y="2771"/>
                    <a:pt x="85" y="2794"/>
                    <a:pt x="58" y="2794"/>
                  </a:cubicBezTo>
                  <a:cubicBezTo>
                    <a:pt x="30" y="2794"/>
                    <a:pt x="8" y="2771"/>
                    <a:pt x="7" y="2744"/>
                  </a:cubicBezTo>
                  <a:close/>
                  <a:moveTo>
                    <a:pt x="7" y="2544"/>
                  </a:moveTo>
                  <a:lnTo>
                    <a:pt x="7" y="2544"/>
                  </a:lnTo>
                  <a:cubicBezTo>
                    <a:pt x="7" y="2516"/>
                    <a:pt x="29" y="2494"/>
                    <a:pt x="57" y="2493"/>
                  </a:cubicBezTo>
                  <a:cubicBezTo>
                    <a:pt x="84" y="2493"/>
                    <a:pt x="107" y="2516"/>
                    <a:pt x="107" y="2543"/>
                  </a:cubicBezTo>
                  <a:lnTo>
                    <a:pt x="107" y="2543"/>
                  </a:lnTo>
                  <a:cubicBezTo>
                    <a:pt x="107" y="2571"/>
                    <a:pt x="85" y="2593"/>
                    <a:pt x="57" y="2594"/>
                  </a:cubicBezTo>
                  <a:cubicBezTo>
                    <a:pt x="29" y="2594"/>
                    <a:pt x="7" y="2571"/>
                    <a:pt x="7" y="2544"/>
                  </a:cubicBezTo>
                  <a:close/>
                  <a:moveTo>
                    <a:pt x="6" y="2344"/>
                  </a:moveTo>
                  <a:lnTo>
                    <a:pt x="6" y="2344"/>
                  </a:lnTo>
                  <a:cubicBezTo>
                    <a:pt x="6" y="2316"/>
                    <a:pt x="28" y="2293"/>
                    <a:pt x="56" y="2293"/>
                  </a:cubicBezTo>
                  <a:cubicBezTo>
                    <a:pt x="84" y="2293"/>
                    <a:pt x="106" y="2316"/>
                    <a:pt x="106" y="2343"/>
                  </a:cubicBezTo>
                  <a:lnTo>
                    <a:pt x="106" y="2343"/>
                  </a:lnTo>
                  <a:cubicBezTo>
                    <a:pt x="106" y="2371"/>
                    <a:pt x="84" y="2393"/>
                    <a:pt x="56" y="2393"/>
                  </a:cubicBezTo>
                  <a:cubicBezTo>
                    <a:pt x="29" y="2394"/>
                    <a:pt x="6" y="2371"/>
                    <a:pt x="6" y="2344"/>
                  </a:cubicBezTo>
                  <a:close/>
                  <a:moveTo>
                    <a:pt x="6" y="2144"/>
                  </a:moveTo>
                  <a:lnTo>
                    <a:pt x="6" y="2143"/>
                  </a:lnTo>
                  <a:cubicBezTo>
                    <a:pt x="5" y="2116"/>
                    <a:pt x="28" y="2093"/>
                    <a:pt x="55" y="2093"/>
                  </a:cubicBezTo>
                  <a:cubicBezTo>
                    <a:pt x="83" y="2093"/>
                    <a:pt x="105" y="2115"/>
                    <a:pt x="106" y="2143"/>
                  </a:cubicBezTo>
                  <a:lnTo>
                    <a:pt x="106" y="2143"/>
                  </a:lnTo>
                  <a:cubicBezTo>
                    <a:pt x="106" y="2171"/>
                    <a:pt x="83" y="2193"/>
                    <a:pt x="56" y="2193"/>
                  </a:cubicBezTo>
                  <a:cubicBezTo>
                    <a:pt x="28" y="2193"/>
                    <a:pt x="6" y="2171"/>
                    <a:pt x="6" y="2144"/>
                  </a:cubicBezTo>
                  <a:close/>
                  <a:moveTo>
                    <a:pt x="5" y="1943"/>
                  </a:moveTo>
                  <a:lnTo>
                    <a:pt x="5" y="1943"/>
                  </a:lnTo>
                  <a:cubicBezTo>
                    <a:pt x="5" y="1916"/>
                    <a:pt x="27" y="1893"/>
                    <a:pt x="55" y="1893"/>
                  </a:cubicBezTo>
                  <a:cubicBezTo>
                    <a:pt x="82" y="1893"/>
                    <a:pt x="105" y="1915"/>
                    <a:pt x="105" y="1943"/>
                  </a:cubicBezTo>
                  <a:lnTo>
                    <a:pt x="105" y="1943"/>
                  </a:lnTo>
                  <a:cubicBezTo>
                    <a:pt x="105" y="1971"/>
                    <a:pt x="83" y="1993"/>
                    <a:pt x="55" y="1993"/>
                  </a:cubicBezTo>
                  <a:cubicBezTo>
                    <a:pt x="28" y="1993"/>
                    <a:pt x="5" y="1971"/>
                    <a:pt x="5" y="1943"/>
                  </a:cubicBezTo>
                  <a:close/>
                  <a:moveTo>
                    <a:pt x="4" y="1743"/>
                  </a:moveTo>
                  <a:lnTo>
                    <a:pt x="4" y="1743"/>
                  </a:lnTo>
                  <a:cubicBezTo>
                    <a:pt x="4" y="1716"/>
                    <a:pt x="27" y="1693"/>
                    <a:pt x="54" y="1693"/>
                  </a:cubicBezTo>
                  <a:cubicBezTo>
                    <a:pt x="82" y="1693"/>
                    <a:pt x="104" y="1715"/>
                    <a:pt x="104" y="1743"/>
                  </a:cubicBezTo>
                  <a:lnTo>
                    <a:pt x="104" y="1743"/>
                  </a:lnTo>
                  <a:cubicBezTo>
                    <a:pt x="104" y="1771"/>
                    <a:pt x="82" y="1793"/>
                    <a:pt x="54" y="1793"/>
                  </a:cubicBezTo>
                  <a:cubicBezTo>
                    <a:pt x="27" y="1793"/>
                    <a:pt x="4" y="1771"/>
                    <a:pt x="4" y="1743"/>
                  </a:cubicBezTo>
                  <a:close/>
                  <a:moveTo>
                    <a:pt x="4" y="1543"/>
                  </a:moveTo>
                  <a:lnTo>
                    <a:pt x="4" y="1543"/>
                  </a:lnTo>
                  <a:cubicBezTo>
                    <a:pt x="4" y="1516"/>
                    <a:pt x="26" y="1493"/>
                    <a:pt x="53" y="1493"/>
                  </a:cubicBezTo>
                  <a:cubicBezTo>
                    <a:pt x="81" y="1493"/>
                    <a:pt x="104" y="1515"/>
                    <a:pt x="104" y="1543"/>
                  </a:cubicBezTo>
                  <a:lnTo>
                    <a:pt x="104" y="1543"/>
                  </a:lnTo>
                  <a:cubicBezTo>
                    <a:pt x="104" y="1571"/>
                    <a:pt x="81" y="1593"/>
                    <a:pt x="54" y="1593"/>
                  </a:cubicBezTo>
                  <a:cubicBezTo>
                    <a:pt x="26" y="1593"/>
                    <a:pt x="4" y="1571"/>
                    <a:pt x="4" y="1543"/>
                  </a:cubicBezTo>
                  <a:close/>
                  <a:moveTo>
                    <a:pt x="3" y="1343"/>
                  </a:moveTo>
                  <a:lnTo>
                    <a:pt x="3" y="1343"/>
                  </a:lnTo>
                  <a:cubicBezTo>
                    <a:pt x="3" y="1315"/>
                    <a:pt x="25" y="1293"/>
                    <a:pt x="53" y="1293"/>
                  </a:cubicBezTo>
                  <a:cubicBezTo>
                    <a:pt x="80" y="1293"/>
                    <a:pt x="103" y="1315"/>
                    <a:pt x="103" y="1343"/>
                  </a:cubicBezTo>
                  <a:lnTo>
                    <a:pt x="103" y="1343"/>
                  </a:lnTo>
                  <a:cubicBezTo>
                    <a:pt x="103" y="1370"/>
                    <a:pt x="81" y="1393"/>
                    <a:pt x="53" y="1393"/>
                  </a:cubicBezTo>
                  <a:cubicBezTo>
                    <a:pt x="26" y="1393"/>
                    <a:pt x="3" y="1371"/>
                    <a:pt x="3" y="1343"/>
                  </a:cubicBezTo>
                  <a:close/>
                  <a:moveTo>
                    <a:pt x="2" y="1143"/>
                  </a:moveTo>
                  <a:lnTo>
                    <a:pt x="2" y="1143"/>
                  </a:lnTo>
                  <a:cubicBezTo>
                    <a:pt x="2" y="1115"/>
                    <a:pt x="25" y="1093"/>
                    <a:pt x="52" y="1093"/>
                  </a:cubicBezTo>
                  <a:cubicBezTo>
                    <a:pt x="80" y="1093"/>
                    <a:pt x="102" y="1115"/>
                    <a:pt x="102" y="1143"/>
                  </a:cubicBezTo>
                  <a:lnTo>
                    <a:pt x="102" y="1143"/>
                  </a:lnTo>
                  <a:cubicBezTo>
                    <a:pt x="103" y="1170"/>
                    <a:pt x="80" y="1193"/>
                    <a:pt x="53" y="1193"/>
                  </a:cubicBezTo>
                  <a:cubicBezTo>
                    <a:pt x="25" y="1193"/>
                    <a:pt x="3" y="1171"/>
                    <a:pt x="2" y="1143"/>
                  </a:cubicBezTo>
                  <a:close/>
                  <a:moveTo>
                    <a:pt x="2" y="943"/>
                  </a:moveTo>
                  <a:lnTo>
                    <a:pt x="2" y="943"/>
                  </a:lnTo>
                  <a:cubicBezTo>
                    <a:pt x="2" y="915"/>
                    <a:pt x="24" y="893"/>
                    <a:pt x="52" y="893"/>
                  </a:cubicBezTo>
                  <a:cubicBezTo>
                    <a:pt x="79" y="893"/>
                    <a:pt x="102" y="915"/>
                    <a:pt x="102" y="943"/>
                  </a:cubicBezTo>
                  <a:lnTo>
                    <a:pt x="102" y="943"/>
                  </a:lnTo>
                  <a:cubicBezTo>
                    <a:pt x="102" y="970"/>
                    <a:pt x="80" y="993"/>
                    <a:pt x="52" y="993"/>
                  </a:cubicBezTo>
                  <a:cubicBezTo>
                    <a:pt x="24" y="993"/>
                    <a:pt x="2" y="971"/>
                    <a:pt x="2" y="943"/>
                  </a:cubicBezTo>
                  <a:close/>
                  <a:moveTo>
                    <a:pt x="1" y="743"/>
                  </a:moveTo>
                  <a:lnTo>
                    <a:pt x="1" y="743"/>
                  </a:lnTo>
                  <a:cubicBezTo>
                    <a:pt x="1" y="715"/>
                    <a:pt x="23" y="693"/>
                    <a:pt x="51" y="693"/>
                  </a:cubicBezTo>
                  <a:cubicBezTo>
                    <a:pt x="79" y="693"/>
                    <a:pt x="101" y="715"/>
                    <a:pt x="101" y="742"/>
                  </a:cubicBezTo>
                  <a:lnTo>
                    <a:pt x="101" y="743"/>
                  </a:lnTo>
                  <a:cubicBezTo>
                    <a:pt x="101" y="770"/>
                    <a:pt x="79" y="793"/>
                    <a:pt x="51" y="793"/>
                  </a:cubicBezTo>
                  <a:cubicBezTo>
                    <a:pt x="24" y="793"/>
                    <a:pt x="1" y="770"/>
                    <a:pt x="1" y="743"/>
                  </a:cubicBezTo>
                  <a:close/>
                  <a:moveTo>
                    <a:pt x="1" y="543"/>
                  </a:moveTo>
                  <a:lnTo>
                    <a:pt x="1" y="543"/>
                  </a:lnTo>
                  <a:cubicBezTo>
                    <a:pt x="0" y="515"/>
                    <a:pt x="23" y="493"/>
                    <a:pt x="50" y="493"/>
                  </a:cubicBezTo>
                  <a:cubicBezTo>
                    <a:pt x="78" y="492"/>
                    <a:pt x="100" y="515"/>
                    <a:pt x="101" y="542"/>
                  </a:cubicBezTo>
                  <a:lnTo>
                    <a:pt x="101" y="542"/>
                  </a:lnTo>
                  <a:cubicBezTo>
                    <a:pt x="101" y="570"/>
                    <a:pt x="78" y="593"/>
                    <a:pt x="51" y="593"/>
                  </a:cubicBezTo>
                  <a:cubicBezTo>
                    <a:pt x="23" y="593"/>
                    <a:pt x="1" y="570"/>
                    <a:pt x="1" y="543"/>
                  </a:cubicBezTo>
                  <a:close/>
                  <a:moveTo>
                    <a:pt x="0" y="343"/>
                  </a:moveTo>
                  <a:lnTo>
                    <a:pt x="0" y="343"/>
                  </a:lnTo>
                  <a:cubicBezTo>
                    <a:pt x="0" y="315"/>
                    <a:pt x="22" y="293"/>
                    <a:pt x="50" y="292"/>
                  </a:cubicBezTo>
                  <a:cubicBezTo>
                    <a:pt x="77" y="292"/>
                    <a:pt x="100" y="315"/>
                    <a:pt x="100" y="342"/>
                  </a:cubicBezTo>
                  <a:lnTo>
                    <a:pt x="100" y="342"/>
                  </a:lnTo>
                  <a:cubicBezTo>
                    <a:pt x="100" y="370"/>
                    <a:pt x="78" y="392"/>
                    <a:pt x="50" y="393"/>
                  </a:cubicBezTo>
                  <a:cubicBezTo>
                    <a:pt x="22" y="393"/>
                    <a:pt x="0" y="370"/>
                    <a:pt x="0" y="343"/>
                  </a:cubicBezTo>
                  <a:close/>
                  <a:moveTo>
                    <a:pt x="122" y="165"/>
                  </a:moveTo>
                  <a:lnTo>
                    <a:pt x="122" y="165"/>
                  </a:lnTo>
                  <a:cubicBezTo>
                    <a:pt x="150" y="165"/>
                    <a:pt x="172" y="187"/>
                    <a:pt x="172" y="215"/>
                  </a:cubicBezTo>
                  <a:cubicBezTo>
                    <a:pt x="172" y="242"/>
                    <a:pt x="150" y="265"/>
                    <a:pt x="123" y="265"/>
                  </a:cubicBezTo>
                  <a:lnTo>
                    <a:pt x="122" y="265"/>
                  </a:lnTo>
                  <a:cubicBezTo>
                    <a:pt x="95" y="265"/>
                    <a:pt x="72" y="243"/>
                    <a:pt x="72" y="215"/>
                  </a:cubicBezTo>
                  <a:cubicBezTo>
                    <a:pt x="72" y="188"/>
                    <a:pt x="94" y="165"/>
                    <a:pt x="122" y="165"/>
                  </a:cubicBezTo>
                  <a:close/>
                  <a:moveTo>
                    <a:pt x="322" y="164"/>
                  </a:moveTo>
                  <a:lnTo>
                    <a:pt x="322" y="164"/>
                  </a:lnTo>
                  <a:cubicBezTo>
                    <a:pt x="350" y="164"/>
                    <a:pt x="372" y="186"/>
                    <a:pt x="372" y="214"/>
                  </a:cubicBezTo>
                  <a:cubicBezTo>
                    <a:pt x="373" y="242"/>
                    <a:pt x="350" y="264"/>
                    <a:pt x="323" y="264"/>
                  </a:cubicBezTo>
                  <a:lnTo>
                    <a:pt x="323" y="264"/>
                  </a:lnTo>
                  <a:cubicBezTo>
                    <a:pt x="295" y="264"/>
                    <a:pt x="272" y="242"/>
                    <a:pt x="272" y="214"/>
                  </a:cubicBezTo>
                  <a:cubicBezTo>
                    <a:pt x="272" y="187"/>
                    <a:pt x="294" y="164"/>
                    <a:pt x="322" y="164"/>
                  </a:cubicBezTo>
                  <a:close/>
                  <a:moveTo>
                    <a:pt x="522" y="163"/>
                  </a:moveTo>
                  <a:lnTo>
                    <a:pt x="522" y="163"/>
                  </a:lnTo>
                  <a:cubicBezTo>
                    <a:pt x="550" y="163"/>
                    <a:pt x="572" y="186"/>
                    <a:pt x="572" y="213"/>
                  </a:cubicBezTo>
                  <a:cubicBezTo>
                    <a:pt x="573" y="241"/>
                    <a:pt x="550" y="263"/>
                    <a:pt x="523" y="263"/>
                  </a:cubicBezTo>
                  <a:lnTo>
                    <a:pt x="523" y="263"/>
                  </a:lnTo>
                  <a:cubicBezTo>
                    <a:pt x="495" y="264"/>
                    <a:pt x="473" y="241"/>
                    <a:pt x="472" y="214"/>
                  </a:cubicBezTo>
                  <a:cubicBezTo>
                    <a:pt x="472" y="186"/>
                    <a:pt x="495" y="164"/>
                    <a:pt x="522" y="163"/>
                  </a:cubicBezTo>
                  <a:close/>
                  <a:moveTo>
                    <a:pt x="722" y="163"/>
                  </a:moveTo>
                  <a:lnTo>
                    <a:pt x="722" y="163"/>
                  </a:lnTo>
                  <a:cubicBezTo>
                    <a:pt x="750" y="163"/>
                    <a:pt x="772" y="185"/>
                    <a:pt x="773" y="213"/>
                  </a:cubicBezTo>
                  <a:cubicBezTo>
                    <a:pt x="773" y="240"/>
                    <a:pt x="750" y="263"/>
                    <a:pt x="723" y="263"/>
                  </a:cubicBezTo>
                  <a:lnTo>
                    <a:pt x="723" y="263"/>
                  </a:lnTo>
                  <a:cubicBezTo>
                    <a:pt x="695" y="263"/>
                    <a:pt x="673" y="241"/>
                    <a:pt x="672" y="213"/>
                  </a:cubicBezTo>
                  <a:cubicBezTo>
                    <a:pt x="672" y="185"/>
                    <a:pt x="695" y="163"/>
                    <a:pt x="722" y="163"/>
                  </a:cubicBezTo>
                  <a:close/>
                  <a:moveTo>
                    <a:pt x="922" y="162"/>
                  </a:moveTo>
                  <a:lnTo>
                    <a:pt x="922" y="162"/>
                  </a:lnTo>
                  <a:cubicBezTo>
                    <a:pt x="950" y="162"/>
                    <a:pt x="973" y="184"/>
                    <a:pt x="973" y="212"/>
                  </a:cubicBezTo>
                  <a:cubicBezTo>
                    <a:pt x="973" y="239"/>
                    <a:pt x="951" y="262"/>
                    <a:pt x="923" y="262"/>
                  </a:cubicBezTo>
                  <a:lnTo>
                    <a:pt x="923" y="262"/>
                  </a:lnTo>
                  <a:cubicBezTo>
                    <a:pt x="895" y="262"/>
                    <a:pt x="873" y="240"/>
                    <a:pt x="873" y="212"/>
                  </a:cubicBezTo>
                  <a:cubicBezTo>
                    <a:pt x="872" y="185"/>
                    <a:pt x="895" y="162"/>
                    <a:pt x="922" y="162"/>
                  </a:cubicBezTo>
                  <a:close/>
                  <a:moveTo>
                    <a:pt x="1122" y="161"/>
                  </a:moveTo>
                  <a:lnTo>
                    <a:pt x="1123" y="161"/>
                  </a:lnTo>
                  <a:cubicBezTo>
                    <a:pt x="1150" y="161"/>
                    <a:pt x="1173" y="184"/>
                    <a:pt x="1173" y="211"/>
                  </a:cubicBezTo>
                  <a:cubicBezTo>
                    <a:pt x="1173" y="239"/>
                    <a:pt x="1151" y="261"/>
                    <a:pt x="1123" y="261"/>
                  </a:cubicBezTo>
                  <a:lnTo>
                    <a:pt x="1123" y="261"/>
                  </a:lnTo>
                  <a:cubicBezTo>
                    <a:pt x="1095" y="262"/>
                    <a:pt x="1073" y="239"/>
                    <a:pt x="1073" y="212"/>
                  </a:cubicBezTo>
                  <a:cubicBezTo>
                    <a:pt x="1073" y="184"/>
                    <a:pt x="1095" y="162"/>
                    <a:pt x="1122" y="161"/>
                  </a:cubicBezTo>
                  <a:close/>
                  <a:moveTo>
                    <a:pt x="1323" y="161"/>
                  </a:moveTo>
                  <a:lnTo>
                    <a:pt x="1323" y="161"/>
                  </a:lnTo>
                  <a:cubicBezTo>
                    <a:pt x="1350" y="161"/>
                    <a:pt x="1373" y="183"/>
                    <a:pt x="1373" y="210"/>
                  </a:cubicBezTo>
                  <a:cubicBezTo>
                    <a:pt x="1373" y="238"/>
                    <a:pt x="1351" y="261"/>
                    <a:pt x="1323" y="261"/>
                  </a:cubicBezTo>
                  <a:lnTo>
                    <a:pt x="1323" y="261"/>
                  </a:lnTo>
                  <a:cubicBezTo>
                    <a:pt x="1295" y="261"/>
                    <a:pt x="1273" y="239"/>
                    <a:pt x="1273" y="211"/>
                  </a:cubicBezTo>
                  <a:cubicBezTo>
                    <a:pt x="1273" y="183"/>
                    <a:pt x="1295" y="161"/>
                    <a:pt x="1323" y="161"/>
                  </a:cubicBezTo>
                  <a:close/>
                  <a:moveTo>
                    <a:pt x="1523" y="160"/>
                  </a:moveTo>
                  <a:lnTo>
                    <a:pt x="1523" y="160"/>
                  </a:lnTo>
                  <a:cubicBezTo>
                    <a:pt x="1550" y="160"/>
                    <a:pt x="1573" y="182"/>
                    <a:pt x="1573" y="210"/>
                  </a:cubicBezTo>
                  <a:cubicBezTo>
                    <a:pt x="1573" y="237"/>
                    <a:pt x="1551" y="260"/>
                    <a:pt x="1523" y="260"/>
                  </a:cubicBezTo>
                  <a:lnTo>
                    <a:pt x="1523" y="260"/>
                  </a:lnTo>
                  <a:cubicBezTo>
                    <a:pt x="1496" y="260"/>
                    <a:pt x="1473" y="238"/>
                    <a:pt x="1473" y="210"/>
                  </a:cubicBezTo>
                  <a:cubicBezTo>
                    <a:pt x="1473" y="183"/>
                    <a:pt x="1495" y="160"/>
                    <a:pt x="1523" y="160"/>
                  </a:cubicBezTo>
                  <a:close/>
                  <a:moveTo>
                    <a:pt x="1723" y="159"/>
                  </a:moveTo>
                  <a:lnTo>
                    <a:pt x="1723" y="159"/>
                  </a:lnTo>
                  <a:cubicBezTo>
                    <a:pt x="1750" y="159"/>
                    <a:pt x="1773" y="181"/>
                    <a:pt x="1773" y="209"/>
                  </a:cubicBezTo>
                  <a:cubicBezTo>
                    <a:pt x="1773" y="237"/>
                    <a:pt x="1751" y="259"/>
                    <a:pt x="1723" y="259"/>
                  </a:cubicBezTo>
                  <a:lnTo>
                    <a:pt x="1723" y="259"/>
                  </a:lnTo>
                  <a:cubicBezTo>
                    <a:pt x="1696" y="259"/>
                    <a:pt x="1673" y="237"/>
                    <a:pt x="1673" y="210"/>
                  </a:cubicBezTo>
                  <a:cubicBezTo>
                    <a:pt x="1673" y="182"/>
                    <a:pt x="1695" y="159"/>
                    <a:pt x="1723" y="159"/>
                  </a:cubicBezTo>
                  <a:close/>
                  <a:moveTo>
                    <a:pt x="1923" y="159"/>
                  </a:moveTo>
                  <a:lnTo>
                    <a:pt x="1923" y="159"/>
                  </a:lnTo>
                  <a:cubicBezTo>
                    <a:pt x="1951" y="158"/>
                    <a:pt x="1973" y="181"/>
                    <a:pt x="1973" y="208"/>
                  </a:cubicBezTo>
                  <a:cubicBezTo>
                    <a:pt x="1973" y="236"/>
                    <a:pt x="1951" y="258"/>
                    <a:pt x="1923" y="259"/>
                  </a:cubicBezTo>
                  <a:lnTo>
                    <a:pt x="1923" y="259"/>
                  </a:lnTo>
                  <a:cubicBezTo>
                    <a:pt x="1896" y="259"/>
                    <a:pt x="1873" y="236"/>
                    <a:pt x="1873" y="209"/>
                  </a:cubicBezTo>
                  <a:cubicBezTo>
                    <a:pt x="1873" y="181"/>
                    <a:pt x="1895" y="159"/>
                    <a:pt x="1923" y="159"/>
                  </a:cubicBezTo>
                  <a:close/>
                  <a:moveTo>
                    <a:pt x="2123" y="158"/>
                  </a:moveTo>
                  <a:lnTo>
                    <a:pt x="2123" y="158"/>
                  </a:lnTo>
                  <a:cubicBezTo>
                    <a:pt x="2151" y="158"/>
                    <a:pt x="2173" y="180"/>
                    <a:pt x="2173" y="208"/>
                  </a:cubicBezTo>
                  <a:cubicBezTo>
                    <a:pt x="2173" y="235"/>
                    <a:pt x="2151" y="258"/>
                    <a:pt x="2124" y="258"/>
                  </a:cubicBezTo>
                  <a:lnTo>
                    <a:pt x="2123" y="258"/>
                  </a:lnTo>
                  <a:cubicBezTo>
                    <a:pt x="2096" y="258"/>
                    <a:pt x="2073" y="236"/>
                    <a:pt x="2073" y="208"/>
                  </a:cubicBezTo>
                  <a:cubicBezTo>
                    <a:pt x="2073" y="181"/>
                    <a:pt x="2095" y="158"/>
                    <a:pt x="2123" y="158"/>
                  </a:cubicBezTo>
                  <a:close/>
                  <a:moveTo>
                    <a:pt x="2323" y="157"/>
                  </a:moveTo>
                  <a:lnTo>
                    <a:pt x="2323" y="157"/>
                  </a:lnTo>
                  <a:cubicBezTo>
                    <a:pt x="2351" y="157"/>
                    <a:pt x="2373" y="179"/>
                    <a:pt x="2373" y="207"/>
                  </a:cubicBezTo>
                  <a:cubicBezTo>
                    <a:pt x="2373" y="235"/>
                    <a:pt x="2351" y="257"/>
                    <a:pt x="2324" y="257"/>
                  </a:cubicBezTo>
                  <a:lnTo>
                    <a:pt x="2324" y="257"/>
                  </a:lnTo>
                  <a:cubicBezTo>
                    <a:pt x="2296" y="257"/>
                    <a:pt x="2273" y="235"/>
                    <a:pt x="2273" y="207"/>
                  </a:cubicBezTo>
                  <a:cubicBezTo>
                    <a:pt x="2273" y="180"/>
                    <a:pt x="2295" y="157"/>
                    <a:pt x="2323" y="157"/>
                  </a:cubicBezTo>
                  <a:close/>
                  <a:moveTo>
                    <a:pt x="2523" y="157"/>
                  </a:moveTo>
                  <a:lnTo>
                    <a:pt x="2523" y="157"/>
                  </a:lnTo>
                  <a:cubicBezTo>
                    <a:pt x="2551" y="156"/>
                    <a:pt x="2573" y="179"/>
                    <a:pt x="2573" y="206"/>
                  </a:cubicBezTo>
                  <a:cubicBezTo>
                    <a:pt x="2574" y="234"/>
                    <a:pt x="2551" y="256"/>
                    <a:pt x="2524" y="257"/>
                  </a:cubicBezTo>
                  <a:lnTo>
                    <a:pt x="2524" y="257"/>
                  </a:lnTo>
                  <a:cubicBezTo>
                    <a:pt x="2496" y="257"/>
                    <a:pt x="2473" y="234"/>
                    <a:pt x="2473" y="207"/>
                  </a:cubicBezTo>
                  <a:cubicBezTo>
                    <a:pt x="2473" y="179"/>
                    <a:pt x="2496" y="157"/>
                    <a:pt x="2523" y="157"/>
                  </a:cubicBezTo>
                  <a:close/>
                  <a:moveTo>
                    <a:pt x="2723" y="156"/>
                  </a:moveTo>
                  <a:lnTo>
                    <a:pt x="2723" y="156"/>
                  </a:lnTo>
                  <a:cubicBezTo>
                    <a:pt x="2751" y="156"/>
                    <a:pt x="2773" y="178"/>
                    <a:pt x="2774" y="206"/>
                  </a:cubicBezTo>
                  <a:cubicBezTo>
                    <a:pt x="2774" y="233"/>
                    <a:pt x="2751" y="256"/>
                    <a:pt x="2724" y="256"/>
                  </a:cubicBezTo>
                  <a:lnTo>
                    <a:pt x="2724" y="256"/>
                  </a:lnTo>
                  <a:cubicBezTo>
                    <a:pt x="2696" y="256"/>
                    <a:pt x="2674" y="234"/>
                    <a:pt x="2673" y="206"/>
                  </a:cubicBezTo>
                  <a:cubicBezTo>
                    <a:pt x="2673" y="178"/>
                    <a:pt x="2696" y="156"/>
                    <a:pt x="2723" y="156"/>
                  </a:cubicBezTo>
                  <a:close/>
                  <a:moveTo>
                    <a:pt x="2923" y="155"/>
                  </a:moveTo>
                  <a:lnTo>
                    <a:pt x="2923" y="155"/>
                  </a:lnTo>
                  <a:cubicBezTo>
                    <a:pt x="2951" y="155"/>
                    <a:pt x="2974" y="177"/>
                    <a:pt x="2974" y="205"/>
                  </a:cubicBezTo>
                  <a:cubicBezTo>
                    <a:pt x="2974" y="233"/>
                    <a:pt x="2952" y="255"/>
                    <a:pt x="2924" y="255"/>
                  </a:cubicBezTo>
                  <a:lnTo>
                    <a:pt x="2924" y="255"/>
                  </a:lnTo>
                  <a:cubicBezTo>
                    <a:pt x="2896" y="255"/>
                    <a:pt x="2874" y="233"/>
                    <a:pt x="2874" y="205"/>
                  </a:cubicBezTo>
                  <a:cubicBezTo>
                    <a:pt x="2873" y="178"/>
                    <a:pt x="2896" y="155"/>
                    <a:pt x="2923" y="155"/>
                  </a:cubicBezTo>
                  <a:close/>
                  <a:moveTo>
                    <a:pt x="3123" y="154"/>
                  </a:moveTo>
                  <a:lnTo>
                    <a:pt x="3124" y="154"/>
                  </a:lnTo>
                  <a:cubicBezTo>
                    <a:pt x="3151" y="154"/>
                    <a:pt x="3174" y="177"/>
                    <a:pt x="3174" y="204"/>
                  </a:cubicBezTo>
                  <a:cubicBezTo>
                    <a:pt x="3174" y="232"/>
                    <a:pt x="3152" y="254"/>
                    <a:pt x="3124" y="254"/>
                  </a:cubicBezTo>
                  <a:lnTo>
                    <a:pt x="3124" y="254"/>
                  </a:lnTo>
                  <a:cubicBezTo>
                    <a:pt x="3096" y="255"/>
                    <a:pt x="3074" y="232"/>
                    <a:pt x="3074" y="205"/>
                  </a:cubicBezTo>
                  <a:cubicBezTo>
                    <a:pt x="3074" y="177"/>
                    <a:pt x="3096" y="155"/>
                    <a:pt x="3123" y="154"/>
                  </a:cubicBezTo>
                  <a:close/>
                  <a:moveTo>
                    <a:pt x="3324" y="154"/>
                  </a:moveTo>
                  <a:lnTo>
                    <a:pt x="3324" y="154"/>
                  </a:lnTo>
                  <a:cubicBezTo>
                    <a:pt x="3351" y="154"/>
                    <a:pt x="3374" y="176"/>
                    <a:pt x="3374" y="204"/>
                  </a:cubicBezTo>
                  <a:cubicBezTo>
                    <a:pt x="3374" y="231"/>
                    <a:pt x="3352" y="254"/>
                    <a:pt x="3324" y="254"/>
                  </a:cubicBezTo>
                  <a:lnTo>
                    <a:pt x="3324" y="254"/>
                  </a:lnTo>
                  <a:cubicBezTo>
                    <a:pt x="3296" y="254"/>
                    <a:pt x="3274" y="232"/>
                    <a:pt x="3274" y="204"/>
                  </a:cubicBezTo>
                  <a:cubicBezTo>
                    <a:pt x="3274" y="176"/>
                    <a:pt x="3296" y="154"/>
                    <a:pt x="3324" y="154"/>
                  </a:cubicBezTo>
                  <a:close/>
                  <a:moveTo>
                    <a:pt x="3524" y="153"/>
                  </a:moveTo>
                  <a:lnTo>
                    <a:pt x="3524" y="153"/>
                  </a:lnTo>
                  <a:cubicBezTo>
                    <a:pt x="3551" y="153"/>
                    <a:pt x="3574" y="175"/>
                    <a:pt x="3574" y="203"/>
                  </a:cubicBezTo>
                  <a:cubicBezTo>
                    <a:pt x="3574" y="230"/>
                    <a:pt x="3552" y="253"/>
                    <a:pt x="3524" y="253"/>
                  </a:cubicBezTo>
                  <a:lnTo>
                    <a:pt x="3524" y="253"/>
                  </a:lnTo>
                  <a:cubicBezTo>
                    <a:pt x="3496" y="253"/>
                    <a:pt x="3474" y="231"/>
                    <a:pt x="3474" y="203"/>
                  </a:cubicBezTo>
                  <a:cubicBezTo>
                    <a:pt x="3474" y="176"/>
                    <a:pt x="3496" y="153"/>
                    <a:pt x="3524" y="153"/>
                  </a:cubicBezTo>
                  <a:close/>
                  <a:moveTo>
                    <a:pt x="3724" y="152"/>
                  </a:moveTo>
                  <a:lnTo>
                    <a:pt x="3724" y="152"/>
                  </a:lnTo>
                  <a:cubicBezTo>
                    <a:pt x="3751" y="152"/>
                    <a:pt x="3774" y="175"/>
                    <a:pt x="3774" y="202"/>
                  </a:cubicBezTo>
                  <a:cubicBezTo>
                    <a:pt x="3774" y="230"/>
                    <a:pt x="3752" y="252"/>
                    <a:pt x="3724" y="252"/>
                  </a:cubicBezTo>
                  <a:lnTo>
                    <a:pt x="3724" y="252"/>
                  </a:lnTo>
                  <a:cubicBezTo>
                    <a:pt x="3697" y="253"/>
                    <a:pt x="3674" y="230"/>
                    <a:pt x="3674" y="203"/>
                  </a:cubicBezTo>
                  <a:cubicBezTo>
                    <a:pt x="3674" y="175"/>
                    <a:pt x="3696" y="153"/>
                    <a:pt x="3724" y="152"/>
                  </a:cubicBezTo>
                  <a:close/>
                  <a:moveTo>
                    <a:pt x="3924" y="152"/>
                  </a:moveTo>
                  <a:lnTo>
                    <a:pt x="3924" y="152"/>
                  </a:lnTo>
                  <a:cubicBezTo>
                    <a:pt x="3952" y="152"/>
                    <a:pt x="3974" y="174"/>
                    <a:pt x="3974" y="201"/>
                  </a:cubicBezTo>
                  <a:cubicBezTo>
                    <a:pt x="3974" y="229"/>
                    <a:pt x="3952" y="252"/>
                    <a:pt x="3924" y="252"/>
                  </a:cubicBezTo>
                  <a:lnTo>
                    <a:pt x="3924" y="252"/>
                  </a:lnTo>
                  <a:cubicBezTo>
                    <a:pt x="3897" y="252"/>
                    <a:pt x="3874" y="230"/>
                    <a:pt x="3874" y="202"/>
                  </a:cubicBezTo>
                  <a:cubicBezTo>
                    <a:pt x="3874" y="174"/>
                    <a:pt x="3896" y="152"/>
                    <a:pt x="3924" y="152"/>
                  </a:cubicBezTo>
                  <a:close/>
                  <a:moveTo>
                    <a:pt x="4124" y="151"/>
                  </a:moveTo>
                  <a:lnTo>
                    <a:pt x="4124" y="151"/>
                  </a:lnTo>
                  <a:cubicBezTo>
                    <a:pt x="4152" y="151"/>
                    <a:pt x="4174" y="173"/>
                    <a:pt x="4174" y="201"/>
                  </a:cubicBezTo>
                  <a:cubicBezTo>
                    <a:pt x="4174" y="228"/>
                    <a:pt x="4152" y="251"/>
                    <a:pt x="4124" y="251"/>
                  </a:cubicBezTo>
                  <a:lnTo>
                    <a:pt x="4124" y="251"/>
                  </a:lnTo>
                  <a:cubicBezTo>
                    <a:pt x="4097" y="251"/>
                    <a:pt x="4074" y="229"/>
                    <a:pt x="4074" y="201"/>
                  </a:cubicBezTo>
                  <a:cubicBezTo>
                    <a:pt x="4074" y="174"/>
                    <a:pt x="4096" y="151"/>
                    <a:pt x="4124" y="151"/>
                  </a:cubicBezTo>
                  <a:close/>
                  <a:moveTo>
                    <a:pt x="4324" y="150"/>
                  </a:moveTo>
                  <a:lnTo>
                    <a:pt x="4324" y="150"/>
                  </a:lnTo>
                  <a:cubicBezTo>
                    <a:pt x="4352" y="150"/>
                    <a:pt x="4374" y="172"/>
                    <a:pt x="4374" y="200"/>
                  </a:cubicBezTo>
                  <a:cubicBezTo>
                    <a:pt x="4374" y="228"/>
                    <a:pt x="4352" y="250"/>
                    <a:pt x="4325" y="250"/>
                  </a:cubicBezTo>
                  <a:lnTo>
                    <a:pt x="4324" y="250"/>
                  </a:lnTo>
                  <a:cubicBezTo>
                    <a:pt x="4297" y="250"/>
                    <a:pt x="4274" y="228"/>
                    <a:pt x="4274" y="201"/>
                  </a:cubicBezTo>
                  <a:cubicBezTo>
                    <a:pt x="4274" y="173"/>
                    <a:pt x="4296" y="150"/>
                    <a:pt x="4324" y="150"/>
                  </a:cubicBezTo>
                  <a:close/>
                  <a:moveTo>
                    <a:pt x="4449" y="0"/>
                  </a:moveTo>
                  <a:lnTo>
                    <a:pt x="4849" y="198"/>
                  </a:lnTo>
                  <a:lnTo>
                    <a:pt x="4450" y="400"/>
                  </a:lnTo>
                  <a:lnTo>
                    <a:pt x="44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6200000">
              <a:off x="942840" y="252324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7" name=""/>
          <p:cNvGrpSpPr/>
          <p:nvPr/>
        </p:nvGrpSpPr>
        <p:grpSpPr>
          <a:xfrm>
            <a:off x="2971800" y="1523880"/>
            <a:ext cx="2544840" cy="3579840"/>
            <a:chOff x="2971800" y="1523880"/>
            <a:chExt cx="2544840" cy="3579840"/>
          </a:xfrm>
        </p:grpSpPr>
        <p:sp>
          <p:nvSpPr>
            <p:cNvPr id="578" name=""/>
            <p:cNvSpPr/>
            <p:nvPr/>
          </p:nvSpPr>
          <p:spPr>
            <a:xfrm rot="20460000">
              <a:off x="4536000" y="4332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79" name=""/>
            <p:cNvSpPr/>
            <p:nvPr/>
          </p:nvSpPr>
          <p:spPr>
            <a:xfrm rot="18420000">
              <a:off x="5104800" y="4474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80" name=""/>
            <p:cNvSpPr/>
            <p:nvPr/>
          </p:nvSpPr>
          <p:spPr>
            <a:xfrm rot="2340000">
              <a:off x="5026680" y="3636720"/>
              <a:ext cx="31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traces</a:t>
              </a:r>
              <a:endParaRPr b="0" lang="en-US" sz="900" spc="-1" strike="noStrike">
                <a:solidFill>
                  <a:srgbClr val="000000"/>
                </a:solidFill>
                <a:latin typeface="Times New Roman"/>
              </a:endParaRPr>
            </a:p>
          </p:txBody>
        </p:sp>
        <p:sp>
          <p:nvSpPr>
            <p:cNvPr id="581" name=""/>
            <p:cNvSpPr/>
            <p:nvPr/>
          </p:nvSpPr>
          <p:spPr>
            <a:xfrm>
              <a:off x="4555800" y="152388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complies</a:t>
              </a:r>
              <a:endParaRPr b="0" lang="en-US" sz="900" spc="-1" strike="noStrike">
                <a:solidFill>
                  <a:srgbClr val="000000"/>
                </a:solidFill>
                <a:latin typeface="Times New Roman"/>
              </a:endParaRPr>
            </a:p>
          </p:txBody>
        </p:sp>
        <p:sp>
          <p:nvSpPr>
            <p:cNvPr id="582" name=""/>
            <p:cNvSpPr/>
            <p:nvPr/>
          </p:nvSpPr>
          <p:spPr>
            <a:xfrm>
              <a:off x="4975200" y="4446720"/>
              <a:ext cx="422280" cy="657000"/>
            </a:xfrm>
            <a:custGeom>
              <a:avLst/>
              <a:gdLst/>
              <a:ahLst/>
              <a:rect l="l" t="t" r="r" b="b"/>
              <a:pathLst>
                <a:path w="266" h="414">
                  <a:moveTo>
                    <a:pt x="0" y="409"/>
                  </a:moveTo>
                  <a:lnTo>
                    <a:pt x="21" y="378"/>
                  </a:lnTo>
                  <a:lnTo>
                    <a:pt x="28" y="383"/>
                  </a:lnTo>
                  <a:lnTo>
                    <a:pt x="8" y="414"/>
                  </a:lnTo>
                  <a:lnTo>
                    <a:pt x="0" y="409"/>
                  </a:lnTo>
                  <a:close/>
                  <a:moveTo>
                    <a:pt x="36" y="354"/>
                  </a:moveTo>
                  <a:lnTo>
                    <a:pt x="41" y="346"/>
                  </a:lnTo>
                  <a:lnTo>
                    <a:pt x="49" y="351"/>
                  </a:lnTo>
                  <a:lnTo>
                    <a:pt x="43" y="359"/>
                  </a:lnTo>
                  <a:lnTo>
                    <a:pt x="36" y="354"/>
                  </a:lnTo>
                  <a:close/>
                  <a:moveTo>
                    <a:pt x="56" y="322"/>
                  </a:moveTo>
                  <a:lnTo>
                    <a:pt x="76" y="291"/>
                  </a:lnTo>
                  <a:lnTo>
                    <a:pt x="84" y="296"/>
                  </a:lnTo>
                  <a:lnTo>
                    <a:pt x="64" y="327"/>
                  </a:lnTo>
                  <a:lnTo>
                    <a:pt x="56" y="322"/>
                  </a:lnTo>
                  <a:close/>
                  <a:moveTo>
                    <a:pt x="91" y="267"/>
                  </a:moveTo>
                  <a:lnTo>
                    <a:pt x="96" y="259"/>
                  </a:lnTo>
                  <a:lnTo>
                    <a:pt x="104" y="264"/>
                  </a:lnTo>
                  <a:lnTo>
                    <a:pt x="99" y="272"/>
                  </a:lnTo>
                  <a:lnTo>
                    <a:pt x="91" y="267"/>
                  </a:lnTo>
                  <a:close/>
                  <a:moveTo>
                    <a:pt x="111" y="236"/>
                  </a:moveTo>
                  <a:lnTo>
                    <a:pt x="131" y="204"/>
                  </a:lnTo>
                  <a:lnTo>
                    <a:pt x="139" y="209"/>
                  </a:lnTo>
                  <a:lnTo>
                    <a:pt x="119" y="241"/>
                  </a:lnTo>
                  <a:lnTo>
                    <a:pt x="111" y="236"/>
                  </a:lnTo>
                  <a:close/>
                  <a:moveTo>
                    <a:pt x="146" y="180"/>
                  </a:moveTo>
                  <a:lnTo>
                    <a:pt x="151" y="173"/>
                  </a:lnTo>
                  <a:lnTo>
                    <a:pt x="159" y="177"/>
                  </a:lnTo>
                  <a:lnTo>
                    <a:pt x="154" y="185"/>
                  </a:lnTo>
                  <a:lnTo>
                    <a:pt x="146" y="180"/>
                  </a:lnTo>
                  <a:close/>
                  <a:moveTo>
                    <a:pt x="166" y="149"/>
                  </a:moveTo>
                  <a:lnTo>
                    <a:pt x="186" y="117"/>
                  </a:lnTo>
                  <a:lnTo>
                    <a:pt x="194" y="122"/>
                  </a:lnTo>
                  <a:lnTo>
                    <a:pt x="174" y="154"/>
                  </a:lnTo>
                  <a:lnTo>
                    <a:pt x="166" y="149"/>
                  </a:lnTo>
                  <a:close/>
                  <a:moveTo>
                    <a:pt x="201" y="94"/>
                  </a:moveTo>
                  <a:lnTo>
                    <a:pt x="206" y="86"/>
                  </a:lnTo>
                  <a:lnTo>
                    <a:pt x="214" y="91"/>
                  </a:lnTo>
                  <a:lnTo>
                    <a:pt x="209" y="99"/>
                  </a:lnTo>
                  <a:lnTo>
                    <a:pt x="201" y="94"/>
                  </a:lnTo>
                  <a:close/>
                  <a:moveTo>
                    <a:pt x="221" y="62"/>
                  </a:moveTo>
                  <a:lnTo>
                    <a:pt x="232" y="45"/>
                  </a:lnTo>
                  <a:lnTo>
                    <a:pt x="240" y="50"/>
                  </a:lnTo>
                  <a:lnTo>
                    <a:pt x="229" y="67"/>
                  </a:lnTo>
                  <a:lnTo>
                    <a:pt x="221" y="62"/>
                  </a:lnTo>
                  <a:close/>
                  <a:moveTo>
                    <a:pt x="206" y="36"/>
                  </a:moveTo>
                  <a:lnTo>
                    <a:pt x="266" y="0"/>
                  </a:lnTo>
                  <a:lnTo>
                    <a:pt x="259" y="70"/>
                  </a:lnTo>
                  <a:lnTo>
                    <a:pt x="206" y="36"/>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99160" y="3610080"/>
              <a:ext cx="620640" cy="525240"/>
            </a:xfrm>
            <a:custGeom>
              <a:avLst/>
              <a:gdLst/>
              <a:ahLst/>
              <a:rect l="l" t="t" r="r" b="b"/>
              <a:pathLst>
                <a:path w="391" h="331">
                  <a:moveTo>
                    <a:pt x="6" y="0"/>
                  </a:moveTo>
                  <a:lnTo>
                    <a:pt x="13" y="6"/>
                  </a:lnTo>
                  <a:lnTo>
                    <a:pt x="7" y="13"/>
                  </a:lnTo>
                  <a:lnTo>
                    <a:pt x="0" y="7"/>
                  </a:lnTo>
                  <a:lnTo>
                    <a:pt x="6" y="0"/>
                  </a:lnTo>
                  <a:close/>
                  <a:moveTo>
                    <a:pt x="21" y="12"/>
                  </a:moveTo>
                  <a:lnTo>
                    <a:pt x="28" y="18"/>
                  </a:lnTo>
                  <a:lnTo>
                    <a:pt x="22" y="25"/>
                  </a:lnTo>
                  <a:lnTo>
                    <a:pt x="15" y="19"/>
                  </a:lnTo>
                  <a:lnTo>
                    <a:pt x="21" y="12"/>
                  </a:lnTo>
                  <a:close/>
                  <a:moveTo>
                    <a:pt x="35" y="24"/>
                  </a:moveTo>
                  <a:lnTo>
                    <a:pt x="42" y="30"/>
                  </a:lnTo>
                  <a:lnTo>
                    <a:pt x="36" y="37"/>
                  </a:lnTo>
                  <a:lnTo>
                    <a:pt x="29" y="31"/>
                  </a:lnTo>
                  <a:lnTo>
                    <a:pt x="35" y="24"/>
                  </a:lnTo>
                  <a:close/>
                  <a:moveTo>
                    <a:pt x="49" y="36"/>
                  </a:moveTo>
                  <a:lnTo>
                    <a:pt x="56" y="42"/>
                  </a:lnTo>
                  <a:lnTo>
                    <a:pt x="50" y="49"/>
                  </a:lnTo>
                  <a:lnTo>
                    <a:pt x="43" y="43"/>
                  </a:lnTo>
                  <a:lnTo>
                    <a:pt x="49" y="36"/>
                  </a:lnTo>
                  <a:close/>
                  <a:moveTo>
                    <a:pt x="63" y="48"/>
                  </a:moveTo>
                  <a:lnTo>
                    <a:pt x="71" y="54"/>
                  </a:lnTo>
                  <a:lnTo>
                    <a:pt x="65" y="62"/>
                  </a:lnTo>
                  <a:lnTo>
                    <a:pt x="57" y="55"/>
                  </a:lnTo>
                  <a:lnTo>
                    <a:pt x="63" y="48"/>
                  </a:lnTo>
                  <a:close/>
                  <a:moveTo>
                    <a:pt x="78" y="60"/>
                  </a:moveTo>
                  <a:lnTo>
                    <a:pt x="85" y="66"/>
                  </a:lnTo>
                  <a:lnTo>
                    <a:pt x="79" y="74"/>
                  </a:lnTo>
                  <a:lnTo>
                    <a:pt x="72" y="68"/>
                  </a:lnTo>
                  <a:lnTo>
                    <a:pt x="78" y="60"/>
                  </a:lnTo>
                  <a:close/>
                  <a:moveTo>
                    <a:pt x="92" y="72"/>
                  </a:moveTo>
                  <a:lnTo>
                    <a:pt x="99" y="78"/>
                  </a:lnTo>
                  <a:lnTo>
                    <a:pt x="93" y="86"/>
                  </a:lnTo>
                  <a:lnTo>
                    <a:pt x="86" y="80"/>
                  </a:lnTo>
                  <a:lnTo>
                    <a:pt x="92" y="72"/>
                  </a:lnTo>
                  <a:close/>
                  <a:moveTo>
                    <a:pt x="106" y="85"/>
                  </a:moveTo>
                  <a:lnTo>
                    <a:pt x="113" y="91"/>
                  </a:lnTo>
                  <a:lnTo>
                    <a:pt x="107" y="98"/>
                  </a:lnTo>
                  <a:lnTo>
                    <a:pt x="100" y="92"/>
                  </a:lnTo>
                  <a:lnTo>
                    <a:pt x="106" y="85"/>
                  </a:lnTo>
                  <a:close/>
                  <a:moveTo>
                    <a:pt x="121" y="97"/>
                  </a:moveTo>
                  <a:lnTo>
                    <a:pt x="128" y="103"/>
                  </a:lnTo>
                  <a:lnTo>
                    <a:pt x="122" y="110"/>
                  </a:lnTo>
                  <a:lnTo>
                    <a:pt x="115" y="104"/>
                  </a:lnTo>
                  <a:lnTo>
                    <a:pt x="121" y="97"/>
                  </a:lnTo>
                  <a:close/>
                  <a:moveTo>
                    <a:pt x="135" y="109"/>
                  </a:moveTo>
                  <a:lnTo>
                    <a:pt x="142" y="115"/>
                  </a:lnTo>
                  <a:lnTo>
                    <a:pt x="136" y="122"/>
                  </a:lnTo>
                  <a:lnTo>
                    <a:pt x="129" y="116"/>
                  </a:lnTo>
                  <a:lnTo>
                    <a:pt x="135" y="109"/>
                  </a:lnTo>
                  <a:close/>
                  <a:moveTo>
                    <a:pt x="149" y="121"/>
                  </a:moveTo>
                  <a:lnTo>
                    <a:pt x="156" y="127"/>
                  </a:lnTo>
                  <a:lnTo>
                    <a:pt x="150" y="134"/>
                  </a:lnTo>
                  <a:lnTo>
                    <a:pt x="143" y="128"/>
                  </a:lnTo>
                  <a:lnTo>
                    <a:pt x="149" y="121"/>
                  </a:lnTo>
                  <a:close/>
                  <a:moveTo>
                    <a:pt x="163" y="133"/>
                  </a:moveTo>
                  <a:lnTo>
                    <a:pt x="171" y="139"/>
                  </a:lnTo>
                  <a:lnTo>
                    <a:pt x="165" y="146"/>
                  </a:lnTo>
                  <a:lnTo>
                    <a:pt x="157" y="140"/>
                  </a:lnTo>
                  <a:lnTo>
                    <a:pt x="163" y="133"/>
                  </a:lnTo>
                  <a:close/>
                  <a:moveTo>
                    <a:pt x="178" y="145"/>
                  </a:moveTo>
                  <a:lnTo>
                    <a:pt x="185" y="151"/>
                  </a:lnTo>
                  <a:lnTo>
                    <a:pt x="179" y="158"/>
                  </a:lnTo>
                  <a:lnTo>
                    <a:pt x="172" y="152"/>
                  </a:lnTo>
                  <a:lnTo>
                    <a:pt x="178" y="145"/>
                  </a:lnTo>
                  <a:close/>
                  <a:moveTo>
                    <a:pt x="192" y="157"/>
                  </a:moveTo>
                  <a:lnTo>
                    <a:pt x="199" y="163"/>
                  </a:lnTo>
                  <a:lnTo>
                    <a:pt x="193" y="170"/>
                  </a:lnTo>
                  <a:lnTo>
                    <a:pt x="186" y="164"/>
                  </a:lnTo>
                  <a:lnTo>
                    <a:pt x="192" y="157"/>
                  </a:lnTo>
                  <a:close/>
                  <a:moveTo>
                    <a:pt x="206" y="169"/>
                  </a:moveTo>
                  <a:lnTo>
                    <a:pt x="214" y="175"/>
                  </a:lnTo>
                  <a:lnTo>
                    <a:pt x="207" y="182"/>
                  </a:lnTo>
                  <a:lnTo>
                    <a:pt x="200" y="176"/>
                  </a:lnTo>
                  <a:lnTo>
                    <a:pt x="206" y="169"/>
                  </a:lnTo>
                  <a:close/>
                  <a:moveTo>
                    <a:pt x="221" y="181"/>
                  </a:moveTo>
                  <a:lnTo>
                    <a:pt x="228" y="187"/>
                  </a:lnTo>
                  <a:lnTo>
                    <a:pt x="222" y="194"/>
                  </a:lnTo>
                  <a:lnTo>
                    <a:pt x="215" y="188"/>
                  </a:lnTo>
                  <a:lnTo>
                    <a:pt x="221" y="181"/>
                  </a:lnTo>
                  <a:close/>
                  <a:moveTo>
                    <a:pt x="235" y="193"/>
                  </a:moveTo>
                  <a:lnTo>
                    <a:pt x="242" y="199"/>
                  </a:lnTo>
                  <a:lnTo>
                    <a:pt x="236" y="206"/>
                  </a:lnTo>
                  <a:lnTo>
                    <a:pt x="229" y="200"/>
                  </a:lnTo>
                  <a:lnTo>
                    <a:pt x="235" y="193"/>
                  </a:lnTo>
                  <a:close/>
                  <a:moveTo>
                    <a:pt x="249" y="205"/>
                  </a:moveTo>
                  <a:lnTo>
                    <a:pt x="256" y="211"/>
                  </a:lnTo>
                  <a:lnTo>
                    <a:pt x="250" y="218"/>
                  </a:lnTo>
                  <a:lnTo>
                    <a:pt x="243" y="212"/>
                  </a:lnTo>
                  <a:lnTo>
                    <a:pt x="249" y="205"/>
                  </a:lnTo>
                  <a:close/>
                  <a:moveTo>
                    <a:pt x="264" y="217"/>
                  </a:moveTo>
                  <a:lnTo>
                    <a:pt x="271" y="223"/>
                  </a:lnTo>
                  <a:lnTo>
                    <a:pt x="265" y="230"/>
                  </a:lnTo>
                  <a:lnTo>
                    <a:pt x="257" y="224"/>
                  </a:lnTo>
                  <a:lnTo>
                    <a:pt x="264" y="217"/>
                  </a:lnTo>
                  <a:close/>
                  <a:moveTo>
                    <a:pt x="278" y="229"/>
                  </a:moveTo>
                  <a:lnTo>
                    <a:pt x="285" y="235"/>
                  </a:lnTo>
                  <a:lnTo>
                    <a:pt x="279" y="242"/>
                  </a:lnTo>
                  <a:lnTo>
                    <a:pt x="272" y="236"/>
                  </a:lnTo>
                  <a:lnTo>
                    <a:pt x="278" y="229"/>
                  </a:lnTo>
                  <a:close/>
                  <a:moveTo>
                    <a:pt x="292" y="241"/>
                  </a:moveTo>
                  <a:lnTo>
                    <a:pt x="299" y="247"/>
                  </a:lnTo>
                  <a:lnTo>
                    <a:pt x="293" y="254"/>
                  </a:lnTo>
                  <a:lnTo>
                    <a:pt x="286" y="248"/>
                  </a:lnTo>
                  <a:lnTo>
                    <a:pt x="292" y="241"/>
                  </a:lnTo>
                  <a:close/>
                  <a:moveTo>
                    <a:pt x="306" y="253"/>
                  </a:moveTo>
                  <a:lnTo>
                    <a:pt x="314" y="259"/>
                  </a:lnTo>
                  <a:lnTo>
                    <a:pt x="308" y="266"/>
                  </a:lnTo>
                  <a:lnTo>
                    <a:pt x="300" y="260"/>
                  </a:lnTo>
                  <a:lnTo>
                    <a:pt x="306" y="253"/>
                  </a:lnTo>
                  <a:close/>
                  <a:moveTo>
                    <a:pt x="321" y="265"/>
                  </a:moveTo>
                  <a:lnTo>
                    <a:pt x="328" y="271"/>
                  </a:lnTo>
                  <a:lnTo>
                    <a:pt x="322" y="279"/>
                  </a:lnTo>
                  <a:lnTo>
                    <a:pt x="315" y="272"/>
                  </a:lnTo>
                  <a:lnTo>
                    <a:pt x="321" y="265"/>
                  </a:lnTo>
                  <a:close/>
                  <a:moveTo>
                    <a:pt x="335" y="277"/>
                  </a:moveTo>
                  <a:lnTo>
                    <a:pt x="342" y="283"/>
                  </a:lnTo>
                  <a:lnTo>
                    <a:pt x="336" y="291"/>
                  </a:lnTo>
                  <a:lnTo>
                    <a:pt x="329" y="285"/>
                  </a:lnTo>
                  <a:lnTo>
                    <a:pt x="335" y="277"/>
                  </a:lnTo>
                  <a:close/>
                  <a:moveTo>
                    <a:pt x="349" y="289"/>
                  </a:moveTo>
                  <a:lnTo>
                    <a:pt x="351" y="291"/>
                  </a:lnTo>
                  <a:lnTo>
                    <a:pt x="345" y="298"/>
                  </a:lnTo>
                  <a:lnTo>
                    <a:pt x="343" y="297"/>
                  </a:lnTo>
                  <a:lnTo>
                    <a:pt x="349" y="289"/>
                  </a:lnTo>
                  <a:close/>
                  <a:moveTo>
                    <a:pt x="364" y="267"/>
                  </a:moveTo>
                  <a:lnTo>
                    <a:pt x="391" y="331"/>
                  </a:lnTo>
                  <a:lnTo>
                    <a:pt x="324" y="315"/>
                  </a:lnTo>
                  <a:lnTo>
                    <a:pt x="364" y="267"/>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40240" y="1606680"/>
              <a:ext cx="1076400" cy="1771560"/>
            </a:xfrm>
            <a:custGeom>
              <a:avLst/>
              <a:gdLst/>
              <a:ahLst/>
              <a:rect l="l" t="t" r="r" b="b"/>
              <a:pathLst>
                <a:path w="678" h="1116">
                  <a:moveTo>
                    <a:pt x="2" y="1116"/>
                  </a:moveTo>
                  <a:lnTo>
                    <a:pt x="2" y="1079"/>
                  </a:lnTo>
                  <a:lnTo>
                    <a:pt x="12" y="1079"/>
                  </a:lnTo>
                  <a:lnTo>
                    <a:pt x="12" y="1116"/>
                  </a:lnTo>
                  <a:lnTo>
                    <a:pt x="2" y="1116"/>
                  </a:lnTo>
                  <a:close/>
                  <a:moveTo>
                    <a:pt x="2" y="1051"/>
                  </a:moveTo>
                  <a:lnTo>
                    <a:pt x="2" y="1041"/>
                  </a:lnTo>
                  <a:lnTo>
                    <a:pt x="11" y="1041"/>
                  </a:lnTo>
                  <a:lnTo>
                    <a:pt x="11" y="1051"/>
                  </a:lnTo>
                  <a:lnTo>
                    <a:pt x="2" y="1051"/>
                  </a:lnTo>
                  <a:close/>
                  <a:moveTo>
                    <a:pt x="2" y="1013"/>
                  </a:moveTo>
                  <a:lnTo>
                    <a:pt x="2" y="976"/>
                  </a:lnTo>
                  <a:lnTo>
                    <a:pt x="11" y="976"/>
                  </a:lnTo>
                  <a:lnTo>
                    <a:pt x="11" y="1013"/>
                  </a:lnTo>
                  <a:lnTo>
                    <a:pt x="2" y="1013"/>
                  </a:lnTo>
                  <a:close/>
                  <a:moveTo>
                    <a:pt x="2" y="948"/>
                  </a:moveTo>
                  <a:lnTo>
                    <a:pt x="2" y="939"/>
                  </a:lnTo>
                  <a:lnTo>
                    <a:pt x="11" y="938"/>
                  </a:lnTo>
                  <a:lnTo>
                    <a:pt x="11" y="948"/>
                  </a:lnTo>
                  <a:lnTo>
                    <a:pt x="2" y="948"/>
                  </a:lnTo>
                  <a:close/>
                  <a:moveTo>
                    <a:pt x="2" y="910"/>
                  </a:moveTo>
                  <a:lnTo>
                    <a:pt x="2" y="873"/>
                  </a:lnTo>
                  <a:lnTo>
                    <a:pt x="11" y="873"/>
                  </a:lnTo>
                  <a:lnTo>
                    <a:pt x="11" y="910"/>
                  </a:lnTo>
                  <a:lnTo>
                    <a:pt x="2" y="910"/>
                  </a:lnTo>
                  <a:close/>
                  <a:moveTo>
                    <a:pt x="2" y="845"/>
                  </a:moveTo>
                  <a:lnTo>
                    <a:pt x="2" y="836"/>
                  </a:lnTo>
                  <a:lnTo>
                    <a:pt x="11" y="836"/>
                  </a:lnTo>
                  <a:lnTo>
                    <a:pt x="11" y="845"/>
                  </a:lnTo>
                  <a:lnTo>
                    <a:pt x="2" y="845"/>
                  </a:lnTo>
                  <a:close/>
                  <a:moveTo>
                    <a:pt x="2" y="808"/>
                  </a:moveTo>
                  <a:lnTo>
                    <a:pt x="2" y="770"/>
                  </a:lnTo>
                  <a:lnTo>
                    <a:pt x="11" y="770"/>
                  </a:lnTo>
                  <a:lnTo>
                    <a:pt x="11" y="808"/>
                  </a:lnTo>
                  <a:lnTo>
                    <a:pt x="2" y="808"/>
                  </a:lnTo>
                  <a:close/>
                  <a:moveTo>
                    <a:pt x="2" y="742"/>
                  </a:moveTo>
                  <a:lnTo>
                    <a:pt x="2" y="733"/>
                  </a:lnTo>
                  <a:lnTo>
                    <a:pt x="11" y="733"/>
                  </a:lnTo>
                  <a:lnTo>
                    <a:pt x="11" y="742"/>
                  </a:lnTo>
                  <a:lnTo>
                    <a:pt x="2" y="742"/>
                  </a:lnTo>
                  <a:close/>
                  <a:moveTo>
                    <a:pt x="1" y="705"/>
                  </a:moveTo>
                  <a:lnTo>
                    <a:pt x="1" y="667"/>
                  </a:lnTo>
                  <a:lnTo>
                    <a:pt x="11" y="667"/>
                  </a:lnTo>
                  <a:lnTo>
                    <a:pt x="11" y="705"/>
                  </a:lnTo>
                  <a:lnTo>
                    <a:pt x="1" y="705"/>
                  </a:lnTo>
                  <a:close/>
                  <a:moveTo>
                    <a:pt x="1" y="639"/>
                  </a:moveTo>
                  <a:lnTo>
                    <a:pt x="1" y="630"/>
                  </a:lnTo>
                  <a:lnTo>
                    <a:pt x="11" y="630"/>
                  </a:lnTo>
                  <a:lnTo>
                    <a:pt x="11" y="639"/>
                  </a:lnTo>
                  <a:lnTo>
                    <a:pt x="1" y="639"/>
                  </a:lnTo>
                  <a:close/>
                  <a:moveTo>
                    <a:pt x="1" y="602"/>
                  </a:moveTo>
                  <a:lnTo>
                    <a:pt x="1" y="565"/>
                  </a:lnTo>
                  <a:lnTo>
                    <a:pt x="11" y="564"/>
                  </a:lnTo>
                  <a:lnTo>
                    <a:pt x="11" y="602"/>
                  </a:lnTo>
                  <a:lnTo>
                    <a:pt x="1" y="602"/>
                  </a:lnTo>
                  <a:close/>
                  <a:moveTo>
                    <a:pt x="1" y="536"/>
                  </a:moveTo>
                  <a:lnTo>
                    <a:pt x="1" y="527"/>
                  </a:lnTo>
                  <a:lnTo>
                    <a:pt x="11" y="527"/>
                  </a:lnTo>
                  <a:lnTo>
                    <a:pt x="11" y="536"/>
                  </a:lnTo>
                  <a:lnTo>
                    <a:pt x="1" y="536"/>
                  </a:lnTo>
                  <a:close/>
                  <a:moveTo>
                    <a:pt x="1" y="499"/>
                  </a:moveTo>
                  <a:lnTo>
                    <a:pt x="1" y="462"/>
                  </a:lnTo>
                  <a:lnTo>
                    <a:pt x="10" y="462"/>
                  </a:lnTo>
                  <a:lnTo>
                    <a:pt x="10" y="499"/>
                  </a:lnTo>
                  <a:lnTo>
                    <a:pt x="1" y="499"/>
                  </a:lnTo>
                  <a:close/>
                  <a:moveTo>
                    <a:pt x="1" y="434"/>
                  </a:moveTo>
                  <a:lnTo>
                    <a:pt x="1" y="424"/>
                  </a:lnTo>
                  <a:lnTo>
                    <a:pt x="10" y="424"/>
                  </a:lnTo>
                  <a:lnTo>
                    <a:pt x="10" y="434"/>
                  </a:lnTo>
                  <a:lnTo>
                    <a:pt x="1" y="434"/>
                  </a:lnTo>
                  <a:close/>
                  <a:moveTo>
                    <a:pt x="1" y="396"/>
                  </a:moveTo>
                  <a:lnTo>
                    <a:pt x="1" y="359"/>
                  </a:lnTo>
                  <a:lnTo>
                    <a:pt x="10" y="359"/>
                  </a:lnTo>
                  <a:lnTo>
                    <a:pt x="10" y="396"/>
                  </a:lnTo>
                  <a:lnTo>
                    <a:pt x="1" y="396"/>
                  </a:lnTo>
                  <a:close/>
                  <a:moveTo>
                    <a:pt x="1" y="331"/>
                  </a:moveTo>
                  <a:lnTo>
                    <a:pt x="1" y="321"/>
                  </a:lnTo>
                  <a:lnTo>
                    <a:pt x="10" y="321"/>
                  </a:lnTo>
                  <a:lnTo>
                    <a:pt x="10" y="331"/>
                  </a:lnTo>
                  <a:lnTo>
                    <a:pt x="1" y="331"/>
                  </a:lnTo>
                  <a:close/>
                  <a:moveTo>
                    <a:pt x="1" y="293"/>
                  </a:moveTo>
                  <a:lnTo>
                    <a:pt x="1" y="256"/>
                  </a:lnTo>
                  <a:lnTo>
                    <a:pt x="10" y="256"/>
                  </a:lnTo>
                  <a:lnTo>
                    <a:pt x="10" y="293"/>
                  </a:lnTo>
                  <a:lnTo>
                    <a:pt x="1" y="293"/>
                  </a:lnTo>
                  <a:close/>
                  <a:moveTo>
                    <a:pt x="1" y="228"/>
                  </a:moveTo>
                  <a:lnTo>
                    <a:pt x="1" y="219"/>
                  </a:lnTo>
                  <a:lnTo>
                    <a:pt x="10" y="219"/>
                  </a:lnTo>
                  <a:lnTo>
                    <a:pt x="10" y="228"/>
                  </a:lnTo>
                  <a:lnTo>
                    <a:pt x="1" y="228"/>
                  </a:lnTo>
                  <a:close/>
                  <a:moveTo>
                    <a:pt x="1" y="191"/>
                  </a:moveTo>
                  <a:lnTo>
                    <a:pt x="0" y="153"/>
                  </a:lnTo>
                  <a:lnTo>
                    <a:pt x="10" y="153"/>
                  </a:lnTo>
                  <a:lnTo>
                    <a:pt x="10" y="190"/>
                  </a:lnTo>
                  <a:lnTo>
                    <a:pt x="1" y="191"/>
                  </a:lnTo>
                  <a:close/>
                  <a:moveTo>
                    <a:pt x="0" y="125"/>
                  </a:moveTo>
                  <a:lnTo>
                    <a:pt x="0" y="116"/>
                  </a:lnTo>
                  <a:lnTo>
                    <a:pt x="10" y="116"/>
                  </a:lnTo>
                  <a:lnTo>
                    <a:pt x="10" y="125"/>
                  </a:lnTo>
                  <a:lnTo>
                    <a:pt x="0" y="125"/>
                  </a:lnTo>
                  <a:close/>
                  <a:moveTo>
                    <a:pt x="0" y="88"/>
                  </a:moveTo>
                  <a:lnTo>
                    <a:pt x="0" y="50"/>
                  </a:lnTo>
                  <a:lnTo>
                    <a:pt x="10" y="50"/>
                  </a:lnTo>
                  <a:lnTo>
                    <a:pt x="10" y="88"/>
                  </a:lnTo>
                  <a:lnTo>
                    <a:pt x="0" y="88"/>
                  </a:lnTo>
                  <a:close/>
                  <a:moveTo>
                    <a:pt x="14" y="27"/>
                  </a:moveTo>
                  <a:lnTo>
                    <a:pt x="24" y="27"/>
                  </a:lnTo>
                  <a:lnTo>
                    <a:pt x="24" y="36"/>
                  </a:lnTo>
                  <a:lnTo>
                    <a:pt x="14" y="36"/>
                  </a:lnTo>
                  <a:lnTo>
                    <a:pt x="14" y="27"/>
                  </a:lnTo>
                  <a:close/>
                  <a:moveTo>
                    <a:pt x="52" y="27"/>
                  </a:moveTo>
                  <a:lnTo>
                    <a:pt x="89" y="27"/>
                  </a:lnTo>
                  <a:lnTo>
                    <a:pt x="89" y="36"/>
                  </a:lnTo>
                  <a:lnTo>
                    <a:pt x="52" y="36"/>
                  </a:lnTo>
                  <a:lnTo>
                    <a:pt x="52" y="27"/>
                  </a:lnTo>
                  <a:close/>
                  <a:moveTo>
                    <a:pt x="117" y="27"/>
                  </a:moveTo>
                  <a:lnTo>
                    <a:pt x="126" y="27"/>
                  </a:lnTo>
                  <a:lnTo>
                    <a:pt x="126" y="36"/>
                  </a:lnTo>
                  <a:lnTo>
                    <a:pt x="117" y="36"/>
                  </a:lnTo>
                  <a:lnTo>
                    <a:pt x="117" y="27"/>
                  </a:lnTo>
                  <a:close/>
                  <a:moveTo>
                    <a:pt x="154" y="27"/>
                  </a:moveTo>
                  <a:lnTo>
                    <a:pt x="192" y="27"/>
                  </a:lnTo>
                  <a:lnTo>
                    <a:pt x="192" y="36"/>
                  </a:lnTo>
                  <a:lnTo>
                    <a:pt x="154" y="36"/>
                  </a:lnTo>
                  <a:lnTo>
                    <a:pt x="154" y="27"/>
                  </a:lnTo>
                  <a:close/>
                  <a:moveTo>
                    <a:pt x="220" y="27"/>
                  </a:moveTo>
                  <a:lnTo>
                    <a:pt x="229" y="27"/>
                  </a:lnTo>
                  <a:lnTo>
                    <a:pt x="229" y="36"/>
                  </a:lnTo>
                  <a:lnTo>
                    <a:pt x="220" y="36"/>
                  </a:lnTo>
                  <a:lnTo>
                    <a:pt x="220" y="27"/>
                  </a:lnTo>
                  <a:close/>
                  <a:moveTo>
                    <a:pt x="257" y="27"/>
                  </a:moveTo>
                  <a:lnTo>
                    <a:pt x="295" y="27"/>
                  </a:lnTo>
                  <a:lnTo>
                    <a:pt x="295" y="36"/>
                  </a:lnTo>
                  <a:lnTo>
                    <a:pt x="257" y="36"/>
                  </a:lnTo>
                  <a:lnTo>
                    <a:pt x="257" y="27"/>
                  </a:lnTo>
                  <a:close/>
                  <a:moveTo>
                    <a:pt x="323" y="27"/>
                  </a:moveTo>
                  <a:lnTo>
                    <a:pt x="332" y="27"/>
                  </a:lnTo>
                  <a:lnTo>
                    <a:pt x="332" y="36"/>
                  </a:lnTo>
                  <a:lnTo>
                    <a:pt x="323" y="36"/>
                  </a:lnTo>
                  <a:lnTo>
                    <a:pt x="323" y="27"/>
                  </a:lnTo>
                  <a:close/>
                  <a:moveTo>
                    <a:pt x="360" y="27"/>
                  </a:moveTo>
                  <a:lnTo>
                    <a:pt x="397" y="27"/>
                  </a:lnTo>
                  <a:lnTo>
                    <a:pt x="397" y="36"/>
                  </a:lnTo>
                  <a:lnTo>
                    <a:pt x="360" y="36"/>
                  </a:lnTo>
                  <a:lnTo>
                    <a:pt x="360" y="27"/>
                  </a:lnTo>
                  <a:close/>
                  <a:moveTo>
                    <a:pt x="426" y="27"/>
                  </a:moveTo>
                  <a:lnTo>
                    <a:pt x="435" y="27"/>
                  </a:lnTo>
                  <a:lnTo>
                    <a:pt x="435" y="36"/>
                  </a:lnTo>
                  <a:lnTo>
                    <a:pt x="426" y="36"/>
                  </a:lnTo>
                  <a:lnTo>
                    <a:pt x="426" y="27"/>
                  </a:lnTo>
                  <a:close/>
                  <a:moveTo>
                    <a:pt x="463" y="27"/>
                  </a:moveTo>
                  <a:lnTo>
                    <a:pt x="500" y="27"/>
                  </a:lnTo>
                  <a:lnTo>
                    <a:pt x="500" y="36"/>
                  </a:lnTo>
                  <a:lnTo>
                    <a:pt x="463" y="36"/>
                  </a:lnTo>
                  <a:lnTo>
                    <a:pt x="463" y="27"/>
                  </a:lnTo>
                  <a:close/>
                  <a:moveTo>
                    <a:pt x="528" y="27"/>
                  </a:moveTo>
                  <a:lnTo>
                    <a:pt x="538" y="27"/>
                  </a:lnTo>
                  <a:lnTo>
                    <a:pt x="538" y="36"/>
                  </a:lnTo>
                  <a:lnTo>
                    <a:pt x="528" y="36"/>
                  </a:lnTo>
                  <a:lnTo>
                    <a:pt x="528" y="27"/>
                  </a:lnTo>
                  <a:close/>
                  <a:moveTo>
                    <a:pt x="566" y="27"/>
                  </a:moveTo>
                  <a:lnTo>
                    <a:pt x="603" y="27"/>
                  </a:lnTo>
                  <a:lnTo>
                    <a:pt x="603" y="36"/>
                  </a:lnTo>
                  <a:lnTo>
                    <a:pt x="566" y="36"/>
                  </a:lnTo>
                  <a:lnTo>
                    <a:pt x="566" y="27"/>
                  </a:lnTo>
                  <a:close/>
                  <a:moveTo>
                    <a:pt x="616" y="0"/>
                  </a:moveTo>
                  <a:lnTo>
                    <a:pt x="678" y="32"/>
                  </a:lnTo>
                  <a:lnTo>
                    <a:pt x="616" y="63"/>
                  </a:lnTo>
                  <a:lnTo>
                    <a:pt x="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971800" y="4255920"/>
              <a:ext cx="2367000" cy="777960"/>
            </a:xfrm>
            <a:custGeom>
              <a:avLst/>
              <a:gdLst/>
              <a:ahLst/>
              <a:rect l="l" t="t" r="r" b="b"/>
              <a:pathLst>
                <a:path w="1685" h="611">
                  <a:moveTo>
                    <a:pt x="0" y="602"/>
                  </a:moveTo>
                  <a:lnTo>
                    <a:pt x="36" y="589"/>
                  </a:lnTo>
                  <a:lnTo>
                    <a:pt x="39" y="598"/>
                  </a:lnTo>
                  <a:lnTo>
                    <a:pt x="4" y="611"/>
                  </a:lnTo>
                  <a:lnTo>
                    <a:pt x="0" y="602"/>
                  </a:lnTo>
                  <a:close/>
                  <a:moveTo>
                    <a:pt x="62" y="580"/>
                  </a:moveTo>
                  <a:lnTo>
                    <a:pt x="71" y="577"/>
                  </a:lnTo>
                  <a:lnTo>
                    <a:pt x="74" y="586"/>
                  </a:lnTo>
                  <a:lnTo>
                    <a:pt x="65" y="589"/>
                  </a:lnTo>
                  <a:lnTo>
                    <a:pt x="62" y="580"/>
                  </a:lnTo>
                  <a:close/>
                  <a:moveTo>
                    <a:pt x="97" y="568"/>
                  </a:moveTo>
                  <a:lnTo>
                    <a:pt x="133" y="555"/>
                  </a:lnTo>
                  <a:lnTo>
                    <a:pt x="136" y="564"/>
                  </a:lnTo>
                  <a:lnTo>
                    <a:pt x="100" y="576"/>
                  </a:lnTo>
                  <a:lnTo>
                    <a:pt x="97" y="568"/>
                  </a:lnTo>
                  <a:close/>
                  <a:moveTo>
                    <a:pt x="159" y="546"/>
                  </a:moveTo>
                  <a:lnTo>
                    <a:pt x="168" y="543"/>
                  </a:lnTo>
                  <a:lnTo>
                    <a:pt x="171" y="551"/>
                  </a:lnTo>
                  <a:lnTo>
                    <a:pt x="162" y="554"/>
                  </a:lnTo>
                  <a:lnTo>
                    <a:pt x="159" y="546"/>
                  </a:lnTo>
                  <a:close/>
                  <a:moveTo>
                    <a:pt x="194" y="533"/>
                  </a:moveTo>
                  <a:lnTo>
                    <a:pt x="229" y="521"/>
                  </a:lnTo>
                  <a:lnTo>
                    <a:pt x="233" y="529"/>
                  </a:lnTo>
                  <a:lnTo>
                    <a:pt x="197" y="542"/>
                  </a:lnTo>
                  <a:lnTo>
                    <a:pt x="194" y="533"/>
                  </a:lnTo>
                  <a:close/>
                  <a:moveTo>
                    <a:pt x="256" y="511"/>
                  </a:moveTo>
                  <a:lnTo>
                    <a:pt x="265" y="508"/>
                  </a:lnTo>
                  <a:lnTo>
                    <a:pt x="268" y="517"/>
                  </a:lnTo>
                  <a:lnTo>
                    <a:pt x="259" y="520"/>
                  </a:lnTo>
                  <a:lnTo>
                    <a:pt x="256" y="511"/>
                  </a:lnTo>
                  <a:close/>
                  <a:moveTo>
                    <a:pt x="291" y="499"/>
                  </a:moveTo>
                  <a:lnTo>
                    <a:pt x="326" y="486"/>
                  </a:lnTo>
                  <a:lnTo>
                    <a:pt x="329" y="495"/>
                  </a:lnTo>
                  <a:lnTo>
                    <a:pt x="294" y="507"/>
                  </a:lnTo>
                  <a:lnTo>
                    <a:pt x="291" y="499"/>
                  </a:lnTo>
                  <a:close/>
                  <a:moveTo>
                    <a:pt x="353" y="477"/>
                  </a:moveTo>
                  <a:lnTo>
                    <a:pt x="362" y="474"/>
                  </a:lnTo>
                  <a:lnTo>
                    <a:pt x="365" y="482"/>
                  </a:lnTo>
                  <a:lnTo>
                    <a:pt x="356" y="486"/>
                  </a:lnTo>
                  <a:lnTo>
                    <a:pt x="353" y="477"/>
                  </a:lnTo>
                  <a:close/>
                  <a:moveTo>
                    <a:pt x="388" y="464"/>
                  </a:moveTo>
                  <a:lnTo>
                    <a:pt x="423" y="452"/>
                  </a:lnTo>
                  <a:lnTo>
                    <a:pt x="426" y="461"/>
                  </a:lnTo>
                  <a:lnTo>
                    <a:pt x="391" y="473"/>
                  </a:lnTo>
                  <a:lnTo>
                    <a:pt x="388" y="464"/>
                  </a:lnTo>
                  <a:close/>
                  <a:moveTo>
                    <a:pt x="450" y="442"/>
                  </a:moveTo>
                  <a:lnTo>
                    <a:pt x="458" y="439"/>
                  </a:lnTo>
                  <a:lnTo>
                    <a:pt x="462" y="448"/>
                  </a:lnTo>
                  <a:lnTo>
                    <a:pt x="453" y="451"/>
                  </a:lnTo>
                  <a:lnTo>
                    <a:pt x="450" y="442"/>
                  </a:lnTo>
                  <a:close/>
                  <a:moveTo>
                    <a:pt x="485" y="430"/>
                  </a:moveTo>
                  <a:lnTo>
                    <a:pt x="520" y="417"/>
                  </a:lnTo>
                  <a:lnTo>
                    <a:pt x="523" y="426"/>
                  </a:lnTo>
                  <a:lnTo>
                    <a:pt x="488" y="439"/>
                  </a:lnTo>
                  <a:lnTo>
                    <a:pt x="485" y="430"/>
                  </a:lnTo>
                  <a:close/>
                  <a:moveTo>
                    <a:pt x="547" y="408"/>
                  </a:moveTo>
                  <a:lnTo>
                    <a:pt x="555" y="405"/>
                  </a:lnTo>
                  <a:lnTo>
                    <a:pt x="558" y="413"/>
                  </a:lnTo>
                  <a:lnTo>
                    <a:pt x="550" y="417"/>
                  </a:lnTo>
                  <a:lnTo>
                    <a:pt x="547" y="408"/>
                  </a:lnTo>
                  <a:close/>
                  <a:moveTo>
                    <a:pt x="582" y="395"/>
                  </a:moveTo>
                  <a:lnTo>
                    <a:pt x="617" y="383"/>
                  </a:lnTo>
                  <a:lnTo>
                    <a:pt x="620" y="392"/>
                  </a:lnTo>
                  <a:lnTo>
                    <a:pt x="585" y="404"/>
                  </a:lnTo>
                  <a:lnTo>
                    <a:pt x="582" y="395"/>
                  </a:lnTo>
                  <a:close/>
                  <a:moveTo>
                    <a:pt x="643" y="373"/>
                  </a:moveTo>
                  <a:lnTo>
                    <a:pt x="652" y="370"/>
                  </a:lnTo>
                  <a:lnTo>
                    <a:pt x="655" y="379"/>
                  </a:lnTo>
                  <a:lnTo>
                    <a:pt x="647" y="382"/>
                  </a:lnTo>
                  <a:lnTo>
                    <a:pt x="643" y="373"/>
                  </a:lnTo>
                  <a:close/>
                  <a:moveTo>
                    <a:pt x="679" y="361"/>
                  </a:moveTo>
                  <a:lnTo>
                    <a:pt x="714" y="348"/>
                  </a:lnTo>
                  <a:lnTo>
                    <a:pt x="717" y="357"/>
                  </a:lnTo>
                  <a:lnTo>
                    <a:pt x="682" y="370"/>
                  </a:lnTo>
                  <a:lnTo>
                    <a:pt x="679" y="361"/>
                  </a:lnTo>
                  <a:close/>
                  <a:moveTo>
                    <a:pt x="740" y="339"/>
                  </a:moveTo>
                  <a:lnTo>
                    <a:pt x="749" y="336"/>
                  </a:lnTo>
                  <a:lnTo>
                    <a:pt x="752" y="345"/>
                  </a:lnTo>
                  <a:lnTo>
                    <a:pt x="743" y="348"/>
                  </a:lnTo>
                  <a:lnTo>
                    <a:pt x="740" y="339"/>
                  </a:lnTo>
                  <a:close/>
                  <a:moveTo>
                    <a:pt x="776" y="326"/>
                  </a:moveTo>
                  <a:lnTo>
                    <a:pt x="811" y="314"/>
                  </a:lnTo>
                  <a:lnTo>
                    <a:pt x="814" y="323"/>
                  </a:lnTo>
                  <a:lnTo>
                    <a:pt x="779" y="335"/>
                  </a:lnTo>
                  <a:lnTo>
                    <a:pt x="776" y="326"/>
                  </a:lnTo>
                  <a:close/>
                  <a:moveTo>
                    <a:pt x="837" y="304"/>
                  </a:moveTo>
                  <a:lnTo>
                    <a:pt x="846" y="301"/>
                  </a:lnTo>
                  <a:lnTo>
                    <a:pt x="849" y="310"/>
                  </a:lnTo>
                  <a:lnTo>
                    <a:pt x="840" y="313"/>
                  </a:lnTo>
                  <a:lnTo>
                    <a:pt x="837" y="304"/>
                  </a:lnTo>
                  <a:close/>
                  <a:moveTo>
                    <a:pt x="873" y="292"/>
                  </a:moveTo>
                  <a:lnTo>
                    <a:pt x="908" y="279"/>
                  </a:lnTo>
                  <a:lnTo>
                    <a:pt x="911" y="288"/>
                  </a:lnTo>
                  <a:lnTo>
                    <a:pt x="876" y="301"/>
                  </a:lnTo>
                  <a:lnTo>
                    <a:pt x="873" y="292"/>
                  </a:lnTo>
                  <a:close/>
                  <a:moveTo>
                    <a:pt x="934" y="270"/>
                  </a:moveTo>
                  <a:lnTo>
                    <a:pt x="943" y="267"/>
                  </a:lnTo>
                  <a:lnTo>
                    <a:pt x="946" y="276"/>
                  </a:lnTo>
                  <a:lnTo>
                    <a:pt x="937" y="279"/>
                  </a:lnTo>
                  <a:lnTo>
                    <a:pt x="934" y="270"/>
                  </a:lnTo>
                  <a:close/>
                  <a:moveTo>
                    <a:pt x="969" y="257"/>
                  </a:moveTo>
                  <a:lnTo>
                    <a:pt x="1005" y="245"/>
                  </a:lnTo>
                  <a:lnTo>
                    <a:pt x="1008" y="254"/>
                  </a:lnTo>
                  <a:lnTo>
                    <a:pt x="973" y="266"/>
                  </a:lnTo>
                  <a:lnTo>
                    <a:pt x="969" y="257"/>
                  </a:lnTo>
                  <a:close/>
                  <a:moveTo>
                    <a:pt x="1031" y="236"/>
                  </a:moveTo>
                  <a:lnTo>
                    <a:pt x="1040" y="232"/>
                  </a:lnTo>
                  <a:lnTo>
                    <a:pt x="1043" y="241"/>
                  </a:lnTo>
                  <a:lnTo>
                    <a:pt x="1034" y="244"/>
                  </a:lnTo>
                  <a:lnTo>
                    <a:pt x="1031" y="236"/>
                  </a:lnTo>
                  <a:close/>
                  <a:moveTo>
                    <a:pt x="1066" y="223"/>
                  </a:moveTo>
                  <a:lnTo>
                    <a:pt x="1101" y="211"/>
                  </a:lnTo>
                  <a:lnTo>
                    <a:pt x="1105" y="219"/>
                  </a:lnTo>
                  <a:lnTo>
                    <a:pt x="1069" y="232"/>
                  </a:lnTo>
                  <a:lnTo>
                    <a:pt x="1066" y="223"/>
                  </a:lnTo>
                  <a:close/>
                  <a:moveTo>
                    <a:pt x="1128" y="201"/>
                  </a:moveTo>
                  <a:lnTo>
                    <a:pt x="1137" y="198"/>
                  </a:lnTo>
                  <a:lnTo>
                    <a:pt x="1140" y="207"/>
                  </a:lnTo>
                  <a:lnTo>
                    <a:pt x="1131" y="210"/>
                  </a:lnTo>
                  <a:lnTo>
                    <a:pt x="1128" y="201"/>
                  </a:lnTo>
                  <a:close/>
                  <a:moveTo>
                    <a:pt x="1163" y="189"/>
                  </a:moveTo>
                  <a:lnTo>
                    <a:pt x="1198" y="176"/>
                  </a:lnTo>
                  <a:lnTo>
                    <a:pt x="1202" y="185"/>
                  </a:lnTo>
                  <a:lnTo>
                    <a:pt x="1166" y="197"/>
                  </a:lnTo>
                  <a:lnTo>
                    <a:pt x="1163" y="189"/>
                  </a:lnTo>
                  <a:close/>
                  <a:moveTo>
                    <a:pt x="1225" y="167"/>
                  </a:moveTo>
                  <a:lnTo>
                    <a:pt x="1234" y="163"/>
                  </a:lnTo>
                  <a:lnTo>
                    <a:pt x="1237" y="172"/>
                  </a:lnTo>
                  <a:lnTo>
                    <a:pt x="1228" y="175"/>
                  </a:lnTo>
                  <a:lnTo>
                    <a:pt x="1225" y="167"/>
                  </a:lnTo>
                  <a:close/>
                  <a:moveTo>
                    <a:pt x="1260" y="154"/>
                  </a:moveTo>
                  <a:lnTo>
                    <a:pt x="1295" y="142"/>
                  </a:lnTo>
                  <a:lnTo>
                    <a:pt x="1298" y="150"/>
                  </a:lnTo>
                  <a:lnTo>
                    <a:pt x="1263" y="163"/>
                  </a:lnTo>
                  <a:lnTo>
                    <a:pt x="1260" y="154"/>
                  </a:lnTo>
                  <a:close/>
                  <a:moveTo>
                    <a:pt x="1322" y="132"/>
                  </a:moveTo>
                  <a:lnTo>
                    <a:pt x="1331" y="129"/>
                  </a:lnTo>
                  <a:lnTo>
                    <a:pt x="1334" y="138"/>
                  </a:lnTo>
                  <a:lnTo>
                    <a:pt x="1325" y="141"/>
                  </a:lnTo>
                  <a:lnTo>
                    <a:pt x="1322" y="132"/>
                  </a:lnTo>
                  <a:close/>
                  <a:moveTo>
                    <a:pt x="1357" y="120"/>
                  </a:moveTo>
                  <a:lnTo>
                    <a:pt x="1392" y="107"/>
                  </a:lnTo>
                  <a:lnTo>
                    <a:pt x="1395" y="116"/>
                  </a:lnTo>
                  <a:lnTo>
                    <a:pt x="1360" y="128"/>
                  </a:lnTo>
                  <a:lnTo>
                    <a:pt x="1357" y="120"/>
                  </a:lnTo>
                  <a:close/>
                  <a:moveTo>
                    <a:pt x="1419" y="98"/>
                  </a:moveTo>
                  <a:lnTo>
                    <a:pt x="1427" y="95"/>
                  </a:lnTo>
                  <a:lnTo>
                    <a:pt x="1431" y="103"/>
                  </a:lnTo>
                  <a:lnTo>
                    <a:pt x="1422" y="107"/>
                  </a:lnTo>
                  <a:lnTo>
                    <a:pt x="1419" y="98"/>
                  </a:lnTo>
                  <a:close/>
                  <a:moveTo>
                    <a:pt x="1454" y="85"/>
                  </a:moveTo>
                  <a:lnTo>
                    <a:pt x="1489" y="73"/>
                  </a:lnTo>
                  <a:lnTo>
                    <a:pt x="1492" y="82"/>
                  </a:lnTo>
                  <a:lnTo>
                    <a:pt x="1457" y="94"/>
                  </a:lnTo>
                  <a:lnTo>
                    <a:pt x="1454" y="85"/>
                  </a:lnTo>
                  <a:close/>
                  <a:moveTo>
                    <a:pt x="1516" y="63"/>
                  </a:moveTo>
                  <a:lnTo>
                    <a:pt x="1524" y="60"/>
                  </a:lnTo>
                  <a:lnTo>
                    <a:pt x="1528" y="69"/>
                  </a:lnTo>
                  <a:lnTo>
                    <a:pt x="1519" y="72"/>
                  </a:lnTo>
                  <a:lnTo>
                    <a:pt x="1516" y="63"/>
                  </a:lnTo>
                  <a:close/>
                  <a:moveTo>
                    <a:pt x="1551" y="51"/>
                  </a:moveTo>
                  <a:lnTo>
                    <a:pt x="1586" y="38"/>
                  </a:lnTo>
                  <a:lnTo>
                    <a:pt x="1589" y="47"/>
                  </a:lnTo>
                  <a:lnTo>
                    <a:pt x="1554" y="60"/>
                  </a:lnTo>
                  <a:lnTo>
                    <a:pt x="1551" y="51"/>
                  </a:lnTo>
                  <a:close/>
                  <a:moveTo>
                    <a:pt x="1612" y="29"/>
                  </a:moveTo>
                  <a:lnTo>
                    <a:pt x="1621" y="26"/>
                  </a:lnTo>
                  <a:lnTo>
                    <a:pt x="1624" y="34"/>
                  </a:lnTo>
                  <a:lnTo>
                    <a:pt x="1616" y="38"/>
                  </a:lnTo>
                  <a:lnTo>
                    <a:pt x="1612" y="29"/>
                  </a:lnTo>
                  <a:close/>
                  <a:moveTo>
                    <a:pt x="1616" y="0"/>
                  </a:moveTo>
                  <a:lnTo>
                    <a:pt x="1685" y="8"/>
                  </a:lnTo>
                  <a:lnTo>
                    <a:pt x="1637" y="58"/>
                  </a:lnTo>
                  <a:lnTo>
                    <a:pt x="1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0" y="3581280"/>
            <a:ext cx="4966560" cy="2299680"/>
            <a:chOff x="0" y="3581280"/>
            <a:chExt cx="4966560" cy="2299680"/>
          </a:xfrm>
        </p:grpSpPr>
        <p:grpSp>
          <p:nvGrpSpPr>
            <p:cNvPr id="587" name=""/>
            <p:cNvGrpSpPr/>
            <p:nvPr/>
          </p:nvGrpSpPr>
          <p:grpSpPr>
            <a:xfrm>
              <a:off x="0" y="3581280"/>
              <a:ext cx="1143000" cy="838080"/>
              <a:chOff x="0" y="3581280"/>
              <a:chExt cx="1143000" cy="838080"/>
            </a:xfrm>
          </p:grpSpPr>
          <p:sp>
            <p:nvSpPr>
              <p:cNvPr id="588" name=""/>
              <p:cNvSpPr/>
              <p:nvPr/>
            </p:nvSpPr>
            <p:spPr>
              <a:xfrm>
                <a:off x="609480" y="4114800"/>
                <a:ext cx="381240" cy="3045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81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UCM Model of Hospital</a:t>
                </a:r>
                <a:endParaRPr b="0" lang="en-US" sz="1200" spc="-1" strike="noStrike">
                  <a:solidFill>
                    <a:srgbClr val="000000"/>
                  </a:solidFill>
                  <a:latin typeface="Times New Roman"/>
                </a:endParaRPr>
              </a:p>
            </p:txBody>
          </p:sp>
        </p:grpSp>
        <p:grpSp>
          <p:nvGrpSpPr>
            <p:cNvPr id="590" name=""/>
            <p:cNvGrpSpPr/>
            <p:nvPr/>
          </p:nvGrpSpPr>
          <p:grpSpPr>
            <a:xfrm>
              <a:off x="687600" y="4343400"/>
              <a:ext cx="4278960" cy="1537560"/>
              <a:chOff x="687600" y="4343400"/>
              <a:chExt cx="4278960" cy="1537560"/>
            </a:xfrm>
          </p:grpSpPr>
          <p:sp>
            <p:nvSpPr>
              <p:cNvPr id="591" name=""/>
              <p:cNvSpPr/>
              <p:nvPr/>
            </p:nvSpPr>
            <p:spPr>
              <a:xfrm>
                <a:off x="774360" y="4557960"/>
                <a:ext cx="3006720" cy="13064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11400" y="4557960"/>
                <a:ext cx="1031760" cy="130212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923760" y="4827240"/>
                <a:ext cx="178920" cy="111600"/>
              </a:xfrm>
              <a:prstGeom prst="ellipse">
                <a:avLst/>
              </a:prstGeom>
              <a:solidFill>
                <a:srgbClr val="000000"/>
              </a:solidFill>
              <a:ln w="158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94" name=""/>
              <p:cNvSpPr/>
              <p:nvPr/>
            </p:nvSpPr>
            <p:spPr>
              <a:xfrm>
                <a:off x="937440" y="5640840"/>
                <a:ext cx="60480" cy="128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85960" y="5128200"/>
                <a:ext cx="58680" cy="147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6" name=""/>
              <p:cNvCxnSpPr>
                <a:stCxn id="593" idx="6"/>
                <a:endCxn id="597" idx="1"/>
              </p:cNvCxnSpPr>
              <p:nvPr/>
            </p:nvCxnSpPr>
            <p:spPr>
              <a:xfrm>
                <a:off x="1110240" y="4883040"/>
                <a:ext cx="3173400" cy="3600"/>
              </a:xfrm>
              <a:prstGeom prst="curvedConnector5">
                <a:avLst>
                  <a:gd name="adj1" fmla="val 50022"/>
                  <a:gd name="adj2" fmla="val 44444"/>
                  <a:gd name="adj3" fmla="val 50022"/>
                </a:avLst>
              </a:prstGeom>
              <a:ln w="22320">
                <a:solidFill>
                  <a:srgbClr val="000000"/>
                </a:solidFill>
                <a:miter/>
              </a:ln>
            </p:spPr>
          </p:cxnSp>
          <p:cxnSp>
            <p:nvCxnSpPr>
              <p:cNvPr id="598" name=""/>
              <p:cNvCxnSpPr>
                <a:stCxn id="594" idx="3"/>
                <a:endCxn id="597" idx="3"/>
              </p:cNvCxnSpPr>
              <p:nvPr/>
            </p:nvCxnSpPr>
            <p:spPr>
              <a:xfrm flipV="1">
                <a:off x="998280" y="4885920"/>
                <a:ext cx="3636000" cy="820080"/>
              </a:xfrm>
              <a:prstGeom prst="curvedConnector5">
                <a:avLst>
                  <a:gd name="adj1" fmla="val 105822"/>
                  <a:gd name="adj2" fmla="val 49978"/>
                  <a:gd name="adj3" fmla="val 105822"/>
                </a:avLst>
              </a:prstGeom>
              <a:ln w="22320">
                <a:solidFill>
                  <a:srgbClr val="000000"/>
                </a:solidFill>
                <a:miter/>
              </a:ln>
            </p:spPr>
          </p:cxnSp>
          <p:sp>
            <p:nvSpPr>
              <p:cNvPr id="599" name=""/>
              <p:cNvSpPr/>
              <p:nvPr/>
            </p:nvSpPr>
            <p:spPr>
              <a:xfrm>
                <a:off x="1969560" y="4771080"/>
                <a:ext cx="329760" cy="21888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94440" y="4775760"/>
                <a:ext cx="328320" cy="21924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5" idx="3"/>
                <a:endCxn id="597" idx="2"/>
              </p:cNvCxnSpPr>
              <p:nvPr/>
            </p:nvCxnSpPr>
            <p:spPr>
              <a:xfrm flipV="1">
                <a:off x="1854360" y="5005080"/>
                <a:ext cx="2605680" cy="197280"/>
              </a:xfrm>
              <a:prstGeom prst="curvedConnector2">
                <a:avLst/>
              </a:prstGeom>
              <a:ln w="22320">
                <a:solidFill>
                  <a:srgbClr val="000000"/>
                </a:solidFill>
                <a:miter/>
              </a:ln>
            </p:spPr>
          </p:cxnSp>
          <p:sp>
            <p:nvSpPr>
              <p:cNvPr id="601" name=""/>
              <p:cNvSpPr/>
              <p:nvPr/>
            </p:nvSpPr>
            <p:spPr>
              <a:xfrm>
                <a:off x="3239640" y="54896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2" name=""/>
              <p:cNvSpPr/>
              <p:nvPr/>
            </p:nvSpPr>
            <p:spPr>
              <a:xfrm>
                <a:off x="2752920" y="50540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3" name=""/>
              <p:cNvSpPr/>
              <p:nvPr/>
            </p:nvSpPr>
            <p:spPr>
              <a:xfrm>
                <a:off x="1460520" y="55771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4" name=""/>
              <p:cNvSpPr/>
              <p:nvPr/>
            </p:nvSpPr>
            <p:spPr>
              <a:xfrm rot="2924400">
                <a:off x="1191240" y="529848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5" name=""/>
              <p:cNvSpPr/>
              <p:nvPr/>
            </p:nvSpPr>
            <p:spPr>
              <a:xfrm>
                <a:off x="1115280" y="4877280"/>
                <a:ext cx="1358640" cy="772560"/>
              </a:xfrm>
              <a:custGeom>
                <a:avLst/>
                <a:gdLst/>
                <a:ahLst/>
                <a:rect l="l" t="t" r="r" b="b"/>
                <a:pathLst>
                  <a:path w="1056" h="924">
                    <a:moveTo>
                      <a:pt x="1056" y="924"/>
                    </a:moveTo>
                    <a:cubicBezTo>
                      <a:pt x="945" y="898"/>
                      <a:pt x="558" y="840"/>
                      <a:pt x="390" y="768"/>
                    </a:cubicBezTo>
                    <a:cubicBezTo>
                      <a:pt x="222" y="696"/>
                      <a:pt x="96" y="596"/>
                      <a:pt x="48" y="492"/>
                    </a:cubicBezTo>
                    <a:cubicBezTo>
                      <a:pt x="0" y="388"/>
                      <a:pt x="45" y="226"/>
                      <a:pt x="102" y="144"/>
                    </a:cubicBezTo>
                    <a:cubicBezTo>
                      <a:pt x="159" y="62"/>
                      <a:pt x="270" y="20"/>
                      <a:pt x="390" y="0"/>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rot="21274800">
                <a:off x="4671000" y="5182200"/>
                <a:ext cx="263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V</a:t>
                </a:r>
                <a:endParaRPr b="0" lang="en-US" sz="1000" spc="-1" strike="noStrike">
                  <a:solidFill>
                    <a:srgbClr val="000000"/>
                  </a:solidFill>
                  <a:latin typeface="Times New Roman"/>
                </a:endParaRPr>
              </a:p>
            </p:txBody>
          </p:sp>
          <p:sp>
            <p:nvSpPr>
              <p:cNvPr id="607" name=""/>
              <p:cNvSpPr/>
              <p:nvPr/>
            </p:nvSpPr>
            <p:spPr>
              <a:xfrm>
                <a:off x="1919160" y="5634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GiveUp]</a:t>
                </a:r>
                <a:endParaRPr b="0" lang="en-US" sz="1000" spc="-1" strike="noStrike">
                  <a:solidFill>
                    <a:srgbClr val="000000"/>
                  </a:solidFill>
                  <a:latin typeface="Times New Roman"/>
                </a:endParaRPr>
              </a:p>
            </p:txBody>
          </p:sp>
          <p:sp>
            <p:nvSpPr>
              <p:cNvPr id="608" name=""/>
              <p:cNvSpPr/>
              <p:nvPr/>
            </p:nvSpPr>
            <p:spPr>
              <a:xfrm>
                <a:off x="687600" y="54320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ject</a:t>
                </a:r>
                <a:endParaRPr b="0" lang="en-US" sz="1000" spc="-1" strike="noStrike">
                  <a:solidFill>
                    <a:srgbClr val="000000"/>
                  </a:solidFill>
                  <a:latin typeface="Times New Roman"/>
                </a:endParaRPr>
              </a:p>
            </p:txBody>
          </p:sp>
          <p:sp>
            <p:nvSpPr>
              <p:cNvPr id="609" name=""/>
              <p:cNvSpPr/>
              <p:nvPr/>
            </p:nvSpPr>
            <p:spPr>
              <a:xfrm>
                <a:off x="1628640" y="4565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questForPHI</a:t>
                </a:r>
                <a:endParaRPr b="0" lang="en-US" sz="1000" spc="-1" strike="noStrike">
                  <a:solidFill>
                    <a:srgbClr val="000000"/>
                  </a:solidFill>
                  <a:latin typeface="Times New Roman"/>
                </a:endParaRPr>
              </a:p>
            </p:txBody>
          </p:sp>
          <p:sp>
            <p:nvSpPr>
              <p:cNvPr id="610" name=""/>
              <p:cNvSpPr/>
              <p:nvPr/>
            </p:nvSpPr>
            <p:spPr>
              <a:xfrm>
                <a:off x="1532880" y="4921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ccept</a:t>
                </a:r>
                <a:endParaRPr b="0" lang="en-US" sz="1000" spc="-1" strike="noStrike">
                  <a:solidFill>
                    <a:srgbClr val="000000"/>
                  </a:solidFill>
                  <a:latin typeface="Times New Roman"/>
                </a:endParaRPr>
              </a:p>
            </p:txBody>
          </p:sp>
          <p:sp>
            <p:nvSpPr>
              <p:cNvPr id="611" name=""/>
              <p:cNvSpPr/>
              <p:nvPr/>
            </p:nvSpPr>
            <p:spPr>
              <a:xfrm>
                <a:off x="2345760" y="49420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ToAnAgreement</a:t>
                </a:r>
                <a:endParaRPr b="0" lang="en-US" sz="1000" spc="-1" strike="noStrike">
                  <a:solidFill>
                    <a:srgbClr val="000000"/>
                  </a:solidFill>
                  <a:latin typeface="Times New Roman"/>
                </a:endParaRPr>
              </a:p>
            </p:txBody>
          </p:sp>
          <p:sp>
            <p:nvSpPr>
              <p:cNvPr id="612" name=""/>
              <p:cNvSpPr/>
              <p:nvPr/>
            </p:nvSpPr>
            <p:spPr>
              <a:xfrm>
                <a:off x="3949200" y="46170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viewRequest</a:t>
                </a:r>
                <a:endParaRPr b="0" lang="en-US" sz="1000" spc="-1" strike="noStrike">
                  <a:solidFill>
                    <a:srgbClr val="000000"/>
                  </a:solidFill>
                  <a:latin typeface="Times New Roman"/>
                </a:endParaRPr>
              </a:p>
            </p:txBody>
          </p:sp>
          <p:sp>
            <p:nvSpPr>
              <p:cNvPr id="613" name=""/>
              <p:cNvSpPr/>
              <p:nvPr/>
            </p:nvSpPr>
            <p:spPr>
              <a:xfrm>
                <a:off x="2945520" y="5353560"/>
                <a:ext cx="88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Rejection</a:t>
                </a:r>
                <a:endParaRPr b="0" lang="en-US" sz="1000" spc="-1" strike="noStrike">
                  <a:solidFill>
                    <a:srgbClr val="000000"/>
                  </a:solidFill>
                  <a:latin typeface="Times New Roman"/>
                </a:endParaRPr>
              </a:p>
            </p:txBody>
          </p:sp>
          <p:sp>
            <p:nvSpPr>
              <p:cNvPr id="614" name=""/>
              <p:cNvSpPr/>
              <p:nvPr/>
            </p:nvSpPr>
            <p:spPr>
              <a:xfrm>
                <a:off x="1287360" y="5244480"/>
                <a:ext cx="1206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mendDocuments</a:t>
                </a:r>
                <a:endParaRPr b="0" lang="en-US" sz="1000" spc="-1" strike="noStrike">
                  <a:solidFill>
                    <a:srgbClr val="000000"/>
                  </a:solidFill>
                  <a:latin typeface="Times New Roman"/>
                </a:endParaRPr>
              </a:p>
            </p:txBody>
          </p:sp>
          <p:sp>
            <p:nvSpPr>
              <p:cNvPr id="615" name=""/>
              <p:cNvSpPr/>
              <p:nvPr/>
            </p:nvSpPr>
            <p:spPr>
              <a:xfrm>
                <a:off x="1915200" y="5415120"/>
                <a:ext cx="97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NewRequest]</a:t>
                </a:r>
                <a:endParaRPr b="0" lang="en-US" sz="1000" spc="-1" strike="noStrike">
                  <a:solidFill>
                    <a:srgbClr val="000000"/>
                  </a:solidFill>
                  <a:latin typeface="Times New Roman"/>
                </a:endParaRPr>
              </a:p>
            </p:txBody>
          </p:sp>
          <p:sp>
            <p:nvSpPr>
              <p:cNvPr id="616" name=""/>
              <p:cNvSpPr/>
              <p:nvPr/>
            </p:nvSpPr>
            <p:spPr>
              <a:xfrm>
                <a:off x="693360" y="436752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searcher</a:t>
                </a:r>
                <a:endParaRPr b="0" lang="en-US" sz="1000" spc="-1" strike="noStrike">
                  <a:solidFill>
                    <a:srgbClr val="000000"/>
                  </a:solidFill>
                  <a:latin typeface="Times New Roman"/>
                </a:endParaRPr>
              </a:p>
            </p:txBody>
          </p:sp>
          <p:sp>
            <p:nvSpPr>
              <p:cNvPr id="617" name=""/>
              <p:cNvSpPr/>
              <p:nvPr/>
            </p:nvSpPr>
            <p:spPr>
              <a:xfrm>
                <a:off x="3906720" y="43434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Hospital</a:t>
                </a:r>
                <a:endParaRPr b="0" lang="en-US" sz="1000" spc="-1" strike="noStrike">
                  <a:solidFill>
                    <a:srgbClr val="000000"/>
                  </a:solidFill>
                  <a:latin typeface="Times New Roman"/>
                </a:endParaRPr>
              </a:p>
            </p:txBody>
          </p:sp>
          <p:sp>
            <p:nvSpPr>
              <p:cNvPr id="618" name=""/>
              <p:cNvSpPr/>
              <p:nvPr/>
            </p:nvSpPr>
            <p:spPr>
              <a:xfrm rot="5400000">
                <a:off x="3908520" y="4418280"/>
                <a:ext cx="79560" cy="74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 name=""/>
              <p:cNvSpPr/>
              <p:nvPr/>
            </p:nvSpPr>
            <p:spPr>
              <a:xfrm rot="5400000">
                <a:off x="2329200" y="5068800"/>
                <a:ext cx="72360" cy="727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2895480" y="3657600"/>
            <a:ext cx="2103840" cy="1371600"/>
            <a:chOff x="2895480" y="3657600"/>
            <a:chExt cx="2103840" cy="1371600"/>
          </a:xfrm>
        </p:grpSpPr>
        <p:grpSp>
          <p:nvGrpSpPr>
            <p:cNvPr id="621" name=""/>
            <p:cNvGrpSpPr/>
            <p:nvPr/>
          </p:nvGrpSpPr>
          <p:grpSpPr>
            <a:xfrm>
              <a:off x="2895480" y="3657600"/>
              <a:ext cx="990720" cy="1371600"/>
              <a:chOff x="2895480" y="3657600"/>
              <a:chExt cx="990720" cy="1371600"/>
            </a:xfrm>
          </p:grpSpPr>
          <p:sp>
            <p:nvSpPr>
              <p:cNvPr id="622" name=""/>
              <p:cNvSpPr/>
              <p:nvPr/>
            </p:nvSpPr>
            <p:spPr>
              <a:xfrm>
                <a:off x="2895480" y="3657600"/>
                <a:ext cx="990720" cy="1371600"/>
              </a:xfrm>
              <a:custGeom>
                <a:avLst/>
                <a:gdLst/>
                <a:ahLst/>
                <a:rect l="l" t="t" r="r" b="b"/>
                <a:pathLst>
                  <a:path w="9241" h="10428">
                    <a:moveTo>
                      <a:pt x="0" y="10373"/>
                    </a:moveTo>
                    <a:lnTo>
                      <a:pt x="43" y="10309"/>
                    </a:lnTo>
                    <a:lnTo>
                      <a:pt x="88" y="10240"/>
                    </a:lnTo>
                    <a:lnTo>
                      <a:pt x="136" y="10166"/>
                    </a:lnTo>
                    <a:lnTo>
                      <a:pt x="187" y="10088"/>
                    </a:lnTo>
                    <a:lnTo>
                      <a:pt x="219" y="10039"/>
                    </a:lnTo>
                    <a:lnTo>
                      <a:pt x="303" y="10093"/>
                    </a:lnTo>
                    <a:lnTo>
                      <a:pt x="271" y="10142"/>
                    </a:lnTo>
                    <a:lnTo>
                      <a:pt x="220" y="10221"/>
                    </a:lnTo>
                    <a:lnTo>
                      <a:pt x="171" y="10295"/>
                    </a:lnTo>
                    <a:lnTo>
                      <a:pt x="126" y="10364"/>
                    </a:lnTo>
                    <a:lnTo>
                      <a:pt x="83" y="10428"/>
                    </a:lnTo>
                    <a:lnTo>
                      <a:pt x="0" y="10373"/>
                    </a:lnTo>
                    <a:close/>
                    <a:moveTo>
                      <a:pt x="380" y="9786"/>
                    </a:moveTo>
                    <a:lnTo>
                      <a:pt x="415" y="9730"/>
                    </a:lnTo>
                    <a:lnTo>
                      <a:pt x="544" y="9527"/>
                    </a:lnTo>
                    <a:lnTo>
                      <a:pt x="594" y="9448"/>
                    </a:lnTo>
                    <a:lnTo>
                      <a:pt x="678" y="9502"/>
                    </a:lnTo>
                    <a:lnTo>
                      <a:pt x="628" y="9581"/>
                    </a:lnTo>
                    <a:lnTo>
                      <a:pt x="500" y="9784"/>
                    </a:lnTo>
                    <a:lnTo>
                      <a:pt x="464" y="9840"/>
                    </a:lnTo>
                    <a:lnTo>
                      <a:pt x="380" y="9786"/>
                    </a:lnTo>
                    <a:close/>
                    <a:moveTo>
                      <a:pt x="753" y="9194"/>
                    </a:moveTo>
                    <a:lnTo>
                      <a:pt x="826" y="9079"/>
                    </a:lnTo>
                    <a:lnTo>
                      <a:pt x="966" y="8856"/>
                    </a:lnTo>
                    <a:lnTo>
                      <a:pt x="1051" y="8909"/>
                    </a:lnTo>
                    <a:lnTo>
                      <a:pt x="911" y="9132"/>
                    </a:lnTo>
                    <a:lnTo>
                      <a:pt x="838" y="9248"/>
                    </a:lnTo>
                    <a:lnTo>
                      <a:pt x="753" y="9194"/>
                    </a:lnTo>
                    <a:close/>
                    <a:moveTo>
                      <a:pt x="1125" y="8601"/>
                    </a:moveTo>
                    <a:lnTo>
                      <a:pt x="1137" y="8582"/>
                    </a:lnTo>
                    <a:lnTo>
                      <a:pt x="1303" y="8318"/>
                    </a:lnTo>
                    <a:lnTo>
                      <a:pt x="1338" y="8262"/>
                    </a:lnTo>
                    <a:lnTo>
                      <a:pt x="1422" y="8316"/>
                    </a:lnTo>
                    <a:lnTo>
                      <a:pt x="1388" y="8371"/>
                    </a:lnTo>
                    <a:lnTo>
                      <a:pt x="1222" y="8635"/>
                    </a:lnTo>
                    <a:lnTo>
                      <a:pt x="1210" y="8654"/>
                    </a:lnTo>
                    <a:lnTo>
                      <a:pt x="1125" y="8601"/>
                    </a:lnTo>
                    <a:close/>
                    <a:moveTo>
                      <a:pt x="1497" y="8008"/>
                    </a:moveTo>
                    <a:lnTo>
                      <a:pt x="1650" y="7766"/>
                    </a:lnTo>
                    <a:lnTo>
                      <a:pt x="1710" y="7670"/>
                    </a:lnTo>
                    <a:lnTo>
                      <a:pt x="1795" y="7723"/>
                    </a:lnTo>
                    <a:lnTo>
                      <a:pt x="1734" y="7819"/>
                    </a:lnTo>
                    <a:lnTo>
                      <a:pt x="1582" y="8062"/>
                    </a:lnTo>
                    <a:lnTo>
                      <a:pt x="1497" y="8008"/>
                    </a:lnTo>
                    <a:close/>
                    <a:moveTo>
                      <a:pt x="1871" y="7416"/>
                    </a:moveTo>
                    <a:lnTo>
                      <a:pt x="2014" y="7190"/>
                    </a:lnTo>
                    <a:lnTo>
                      <a:pt x="2085" y="7078"/>
                    </a:lnTo>
                    <a:lnTo>
                      <a:pt x="2170" y="7132"/>
                    </a:lnTo>
                    <a:lnTo>
                      <a:pt x="2098" y="7244"/>
                    </a:lnTo>
                    <a:lnTo>
                      <a:pt x="1955" y="7470"/>
                    </a:lnTo>
                    <a:lnTo>
                      <a:pt x="1871" y="7416"/>
                    </a:lnTo>
                    <a:close/>
                    <a:moveTo>
                      <a:pt x="2246" y="6825"/>
                    </a:moveTo>
                    <a:lnTo>
                      <a:pt x="2391" y="6599"/>
                    </a:lnTo>
                    <a:lnTo>
                      <a:pt x="2462" y="6488"/>
                    </a:lnTo>
                    <a:lnTo>
                      <a:pt x="2546" y="6542"/>
                    </a:lnTo>
                    <a:lnTo>
                      <a:pt x="2475" y="6653"/>
                    </a:lnTo>
                    <a:lnTo>
                      <a:pt x="2331" y="6879"/>
                    </a:lnTo>
                    <a:lnTo>
                      <a:pt x="2246" y="6825"/>
                    </a:lnTo>
                    <a:close/>
                    <a:moveTo>
                      <a:pt x="2625" y="6236"/>
                    </a:moveTo>
                    <a:lnTo>
                      <a:pt x="2775" y="6004"/>
                    </a:lnTo>
                    <a:lnTo>
                      <a:pt x="2843" y="5900"/>
                    </a:lnTo>
                    <a:lnTo>
                      <a:pt x="2926" y="5955"/>
                    </a:lnTo>
                    <a:lnTo>
                      <a:pt x="2859" y="6058"/>
                    </a:lnTo>
                    <a:lnTo>
                      <a:pt x="2709" y="6290"/>
                    </a:lnTo>
                    <a:lnTo>
                      <a:pt x="2625" y="6236"/>
                    </a:lnTo>
                    <a:close/>
                    <a:moveTo>
                      <a:pt x="3007" y="5649"/>
                    </a:moveTo>
                    <a:lnTo>
                      <a:pt x="3162" y="5413"/>
                    </a:lnTo>
                    <a:lnTo>
                      <a:pt x="3227" y="5315"/>
                    </a:lnTo>
                    <a:lnTo>
                      <a:pt x="3311" y="5370"/>
                    </a:lnTo>
                    <a:lnTo>
                      <a:pt x="3246" y="5467"/>
                    </a:lnTo>
                    <a:lnTo>
                      <a:pt x="3091" y="5704"/>
                    </a:lnTo>
                    <a:lnTo>
                      <a:pt x="3007" y="5649"/>
                    </a:lnTo>
                    <a:close/>
                    <a:moveTo>
                      <a:pt x="3394" y="5065"/>
                    </a:moveTo>
                    <a:lnTo>
                      <a:pt x="3548" y="4836"/>
                    </a:lnTo>
                    <a:lnTo>
                      <a:pt x="3617" y="4733"/>
                    </a:lnTo>
                    <a:lnTo>
                      <a:pt x="3700" y="4789"/>
                    </a:lnTo>
                    <a:lnTo>
                      <a:pt x="3631" y="4891"/>
                    </a:lnTo>
                    <a:lnTo>
                      <a:pt x="3477" y="5121"/>
                    </a:lnTo>
                    <a:lnTo>
                      <a:pt x="3394" y="5065"/>
                    </a:lnTo>
                    <a:close/>
                    <a:moveTo>
                      <a:pt x="3787" y="4485"/>
                    </a:moveTo>
                    <a:lnTo>
                      <a:pt x="3926" y="4283"/>
                    </a:lnTo>
                    <a:lnTo>
                      <a:pt x="4015" y="4156"/>
                    </a:lnTo>
                    <a:lnTo>
                      <a:pt x="4097" y="4213"/>
                    </a:lnTo>
                    <a:lnTo>
                      <a:pt x="4009" y="4339"/>
                    </a:lnTo>
                    <a:lnTo>
                      <a:pt x="3869" y="4542"/>
                    </a:lnTo>
                    <a:lnTo>
                      <a:pt x="3787" y="4485"/>
                    </a:lnTo>
                    <a:close/>
                    <a:moveTo>
                      <a:pt x="4188" y="3911"/>
                    </a:moveTo>
                    <a:lnTo>
                      <a:pt x="4293" y="3763"/>
                    </a:lnTo>
                    <a:lnTo>
                      <a:pt x="4422" y="3586"/>
                    </a:lnTo>
                    <a:lnTo>
                      <a:pt x="4503" y="3645"/>
                    </a:lnTo>
                    <a:lnTo>
                      <a:pt x="4375" y="3821"/>
                    </a:lnTo>
                    <a:lnTo>
                      <a:pt x="4270" y="3969"/>
                    </a:lnTo>
                    <a:lnTo>
                      <a:pt x="4188" y="3911"/>
                    </a:lnTo>
                    <a:close/>
                    <a:moveTo>
                      <a:pt x="4601" y="3344"/>
                    </a:moveTo>
                    <a:lnTo>
                      <a:pt x="4644" y="3287"/>
                    </a:lnTo>
                    <a:lnTo>
                      <a:pt x="4812" y="3068"/>
                    </a:lnTo>
                    <a:lnTo>
                      <a:pt x="4845" y="3026"/>
                    </a:lnTo>
                    <a:lnTo>
                      <a:pt x="4924" y="3088"/>
                    </a:lnTo>
                    <a:lnTo>
                      <a:pt x="4891" y="3129"/>
                    </a:lnTo>
                    <a:lnTo>
                      <a:pt x="4724" y="3347"/>
                    </a:lnTo>
                    <a:lnTo>
                      <a:pt x="4681" y="3404"/>
                    </a:lnTo>
                    <a:lnTo>
                      <a:pt x="4601" y="3344"/>
                    </a:lnTo>
                    <a:close/>
                    <a:moveTo>
                      <a:pt x="5033" y="2790"/>
                    </a:moveTo>
                    <a:lnTo>
                      <a:pt x="5052" y="2767"/>
                    </a:lnTo>
                    <a:lnTo>
                      <a:pt x="5129" y="2674"/>
                    </a:lnTo>
                    <a:lnTo>
                      <a:pt x="5204" y="2586"/>
                    </a:lnTo>
                    <a:lnTo>
                      <a:pt x="5277" y="2502"/>
                    </a:lnTo>
                    <a:cubicBezTo>
                      <a:pt x="5280" y="2499"/>
                      <a:pt x="5284" y="2496"/>
                      <a:pt x="5288" y="2493"/>
                    </a:cubicBezTo>
                    <a:lnTo>
                      <a:pt x="5308" y="2480"/>
                    </a:lnTo>
                    <a:lnTo>
                      <a:pt x="5362" y="2564"/>
                    </a:lnTo>
                    <a:lnTo>
                      <a:pt x="5342" y="2577"/>
                    </a:lnTo>
                    <a:lnTo>
                      <a:pt x="5352" y="2568"/>
                    </a:lnTo>
                    <a:lnTo>
                      <a:pt x="5280" y="2651"/>
                    </a:lnTo>
                    <a:lnTo>
                      <a:pt x="5206" y="2738"/>
                    </a:lnTo>
                    <a:lnTo>
                      <a:pt x="5129" y="2830"/>
                    </a:lnTo>
                    <a:lnTo>
                      <a:pt x="5110" y="2854"/>
                    </a:lnTo>
                    <a:lnTo>
                      <a:pt x="5033" y="2790"/>
                    </a:lnTo>
                    <a:close/>
                    <a:moveTo>
                      <a:pt x="5560" y="2317"/>
                    </a:moveTo>
                    <a:lnTo>
                      <a:pt x="5896" y="2100"/>
                    </a:lnTo>
                    <a:lnTo>
                      <a:pt x="5950" y="2184"/>
                    </a:lnTo>
                    <a:lnTo>
                      <a:pt x="5614" y="2401"/>
                    </a:lnTo>
                    <a:lnTo>
                      <a:pt x="5560" y="2317"/>
                    </a:lnTo>
                    <a:close/>
                    <a:moveTo>
                      <a:pt x="6148" y="1938"/>
                    </a:moveTo>
                    <a:lnTo>
                      <a:pt x="6484" y="1721"/>
                    </a:lnTo>
                    <a:lnTo>
                      <a:pt x="6538" y="1805"/>
                    </a:lnTo>
                    <a:lnTo>
                      <a:pt x="6202" y="2022"/>
                    </a:lnTo>
                    <a:lnTo>
                      <a:pt x="6148" y="1938"/>
                    </a:lnTo>
                    <a:close/>
                    <a:moveTo>
                      <a:pt x="6736" y="1558"/>
                    </a:moveTo>
                    <a:lnTo>
                      <a:pt x="7072" y="1341"/>
                    </a:lnTo>
                    <a:lnTo>
                      <a:pt x="7126" y="1425"/>
                    </a:lnTo>
                    <a:lnTo>
                      <a:pt x="6790" y="1642"/>
                    </a:lnTo>
                    <a:lnTo>
                      <a:pt x="6736" y="1558"/>
                    </a:lnTo>
                    <a:close/>
                    <a:moveTo>
                      <a:pt x="7324" y="1179"/>
                    </a:moveTo>
                    <a:lnTo>
                      <a:pt x="7660" y="962"/>
                    </a:lnTo>
                    <a:lnTo>
                      <a:pt x="7714" y="1046"/>
                    </a:lnTo>
                    <a:lnTo>
                      <a:pt x="7378" y="1263"/>
                    </a:lnTo>
                    <a:lnTo>
                      <a:pt x="7324" y="1179"/>
                    </a:lnTo>
                    <a:close/>
                    <a:moveTo>
                      <a:pt x="7912" y="799"/>
                    </a:moveTo>
                    <a:lnTo>
                      <a:pt x="8248" y="582"/>
                    </a:lnTo>
                    <a:lnTo>
                      <a:pt x="8302" y="666"/>
                    </a:lnTo>
                    <a:lnTo>
                      <a:pt x="7966" y="883"/>
                    </a:lnTo>
                    <a:lnTo>
                      <a:pt x="7912" y="799"/>
                    </a:lnTo>
                    <a:close/>
                    <a:moveTo>
                      <a:pt x="8500" y="419"/>
                    </a:moveTo>
                    <a:lnTo>
                      <a:pt x="8710" y="284"/>
                    </a:lnTo>
                    <a:lnTo>
                      <a:pt x="8764" y="368"/>
                    </a:lnTo>
                    <a:lnTo>
                      <a:pt x="8554" y="503"/>
                    </a:lnTo>
                    <a:lnTo>
                      <a:pt x="8500" y="419"/>
                    </a:lnTo>
                    <a:close/>
                    <a:moveTo>
                      <a:pt x="8501" y="82"/>
                    </a:moveTo>
                    <a:lnTo>
                      <a:pt x="9241" y="0"/>
                    </a:lnTo>
                    <a:lnTo>
                      <a:pt x="8862" y="642"/>
                    </a:lnTo>
                    <a:lnTo>
                      <a:pt x="8501"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7454600">
                <a:off x="2944080" y="4361400"/>
                <a:ext cx="2246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grpSp>
        <p:grpSp>
          <p:nvGrpSpPr>
            <p:cNvPr id="624" name=""/>
            <p:cNvGrpSpPr/>
            <p:nvPr/>
          </p:nvGrpSpPr>
          <p:grpSpPr>
            <a:xfrm>
              <a:off x="4693320" y="3877560"/>
              <a:ext cx="306000" cy="694440"/>
              <a:chOff x="4693320" y="3877560"/>
              <a:chExt cx="306000" cy="694440"/>
            </a:xfrm>
          </p:grpSpPr>
          <p:sp>
            <p:nvSpPr>
              <p:cNvPr id="625" name=""/>
              <p:cNvSpPr/>
              <p:nvPr/>
            </p:nvSpPr>
            <p:spPr>
              <a:xfrm rot="3986400">
                <a:off x="4620960" y="4042800"/>
                <a:ext cx="4507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sp>
            <p:nvSpPr>
              <p:cNvPr id="626" name=""/>
              <p:cNvSpPr/>
              <p:nvPr/>
            </p:nvSpPr>
            <p:spPr>
              <a:xfrm flipH="1" flipV="1">
                <a:off x="4724280" y="4114800"/>
                <a:ext cx="15264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5867280" y="5410080"/>
            <a:ext cx="2971800" cy="4572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crepencies could be </a:t>
            </a:r>
            <a:br>
              <a:rPr sz="1600"/>
            </a:br>
            <a:r>
              <a:rPr b="0" i="1" lang="en-US" sz="1600" spc="-1" strike="noStrike">
                <a:solidFill>
                  <a:srgbClr val="000000"/>
                </a:solidFill>
                <a:latin typeface="Times New Roman"/>
              </a:rPr>
              <a:t>detected during modelling…</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1000" fill="hold"/>
                                        <p:tgtEl>
                                          <p:spTgt spid="521"/>
                                        </p:tgtEl>
                                        <p:attrNameLst>
                                          <p:attrName>ppt_w</p:attrName>
                                        </p:attrNameLst>
                                      </p:cBhvr>
                                      <p:tavLst>
                                        <p:tav tm="0">
                                          <p:val>
                                            <p:strVal val="#ppt_w*0.70"/>
                                          </p:val>
                                        </p:tav>
                                        <p:tav tm="100000">
                                          <p:val>
                                            <p:strVal val="#ppt_w"/>
                                          </p:val>
                                        </p:tav>
                                      </p:tavLst>
                                    </p:anim>
                                    <p:anim calcmode="lin" valueType="num">
                                      <p:cBhvr additive="repl">
                                        <p:cTn id="52" dur="1000" fill="hold"/>
                                        <p:tgtEl>
                                          <p:spTgt spid="521"/>
                                        </p:tgtEl>
                                        <p:attrNameLst>
                                          <p:attrName>ppt_h</p:attrName>
                                        </p:attrNameLst>
                                      </p:cBhvr>
                                      <p:tavLst>
                                        <p:tav tm="0">
                                          <p:val>
                                            <p:strVal val="#ppt_h"/>
                                          </p:val>
                                        </p:tav>
                                        <p:tav tm="100000">
                                          <p:val>
                                            <p:strVal val="#ppt_h"/>
                                          </p:val>
                                        </p:tav>
                                      </p:tavLst>
                                    </p:anim>
                                    <p:animEffect filter="fade" transition="in">
                                      <p:cBhvr additive="repl">
                                        <p:cTn id="53" dur="1000"/>
                                        <p:tgtEl>
                                          <p:spTgt spid="521"/>
                                        </p:tgtEl>
                                      </p:cBhvr>
                                    </p:animEffect>
                                  </p:childTnLst>
                                </p:cTn>
                              </p:par>
                              <p:par>
                                <p:cTn id="54" nodeType="withEffect" fill="hold" presetClass="entr" presetID="55">
                                  <p:stCondLst>
                                    <p:cond delay="0"/>
                                  </p:stCondLst>
                                  <p:childTnLst>
                                    <p:set>
                                      <p:cBhvr>
                                        <p:cTn id="55" dur="1" fill="hold">
                                          <p:stCondLst>
                                            <p:cond delay="0"/>
                                          </p:stCondLst>
                                        </p:cTn>
                                        <p:tgtEl>
                                          <p:spTgt spid="544"/>
                                        </p:tgtEl>
                                        <p:attrNameLst>
                                          <p:attrName>style.visibility</p:attrName>
                                        </p:attrNameLst>
                                      </p:cBhvr>
                                      <p:to>
                                        <p:strVal val="visible"/>
                                      </p:to>
                                    </p:set>
                                    <p:anim calcmode="lin" valueType="num">
                                      <p:cBhvr additive="repl">
                                        <p:cTn id="56" dur="1000" fill="hold"/>
                                        <p:tgtEl>
                                          <p:spTgt spid="544"/>
                                        </p:tgtEl>
                                        <p:attrNameLst>
                                          <p:attrName>ppt_w</p:attrName>
                                        </p:attrNameLst>
                                      </p:cBhvr>
                                      <p:tavLst>
                                        <p:tav tm="0">
                                          <p:val>
                                            <p:strVal val="#ppt_w*0.70"/>
                                          </p:val>
                                        </p:tav>
                                        <p:tav tm="100000">
                                          <p:val>
                                            <p:strVal val="#ppt_w"/>
                                          </p:val>
                                        </p:tav>
                                      </p:tavLst>
                                    </p:anim>
                                    <p:anim calcmode="lin" valueType="num">
                                      <p:cBhvr additive="repl">
                                        <p:cTn id="57" dur="1000" fill="hold"/>
                                        <p:tgtEl>
                                          <p:spTgt spid="544"/>
                                        </p:tgtEl>
                                        <p:attrNameLst>
                                          <p:attrName>ppt_h</p:attrName>
                                        </p:attrNameLst>
                                      </p:cBhvr>
                                      <p:tavLst>
                                        <p:tav tm="0">
                                          <p:val>
                                            <p:strVal val="#ppt_h"/>
                                          </p:val>
                                        </p:tav>
                                        <p:tav tm="100000">
                                          <p:val>
                                            <p:strVal val="#ppt_h"/>
                                          </p:val>
                                        </p:tav>
                                      </p:tavLst>
                                    </p:anim>
                                    <p:animEffect filter="fade" transition="in">
                                      <p:cBhvr additive="repl">
                                        <p:cTn id="58" dur="1000"/>
                                        <p:tgtEl>
                                          <p:spTgt spid="5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3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2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volution of Privacy Legislation or Business Processes</a:t>
            </a:r>
            <a:endParaRPr b="0" lang="en-US" sz="2400" spc="-1" strike="noStrike">
              <a:solidFill>
                <a:srgbClr val="990000"/>
              </a:solidFill>
              <a:latin typeface="Arial Black"/>
            </a:endParaRPr>
          </a:p>
        </p:txBody>
      </p:sp>
      <p:sp>
        <p:nvSpPr>
          <p:cNvPr id="629" name="PlaceHolder 2"/>
          <p:cNvSpPr>
            <a:spLocks noGrp="1"/>
          </p:cNvSpPr>
          <p:nvPr>
            <p:ph/>
          </p:nvPr>
        </p:nvSpPr>
        <p:spPr>
          <a:xfrm>
            <a:off x="685800" y="10666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0" lang="en-CA" sz="2000" spc="-1" strike="noStrike">
                <a:solidFill>
                  <a:srgbClr val="990000"/>
                </a:solidFill>
                <a:latin typeface="Arial"/>
              </a:rPr>
              <a:t> </a:t>
            </a:r>
            <a:r>
              <a:rPr b="1" lang="en-CA" sz="2000" spc="-1" strike="noStrike">
                <a:solidFill>
                  <a:srgbClr val="990000"/>
                </a:solidFill>
                <a:latin typeface="Arial"/>
              </a:rPr>
              <a:t>compliance links</a:t>
            </a:r>
            <a:r>
              <a:rPr b="0" lang="en-CA" sz="2000" spc="-1" strike="noStrike">
                <a:solidFill>
                  <a:srgbClr val="000000"/>
                </a:solidFill>
                <a:latin typeface="Arial"/>
              </a:rPr>
              <a:t> defined in the </a:t>
            </a:r>
            <a:r>
              <a:rPr b="1" lang="en-CA" sz="2000" spc="-1" strike="noStrike">
                <a:solidFill>
                  <a:srgbClr val="990000"/>
                </a:solidFill>
                <a:latin typeface="Arial"/>
              </a:rPr>
              <a:t>Requirement Management Framework</a:t>
            </a:r>
            <a:r>
              <a:rPr b="0" lang="en-CA" sz="2000" spc="-1" strike="noStrike">
                <a:solidFill>
                  <a:srgbClr val="990000"/>
                </a:solidFill>
                <a:latin typeface="Arial"/>
              </a:rPr>
              <a:t> </a:t>
            </a:r>
            <a:r>
              <a:rPr b="0" lang="en-CA" sz="2000" spc="-1" strike="noStrike">
                <a:solidFill>
                  <a:srgbClr val="000000"/>
                </a:solidFill>
                <a:latin typeface="Arial"/>
              </a:rPr>
              <a:t>help to manage the impact of different types of changes and help ensure that compliance is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
          <p:cNvSpPr/>
          <p:nvPr/>
        </p:nvSpPr>
        <p:spPr>
          <a:xfrm>
            <a:off x="990000" y="557676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islation Evolution</a:t>
            </a:r>
            <a:endParaRPr b="0" lang="en-US" sz="1800" spc="-1" strike="noStrike">
              <a:solidFill>
                <a:srgbClr val="000000"/>
              </a:solidFill>
              <a:latin typeface="Times New Roman"/>
            </a:endParaRPr>
          </a:p>
        </p:txBody>
      </p:sp>
      <p:sp>
        <p:nvSpPr>
          <p:cNvPr id="631" name=""/>
          <p:cNvSpPr/>
          <p:nvPr/>
        </p:nvSpPr>
        <p:spPr>
          <a:xfrm>
            <a:off x="4800600" y="5576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Evolution</a:t>
            </a:r>
            <a:endParaRPr b="0" lang="en-US" sz="1800" spc="-1" strike="noStrike">
              <a:solidFill>
                <a:srgbClr val="000000"/>
              </a:solidFill>
              <a:latin typeface="Times New Roman"/>
            </a:endParaRPr>
          </a:p>
        </p:txBody>
      </p:sp>
      <p:pic>
        <p:nvPicPr>
          <p:cNvPr id="632" name="" descr=""/>
          <p:cNvPicPr/>
          <p:nvPr/>
        </p:nvPicPr>
        <p:blipFill>
          <a:blip r:embed="rId1"/>
          <a:stretch/>
        </p:blipFill>
        <p:spPr>
          <a:xfrm>
            <a:off x="304920" y="2362320"/>
            <a:ext cx="4281480" cy="3047760"/>
          </a:xfrm>
          <a:prstGeom prst="rect">
            <a:avLst/>
          </a:prstGeom>
          <a:ln w="0">
            <a:noFill/>
          </a:ln>
        </p:spPr>
      </p:pic>
      <p:pic>
        <p:nvPicPr>
          <p:cNvPr id="633" name="" descr=""/>
          <p:cNvPicPr/>
          <p:nvPr/>
        </p:nvPicPr>
        <p:blipFill>
          <a:blip r:embed="rId2"/>
          <a:stretch/>
        </p:blipFill>
        <p:spPr>
          <a:xfrm>
            <a:off x="4495680" y="2362320"/>
            <a:ext cx="4348440" cy="21333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volution of Privacy Legislation</a:t>
            </a:r>
            <a:endParaRPr b="0" lang="en-US" sz="2800" spc="-1" strike="noStrike">
              <a:solidFill>
                <a:srgbClr val="990000"/>
              </a:solidFill>
              <a:latin typeface="Arial Black"/>
            </a:endParaRPr>
          </a:p>
        </p:txBody>
      </p:sp>
      <p:sp>
        <p:nvSpPr>
          <p:cNvPr id="63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cenarios by which legislation documents can be amende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Cla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use refers to an existing actor, softgoal, goal or tas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roduces a new actor, softgoal, goal or task</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Delete</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out Link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 Amendment to PHIPA</a:t>
            </a:r>
            <a:endParaRPr b="0" lang="en-US" sz="2800" spc="-1" strike="noStrike">
              <a:solidFill>
                <a:srgbClr val="990000"/>
              </a:solidFill>
              <a:latin typeface="Arial Black"/>
            </a:endParaRPr>
          </a:p>
        </p:txBody>
      </p:sp>
      <p:pic>
        <p:nvPicPr>
          <p:cNvPr id="637" name="" descr=""/>
          <p:cNvPicPr/>
          <p:nvPr/>
        </p:nvPicPr>
        <p:blipFill>
          <a:blip r:embed="rId1"/>
          <a:stretch/>
        </p:blipFill>
        <p:spPr>
          <a:xfrm>
            <a:off x="609480" y="425520"/>
            <a:ext cx="7772400" cy="54417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Motivatio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iance with different regulations is of primary concern for any organization when defining its business process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0B compliance business in 2007 </a:t>
            </a:r>
            <a:r>
              <a:rPr b="0" lang="en-CA" sz="1600" spc="-1" strike="noStrike">
                <a:solidFill>
                  <a:srgbClr val="000000"/>
                </a:solidFill>
                <a:latin typeface="Arial"/>
              </a:rPr>
              <a:t>[AMR Research, Feb’07]</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organizations, especially in healthcare, use a document-based method to track compli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cument-based methods require much effort to </a:t>
            </a:r>
            <a:r>
              <a:rPr b="0" lang="en-CA" sz="2000" spc="-1" strike="noStrike">
                <a:solidFill>
                  <a:srgbClr val="990000"/>
                </a:solidFill>
                <a:latin typeface="Arial"/>
              </a:rPr>
              <a:t>document</a:t>
            </a:r>
            <a:r>
              <a:rPr b="1" lang="en-CA" sz="2000" spc="-1" strike="noStrike">
                <a:solidFill>
                  <a:srgbClr val="990000"/>
                </a:solidFill>
                <a:latin typeface="Arial"/>
              </a:rPr>
              <a:t> </a:t>
            </a:r>
            <a:r>
              <a:rPr b="0" lang="en-CA" sz="2000" spc="-1" strike="noStrike">
                <a:solidFill>
                  <a:srgbClr val="990000"/>
                </a:solidFill>
                <a:latin typeface="Arial"/>
              </a:rPr>
              <a:t>compliance</a:t>
            </a:r>
            <a:r>
              <a:rPr b="0" lang="en-CA" sz="2000" spc="-1" strike="noStrike">
                <a:solidFill>
                  <a:srgbClr val="000000"/>
                </a:solidFill>
                <a:latin typeface="Arial"/>
              </a:rPr>
              <a:t> and </a:t>
            </a:r>
            <a:r>
              <a:rPr b="0" lang="en-CA" sz="2000" spc="-1" strike="noStrike">
                <a:solidFill>
                  <a:srgbClr val="990000"/>
                </a:solidFill>
                <a:latin typeface="Arial"/>
              </a:rPr>
              <a:t>manage</a:t>
            </a:r>
            <a:r>
              <a:rPr b="1" lang="en-CA" sz="2000" spc="-1" strike="noStrike">
                <a:solidFill>
                  <a:srgbClr val="990000"/>
                </a:solidFill>
                <a:latin typeface="Arial"/>
              </a:rPr>
              <a:t> </a:t>
            </a:r>
            <a:r>
              <a:rPr b="0" lang="en-CA" sz="2000" spc="-1" strike="noStrike">
                <a:solidFill>
                  <a:srgbClr val="990000"/>
                </a:solidFill>
                <a:latin typeface="Arial"/>
              </a:rPr>
              <a:t>change</a:t>
            </a:r>
            <a:r>
              <a:rPr b="0" lang="en-CA" sz="2000" spc="-1" strike="noStrike">
                <a:solidFill>
                  <a:srgbClr val="000000"/>
                </a:solidFill>
                <a:latin typeface="Arial"/>
              </a:rPr>
              <a:t>, and yet they are usually </a:t>
            </a:r>
            <a:r>
              <a:rPr b="0" lang="en-CA" sz="2000" spc="-1" strike="noStrike">
                <a:solidFill>
                  <a:srgbClr val="990000"/>
                </a:solidFill>
                <a:latin typeface="Arial"/>
              </a:rPr>
              <a:t>incomplete</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based approaches have much potential for </a:t>
            </a:r>
            <a:r>
              <a:rPr b="0" lang="en-CA" sz="2000" spc="-1" strike="noStrike">
                <a:solidFill>
                  <a:srgbClr val="990000"/>
                </a:solidFill>
                <a:latin typeface="Arial"/>
              </a:rPr>
              <a:t>change management</a:t>
            </a:r>
            <a:r>
              <a:rPr b="1" lang="en-CA" sz="2000" spc="-1" strike="noStrike">
                <a:solidFill>
                  <a:srgbClr val="990000"/>
                </a:solidFill>
                <a:latin typeface="Arial"/>
              </a:rPr>
              <a:t> </a:t>
            </a:r>
            <a:r>
              <a:rPr b="0" lang="en-CA" sz="2000" spc="-1" strike="noStrike">
                <a:solidFill>
                  <a:srgbClr val="000000"/>
                </a:solidFill>
                <a:latin typeface="Arial"/>
              </a:rPr>
              <a:t>but are often separated from their source documents, which  provide the final author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Managing Evolving Business Processes or Policies</a:t>
            </a:r>
            <a:endParaRPr b="0" lang="en-US" sz="2400" spc="-1" strike="noStrike">
              <a:solidFill>
                <a:srgbClr val="990000"/>
              </a:solidFill>
              <a:latin typeface="Arial Black"/>
            </a:endParaRPr>
          </a:p>
        </p:txBody>
      </p:sp>
      <p:sp>
        <p:nvSpPr>
          <p:cNvPr id="63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r business process can evolve in 3 w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ication</a:t>
            </a:r>
            <a:r>
              <a:rPr b="0" lang="en-US" sz="2000" spc="-1" strike="noStrike">
                <a:solidFill>
                  <a:srgbClr val="000000"/>
                </a:solidFill>
                <a:latin typeface="Arial"/>
              </a:rPr>
              <a:t> of an </a:t>
            </a:r>
            <a:r>
              <a:rPr b="1" lang="en-US" sz="2000" spc="-1" strike="noStrike">
                <a:solidFill>
                  <a:srgbClr val="990000"/>
                </a:solidFill>
                <a:latin typeface="Arial"/>
              </a:rPr>
              <a:t>existing</a:t>
            </a:r>
            <a:r>
              <a:rPr b="0" lang="en-US" sz="2000" spc="-1" strike="noStrike">
                <a:solidFill>
                  <a:srgbClr val="000000"/>
                </a:solidFill>
                <a:latin typeface="Arial"/>
              </a:rPr>
              <a:t> process or poli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has links to its GRL model and to the legislation GRL mod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does not have links to its GRL model or legislation GRL model</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process or policy ele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moval</a:t>
            </a:r>
            <a:r>
              <a:rPr b="0" lang="en-US" sz="2000" spc="-1" strike="noStrike">
                <a:solidFill>
                  <a:srgbClr val="000000"/>
                </a:solidFill>
                <a:latin typeface="Arial"/>
              </a:rPr>
              <a:t> of a process or policy ele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Example – Hospital Business Process Changed</a:t>
            </a:r>
            <a:endParaRPr b="0" lang="en-US" sz="2000" spc="-1" strike="noStrike">
              <a:solidFill>
                <a:srgbClr val="990000"/>
              </a:solidFill>
              <a:latin typeface="Arial Black"/>
            </a:endParaRPr>
          </a:p>
        </p:txBody>
      </p:sp>
      <p:pic>
        <p:nvPicPr>
          <p:cNvPr id="641" name="" descr=""/>
          <p:cNvPicPr/>
          <p:nvPr/>
        </p:nvPicPr>
        <p:blipFill>
          <a:blip r:embed="rId1"/>
          <a:stretch/>
        </p:blipFill>
        <p:spPr>
          <a:xfrm>
            <a:off x="152280" y="838080"/>
            <a:ext cx="6653160" cy="2621160"/>
          </a:xfrm>
          <a:prstGeom prst="rect">
            <a:avLst/>
          </a:prstGeom>
          <a:ln w="0">
            <a:noFill/>
          </a:ln>
        </p:spPr>
      </p:pic>
      <p:pic>
        <p:nvPicPr>
          <p:cNvPr id="642" name="" descr=""/>
          <p:cNvPicPr/>
          <p:nvPr/>
        </p:nvPicPr>
        <p:blipFill>
          <a:blip r:embed="rId2"/>
          <a:stretch/>
        </p:blipFill>
        <p:spPr>
          <a:xfrm>
            <a:off x="2438280" y="3048120"/>
            <a:ext cx="6378840" cy="2895480"/>
          </a:xfrm>
          <a:prstGeom prst="rect">
            <a:avLst/>
          </a:prstGeom>
          <a:ln w="0">
            <a:noFill/>
          </a:ln>
        </p:spPr>
      </p:pic>
      <p:sp>
        <p:nvSpPr>
          <p:cNvPr id="643" name=""/>
          <p:cNvSpPr/>
          <p:nvPr/>
        </p:nvSpPr>
        <p:spPr>
          <a:xfrm>
            <a:off x="6858000" y="914400"/>
            <a:ext cx="22096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modification of a UCM responsibilit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nalysis of the Framework</a:t>
            </a:r>
            <a:endParaRPr b="0" lang="en-US" sz="2800" spc="-1" strike="noStrike">
              <a:solidFill>
                <a:srgbClr val="990000"/>
              </a:solidFill>
              <a:latin typeface="Arial Black"/>
            </a:endParaRPr>
          </a:p>
        </p:txBody>
      </p:sp>
      <p:sp>
        <p:nvSpPr>
          <p:cNvPr id="645" name="PlaceHolder 2"/>
          <p:cNvSpPr>
            <a:spLocks noGrp="1"/>
          </p:cNvSpPr>
          <p:nvPr>
            <p:ph/>
          </p:nvPr>
        </p:nvSpPr>
        <p:spPr>
          <a:xfrm>
            <a:off x="685800" y="53316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Management Framework requires </a:t>
            </a:r>
            <a:r>
              <a:rPr b="1" lang="en-US" sz="2000" spc="-1" strike="noStrike">
                <a:solidFill>
                  <a:srgbClr val="cc3300"/>
                </a:solidFill>
                <a:latin typeface="Arial"/>
              </a:rPr>
              <a:t>less amount of effort</a:t>
            </a:r>
            <a:r>
              <a:rPr b="0" lang="en-US" sz="2000" spc="-1" strike="noStrike">
                <a:solidFill>
                  <a:srgbClr val="000000"/>
                </a:solidFill>
                <a:latin typeface="Arial"/>
              </a:rPr>
              <a:t> in documenting compliance and managing ev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provides </a:t>
            </a:r>
            <a:r>
              <a:rPr b="1" lang="en-US" sz="2000" spc="-1" strike="noStrike">
                <a:solidFill>
                  <a:srgbClr val="cc3300"/>
                </a:solidFill>
                <a:latin typeface="Arial"/>
              </a:rPr>
              <a:t>almost the full co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6" name="" descr=""/>
          <p:cNvPicPr/>
          <p:nvPr/>
        </p:nvPicPr>
        <p:blipFill>
          <a:blip r:embed="rId1"/>
          <a:stretch/>
        </p:blipFill>
        <p:spPr>
          <a:xfrm>
            <a:off x="990720" y="1554120"/>
            <a:ext cx="6629400" cy="44337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nclusions and Future Work</a:t>
            </a:r>
            <a:endParaRPr b="0" lang="en-US" sz="2800" spc="-1" strike="noStrike">
              <a:solidFill>
                <a:srgbClr val="990000"/>
              </a:solidFill>
              <a:latin typeface="Arial Black"/>
            </a:endParaRPr>
          </a:p>
        </p:txBody>
      </p:sp>
      <p:sp>
        <p:nvSpPr>
          <p:cNvPr id="648" name="PlaceHolder 2"/>
          <p:cNvSpPr>
            <a:spLocks noGrp="1"/>
          </p:cNvSpPr>
          <p:nvPr>
            <p:ph/>
          </p:nvPr>
        </p:nvSpPr>
        <p:spPr>
          <a:xfrm>
            <a:off x="685440" y="1371600"/>
            <a:ext cx="8001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ll Compliance Framework is a best solution for </a:t>
            </a:r>
            <a:r>
              <a:rPr b="0" lang="en-US" sz="2400" spc="-1" strike="noStrike">
                <a:solidFill>
                  <a:srgbClr val="990000"/>
                </a:solidFill>
                <a:latin typeface="Arial"/>
              </a:rPr>
              <a:t>documenting compliance</a:t>
            </a:r>
            <a:r>
              <a:rPr b="0" lang="en-US" sz="2400" spc="-1" strike="noStrike">
                <a:solidFill>
                  <a:srgbClr val="000000"/>
                </a:solidFill>
                <a:latin typeface="Arial"/>
              </a:rPr>
              <a:t> and </a:t>
            </a:r>
            <a:r>
              <a:rPr b="0" lang="en-US" sz="2400" spc="-1" strike="noStrike">
                <a:solidFill>
                  <a:srgbClr val="990000"/>
                </a:solidFill>
                <a:latin typeface="Arial"/>
              </a:rPr>
              <a:t>responding to chan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best to support a variable number of legislation and regulation documents, which could contradic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uild legislation models so they are easily reusable across different are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integrate compliance into business process framework: audit trail, monitoring, metric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Three Wishes…</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framework that can model organizational policies, procedures and legislative documents in the same no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 for useful lin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in views of a model (goals and proce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two models (organization and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models and legislation and other docu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way to manage the evolution of any part (legislation, business processes, etc.) in order to assess the global impact and ensure compliance in the new contex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Related Work</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990000"/>
                </a:solidFill>
                <a:latin typeface="Arial"/>
              </a:rPr>
              <a:t>Not all wishes are granted in existing framework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rimont </a:t>
            </a:r>
            <a:r>
              <a:rPr b="0" i="1" lang="en-CA" sz="1800" spc="-1" strike="noStrike">
                <a:solidFill>
                  <a:srgbClr val="000000"/>
                </a:solidFill>
                <a:latin typeface="Arial"/>
              </a:rPr>
              <a:t>et al.</a:t>
            </a:r>
            <a:r>
              <a:rPr b="0" lang="en-CA" sz="1800" spc="-1" strike="noStrike">
                <a:solidFill>
                  <a:srgbClr val="000000"/>
                </a:solidFill>
                <a:latin typeface="Arial"/>
              </a:rPr>
              <a:t> use KAOS to model regulations with goa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real traceability between processes and legal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faut </a:t>
            </a:r>
            <a:r>
              <a:rPr b="0" i="1" lang="en-CA" sz="1800" spc="-1" strike="noStrike">
                <a:solidFill>
                  <a:srgbClr val="000000"/>
                </a:solidFill>
                <a:latin typeface="Arial"/>
              </a:rPr>
              <a:t>et al.</a:t>
            </a:r>
            <a:r>
              <a:rPr b="0" lang="en-CA" sz="1800" spc="-1" strike="noStrike">
                <a:solidFill>
                  <a:srgbClr val="000000"/>
                </a:solidFill>
                <a:latin typeface="Arial"/>
              </a:rPr>
              <a:t> apply goal-based models for the compliance of financial systems to Basel II regul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really provide any kind of tracea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e </a:t>
            </a:r>
            <a:r>
              <a:rPr b="0" i="1" lang="en-CA" sz="1800" spc="-1" strike="noStrike">
                <a:solidFill>
                  <a:srgbClr val="000000"/>
                </a:solidFill>
                <a:latin typeface="Arial"/>
              </a:rPr>
              <a:t>et al. </a:t>
            </a:r>
            <a:r>
              <a:rPr b="0" lang="en-CA" sz="1800" spc="-1" strike="noStrike">
                <a:solidFill>
                  <a:srgbClr val="000000"/>
                </a:solidFill>
                <a:latin typeface="Arial"/>
              </a:rPr>
              <a:t>use ReCAPS to ensure policy- and requirements-compliant syste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include business proc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eaux </a:t>
            </a:r>
            <a:r>
              <a:rPr b="0" i="1" lang="en-CA" sz="1800" spc="-1" strike="noStrike">
                <a:solidFill>
                  <a:srgbClr val="000000"/>
                </a:solidFill>
                <a:latin typeface="Arial"/>
              </a:rPr>
              <a:t>et al</a:t>
            </a:r>
            <a:r>
              <a:rPr b="0" lang="en-CA" sz="1800" spc="-1" strike="noStrike">
                <a:solidFill>
                  <a:srgbClr val="000000"/>
                </a:solidFill>
                <a:latin typeface="Arial"/>
              </a:rPr>
              <a:t>. use semantic parameterization to extract rights and obligations from the HIPAA privacy ru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links to organization policies and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0000"/>
                </a:solidFill>
                <a:latin typeface="Arial Black"/>
              </a:rPr>
              <a:t>Leveraging Models in Designing for Compliance and Performance Management</a:t>
            </a:r>
            <a:r>
              <a:rPr b="0" lang="en-US" sz="2400" spc="-1" strike="noStrike">
                <a:solidFill>
                  <a:srgbClr val="990000"/>
                </a:solidFill>
                <a:latin typeface="Arial Black"/>
              </a:rPr>
              <a:t> </a:t>
            </a:r>
            <a:endParaRPr b="0" lang="en-US" sz="2400" spc="-1" strike="noStrike">
              <a:solidFill>
                <a:srgbClr val="990000"/>
              </a:solidFill>
              <a:latin typeface="Arial Black"/>
            </a:endParaRPr>
          </a:p>
        </p:txBody>
      </p:sp>
      <p:pic>
        <p:nvPicPr>
          <p:cNvPr id="97" name="" descr=""/>
          <p:cNvPicPr/>
          <p:nvPr/>
        </p:nvPicPr>
        <p:blipFill>
          <a:blip r:embed="rId1"/>
          <a:stretch/>
        </p:blipFill>
        <p:spPr>
          <a:xfrm>
            <a:off x="762120" y="792000"/>
            <a:ext cx="7924680" cy="5227920"/>
          </a:xfrm>
          <a:prstGeom prst="rect">
            <a:avLst/>
          </a:prstGeom>
          <a:ln w="0">
            <a:noFill/>
          </a:ln>
        </p:spPr>
      </p:pic>
      <p:sp>
        <p:nvSpPr>
          <p:cNvPr id="98" name=""/>
          <p:cNvSpPr/>
          <p:nvPr/>
        </p:nvSpPr>
        <p:spPr>
          <a:xfrm>
            <a:off x="533520" y="3429000"/>
            <a:ext cx="121896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CMNav</a:t>
            </a:r>
            <a:endParaRPr b="0" lang="en-US" sz="1800" spc="-1" strike="noStrike">
              <a:solidFill>
                <a:srgbClr val="000000"/>
              </a:solidFill>
              <a:latin typeface="Times New Roman"/>
            </a:endParaRPr>
          </a:p>
        </p:txBody>
      </p:sp>
      <p:sp>
        <p:nvSpPr>
          <p:cNvPr id="99" name=""/>
          <p:cNvSpPr/>
          <p:nvPr/>
        </p:nvSpPr>
        <p:spPr>
          <a:xfrm>
            <a:off x="533520" y="4876920"/>
            <a:ext cx="1218960" cy="7617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S</a:t>
            </a:r>
            <a:endParaRPr b="0" lang="en-US" sz="1800" spc="-1" strike="noStrike">
              <a:solidFill>
                <a:srgbClr val="000000"/>
              </a:solidFill>
              <a:latin typeface="Times New Roman"/>
            </a:endParaRPr>
          </a:p>
        </p:txBody>
      </p:sp>
      <p:sp>
        <p:nvSpPr>
          <p:cNvPr id="100" name=""/>
          <p:cNvSpPr/>
          <p:nvPr/>
        </p:nvSpPr>
        <p:spPr>
          <a:xfrm flipV="1">
            <a:off x="1752480" y="4495680"/>
            <a:ext cx="8384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752120" y="53341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52480" y="3962520"/>
            <a:ext cx="838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752480" y="36576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Healthcare Case Study</a:t>
            </a:r>
            <a:endParaRPr b="0" lang="en-US" sz="2800" spc="-1" strike="noStrike">
              <a:solidFill>
                <a:srgbClr val="990000"/>
              </a:solidFill>
              <a:latin typeface="Arial Black"/>
            </a:endParaRPr>
          </a:p>
        </p:txBody>
      </p:sp>
      <p:sp>
        <p:nvSpPr>
          <p:cNvPr id="10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nd procedures for accessing a healthcare data warehouse in a major teaching hospital in Ontario, Can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searchers as main information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to privacy legis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IPA: </a:t>
            </a:r>
            <a:r>
              <a:rPr b="1" lang="en-CA" sz="2000" spc="-1" strike="noStrike" u="sng">
                <a:solidFill>
                  <a:srgbClr val="990000"/>
                </a:solidFill>
                <a:uFillTx/>
                <a:latin typeface="Arial"/>
              </a:rPr>
              <a:t>P</a:t>
            </a:r>
            <a:r>
              <a:rPr b="0" lang="en-CA" sz="2000" spc="-1" strike="noStrike">
                <a:solidFill>
                  <a:srgbClr val="000000"/>
                </a:solidFill>
                <a:latin typeface="Arial"/>
              </a:rPr>
              <a:t>ersonal </a:t>
            </a:r>
            <a:r>
              <a:rPr b="1" lang="en-CA" sz="2000" spc="-1" strike="noStrike" u="sng">
                <a:solidFill>
                  <a:srgbClr val="990000"/>
                </a:solidFill>
                <a:uFillTx/>
                <a:latin typeface="Arial"/>
              </a:rPr>
              <a:t>H</a:t>
            </a:r>
            <a:r>
              <a:rPr b="0" lang="en-CA" sz="2000" spc="-1" strike="noStrike">
                <a:solidFill>
                  <a:srgbClr val="000000"/>
                </a:solidFill>
                <a:latin typeface="Arial"/>
              </a:rPr>
              <a:t>ealth </a:t>
            </a:r>
            <a:r>
              <a:rPr b="1" lang="en-CA" sz="2000" spc="-1" strike="noStrike" u="sng">
                <a:solidFill>
                  <a:srgbClr val="990000"/>
                </a:solidFill>
                <a:uFillTx/>
                <a:latin typeface="Arial"/>
              </a:rPr>
              <a:t>I</a:t>
            </a:r>
            <a:r>
              <a:rPr b="0" lang="en-CA" sz="2000" spc="-1" strike="noStrike">
                <a:solidFill>
                  <a:srgbClr val="000000"/>
                </a:solidFill>
                <a:latin typeface="Arial"/>
              </a:rPr>
              <a:t>nformation </a:t>
            </a:r>
            <a:r>
              <a:rPr b="1" lang="en-CA" sz="2000" spc="-1" strike="noStrike" u="sng">
                <a:solidFill>
                  <a:srgbClr val="990000"/>
                </a:solidFill>
                <a:uFillTx/>
                <a:latin typeface="Arial"/>
              </a:rPr>
              <a:t>P</a:t>
            </a:r>
            <a:r>
              <a:rPr b="0" lang="en-CA" sz="2000" spc="-1" strike="noStrike">
                <a:solidFill>
                  <a:srgbClr val="000000"/>
                </a:solidFill>
                <a:latin typeface="Arial"/>
              </a:rPr>
              <a:t>rivacy </a:t>
            </a:r>
            <a:r>
              <a:rPr b="1" lang="en-CA" sz="2000" spc="-1" strike="noStrike" u="sng">
                <a:solidFill>
                  <a:srgbClr val="990000"/>
                </a:solidFill>
                <a:uFillTx/>
                <a:latin typeface="Arial"/>
              </a:rPr>
              <a:t>A</a:t>
            </a:r>
            <a:r>
              <a:rPr b="0" lang="en-CA" sz="2000" spc="-1" strike="noStrike">
                <a:solidFill>
                  <a:srgbClr val="000000"/>
                </a:solidFill>
                <a:latin typeface="Arial"/>
              </a:rPr>
              <a:t>ct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ms to protect privacy and confidentiality of personal health information while facilitating the healthcare provi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of rules for the </a:t>
            </a:r>
            <a:r>
              <a:rPr b="1" lang="en-CA" sz="2000" spc="-1" strike="noStrike">
                <a:solidFill>
                  <a:srgbClr val="990000"/>
                </a:solidFill>
                <a:latin typeface="Arial"/>
              </a:rPr>
              <a:t>collection</a:t>
            </a:r>
            <a:r>
              <a:rPr b="0" lang="en-CA" sz="2000" spc="-1" strike="noStrike">
                <a:solidFill>
                  <a:srgbClr val="000000"/>
                </a:solidFill>
                <a:latin typeface="Arial"/>
              </a:rPr>
              <a:t>, </a:t>
            </a:r>
            <a:r>
              <a:rPr b="1" lang="en-CA" sz="2000" spc="-1" strike="noStrike">
                <a:solidFill>
                  <a:srgbClr val="990000"/>
                </a:solidFill>
                <a:latin typeface="Arial"/>
              </a:rPr>
              <a:t>use</a:t>
            </a:r>
            <a:r>
              <a:rPr b="0" lang="en-CA" sz="2000" spc="-1" strike="noStrike">
                <a:solidFill>
                  <a:srgbClr val="000000"/>
                </a:solidFill>
                <a:latin typeface="Arial"/>
              </a:rPr>
              <a:t> and </a:t>
            </a:r>
            <a:r>
              <a:rPr b="1" lang="en-CA" sz="2000" spc="-1" strike="noStrike">
                <a:solidFill>
                  <a:srgbClr val="990000"/>
                </a:solidFill>
                <a:latin typeface="Arial"/>
              </a:rPr>
              <a:t>disclosure</a:t>
            </a:r>
            <a:r>
              <a:rPr b="0" lang="en-CA" sz="2000" spc="-1" strike="noStrike">
                <a:solidFill>
                  <a:srgbClr val="000000"/>
                </a:solidFill>
                <a:latin typeface="Arial"/>
              </a:rPr>
              <a:t> of personal health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 sections, amended </a:t>
            </a:r>
            <a:r>
              <a:rPr b="1" lang="en-CA" sz="2000" spc="-1" strike="noStrike" u="sng">
                <a:solidFill>
                  <a:srgbClr val="990000"/>
                </a:solidFill>
                <a:uFillTx/>
                <a:latin typeface="Arial"/>
              </a:rPr>
              <a:t>five</a:t>
            </a:r>
            <a:r>
              <a:rPr b="0" lang="en-CA" sz="2000" spc="-1" strike="noStrike">
                <a:solidFill>
                  <a:srgbClr val="000000"/>
                </a:solidFill>
                <a:latin typeface="Arial"/>
              </a:rPr>
              <a:t> times since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GRL Model of the Law </a:t>
            </a:r>
            <a:endParaRPr b="0" lang="en-US" sz="2800" spc="-1" strike="noStrike">
              <a:solidFill>
                <a:srgbClr val="990000"/>
              </a:solidFill>
              <a:latin typeface="Arial Black"/>
            </a:endParaRPr>
          </a:p>
        </p:txBody>
      </p:sp>
      <p:sp>
        <p:nvSpPr>
          <p:cNvPr id="108" name=""/>
          <p:cNvSpPr/>
          <p:nvPr/>
        </p:nvSpPr>
        <p:spPr>
          <a:xfrm>
            <a:off x="2286000" y="990720"/>
            <a:ext cx="4191120" cy="190332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islation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spital shall not use th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of an individual un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t has the individual’s consen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information is necessary for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ful pur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6173640" y="1165320"/>
            <a:ext cx="17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Legislation Document</a:t>
            </a:r>
            <a:endParaRPr b="0" lang="en-US" sz="1600" spc="-1" strike="noStrike">
              <a:solidFill>
                <a:srgbClr val="000000"/>
              </a:solidFill>
              <a:latin typeface="Times New Roman"/>
            </a:endParaRPr>
          </a:p>
        </p:txBody>
      </p:sp>
      <p:sp>
        <p:nvSpPr>
          <p:cNvPr id="110" name=""/>
          <p:cNvSpPr/>
          <p:nvPr/>
        </p:nvSpPr>
        <p:spPr>
          <a:xfrm flipH="1">
            <a:off x="6019560" y="14479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47920" y="2133720"/>
            <a:ext cx="1066680" cy="3047760"/>
          </a:xfrm>
          <a:custGeom>
            <a:avLst/>
            <a:gdLst/>
            <a:ahLst/>
            <a:rect l="l" t="t" r="r" b="b"/>
            <a:pathLst>
              <a:path w="462" h="2123">
                <a:moveTo>
                  <a:pt x="421" y="2123"/>
                </a:moveTo>
                <a:lnTo>
                  <a:pt x="0" y="2123"/>
                </a:lnTo>
                <a:lnTo>
                  <a:pt x="0" y="0"/>
                </a:lnTo>
                <a:lnTo>
                  <a:pt x="462"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rot="5400000">
            <a:off x="6546600" y="3205440"/>
            <a:ext cx="8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3" name=""/>
          <p:cNvSpPr/>
          <p:nvPr/>
        </p:nvSpPr>
        <p:spPr>
          <a:xfrm rot="16200000">
            <a:off x="833040" y="3281400"/>
            <a:ext cx="80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4" name=""/>
          <p:cNvSpPr/>
          <p:nvPr/>
        </p:nvSpPr>
        <p:spPr>
          <a:xfrm>
            <a:off x="5165640" y="2894040"/>
            <a:ext cx="12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GRL Model</a:t>
            </a:r>
            <a:endParaRPr b="0" lang="en-US" sz="1600" spc="-1" strike="noStrike">
              <a:solidFill>
                <a:srgbClr val="000000"/>
              </a:solidFill>
              <a:latin typeface="Times New Roman"/>
            </a:endParaRPr>
          </a:p>
        </p:txBody>
      </p:sp>
      <p:grpSp>
        <p:nvGrpSpPr>
          <p:cNvPr id="115" name=""/>
          <p:cNvGrpSpPr/>
          <p:nvPr/>
        </p:nvGrpSpPr>
        <p:grpSpPr>
          <a:xfrm>
            <a:off x="3505320" y="2971800"/>
            <a:ext cx="1828440" cy="874080"/>
            <a:chOff x="3505320" y="2971800"/>
            <a:chExt cx="1828440" cy="874080"/>
          </a:xfrm>
        </p:grpSpPr>
        <p:sp>
          <p:nvSpPr>
            <p:cNvPr id="116" name=""/>
            <p:cNvSpPr/>
            <p:nvPr/>
          </p:nvSpPr>
          <p:spPr>
            <a:xfrm>
              <a:off x="3759480" y="2993040"/>
              <a:ext cx="1323720" cy="85284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2971800"/>
              <a:ext cx="182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uthoriz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a:t>
              </a:r>
              <a:endParaRPr b="0" lang="en-US" sz="1600" spc="-1" strike="noStrike">
                <a:solidFill>
                  <a:srgbClr val="000000"/>
                </a:solidFill>
                <a:latin typeface="Times New Roman"/>
              </a:endParaRPr>
            </a:p>
          </p:txBody>
        </p:sp>
      </p:grpSp>
      <p:grpSp>
        <p:nvGrpSpPr>
          <p:cNvPr id="118" name=""/>
          <p:cNvGrpSpPr/>
          <p:nvPr/>
        </p:nvGrpSpPr>
        <p:grpSpPr>
          <a:xfrm>
            <a:off x="4724280" y="4727520"/>
            <a:ext cx="1233360" cy="824040"/>
            <a:chOff x="4724280" y="4727520"/>
            <a:chExt cx="1233360" cy="824040"/>
          </a:xfrm>
        </p:grpSpPr>
        <p:sp>
          <p:nvSpPr>
            <p:cNvPr id="119" name=""/>
            <p:cNvSpPr/>
            <p:nvPr/>
          </p:nvSpPr>
          <p:spPr>
            <a:xfrm>
              <a:off x="4724280" y="4776480"/>
              <a:ext cx="1233360" cy="6955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9400" y="4727520"/>
              <a:ext cx="101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egal Purpose</a:t>
              </a:r>
              <a:endParaRPr b="0" lang="en-US" sz="1600" spc="-1" strike="noStrike">
                <a:solidFill>
                  <a:srgbClr val="000000"/>
                </a:solidFill>
                <a:latin typeface="Times New Roman"/>
              </a:endParaRPr>
            </a:p>
          </p:txBody>
        </p:sp>
      </p:grpSp>
      <p:cxnSp>
        <p:nvCxnSpPr>
          <p:cNvPr id="121" name=""/>
          <p:cNvCxnSpPr/>
          <p:nvPr/>
        </p:nvCxnSpPr>
        <p:spPr>
          <a:xfrm flipV="1">
            <a:off x="4038480" y="3809160"/>
            <a:ext cx="456480" cy="940680"/>
          </a:xfrm>
          <a:prstGeom prst="straightConnector1">
            <a:avLst/>
          </a:prstGeom>
          <a:ln w="19080">
            <a:solidFill>
              <a:srgbClr val="000000"/>
            </a:solidFill>
            <a:miter/>
            <a:tailEnd len="lg" type="arrow" w="lg"/>
          </a:ln>
        </p:spPr>
      </p:cxnSp>
      <p:cxnSp>
        <p:nvCxnSpPr>
          <p:cNvPr id="122" name=""/>
          <p:cNvCxnSpPr/>
          <p:nvPr/>
        </p:nvCxnSpPr>
        <p:spPr>
          <a:xfrm flipH="1" flipV="1">
            <a:off x="4494960" y="3809520"/>
            <a:ext cx="916920" cy="930960"/>
          </a:xfrm>
          <a:prstGeom prst="straightConnector1">
            <a:avLst/>
          </a:prstGeom>
          <a:ln w="19080">
            <a:solidFill>
              <a:srgbClr val="000000"/>
            </a:solidFill>
            <a:miter/>
            <a:tailEnd len="lg" type="arrow" w="lg"/>
          </a:ln>
        </p:spPr>
      </p:cxnSp>
      <p:grpSp>
        <p:nvGrpSpPr>
          <p:cNvPr id="123" name=""/>
          <p:cNvGrpSpPr/>
          <p:nvPr/>
        </p:nvGrpSpPr>
        <p:grpSpPr>
          <a:xfrm>
            <a:off x="3294000" y="4737240"/>
            <a:ext cx="1353960" cy="824040"/>
            <a:chOff x="3294000" y="4737240"/>
            <a:chExt cx="1353960" cy="824040"/>
          </a:xfrm>
        </p:grpSpPr>
        <p:sp>
          <p:nvSpPr>
            <p:cNvPr id="124" name=""/>
            <p:cNvSpPr/>
            <p:nvPr/>
          </p:nvSpPr>
          <p:spPr>
            <a:xfrm>
              <a:off x="3294000" y="4786200"/>
              <a:ext cx="1353960" cy="6973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09560" y="4737240"/>
              <a:ext cx="1109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ndividual Consent</a:t>
              </a:r>
              <a:endParaRPr b="0" lang="en-US" sz="1600" spc="-1" strike="noStrike">
                <a:solidFill>
                  <a:srgbClr val="000000"/>
                </a:solidFill>
                <a:latin typeface="Times New Roman"/>
              </a:endParaRPr>
            </a:p>
          </p:txBody>
        </p:sp>
      </p:grpSp>
      <p:sp>
        <p:nvSpPr>
          <p:cNvPr id="126" name=""/>
          <p:cNvSpPr/>
          <p:nvPr/>
        </p:nvSpPr>
        <p:spPr>
          <a:xfrm>
            <a:off x="4876920" y="390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05280" y="397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02000" y="39020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30720" y="39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02000" y="408312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1" name=""/>
          <p:cNvSpPr/>
          <p:nvPr/>
        </p:nvSpPr>
        <p:spPr>
          <a:xfrm>
            <a:off x="4878360" y="404820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2" name=""/>
          <p:cNvSpPr/>
          <p:nvPr/>
        </p:nvSpPr>
        <p:spPr>
          <a:xfrm>
            <a:off x="4118040" y="434340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a:t>
            </a:r>
            <a:endParaRPr b="0" lang="en-US" sz="1600" spc="-1" strike="noStrike">
              <a:solidFill>
                <a:srgbClr val="000000"/>
              </a:solidFill>
              <a:latin typeface="Times New Roman"/>
            </a:endParaRPr>
          </a:p>
        </p:txBody>
      </p:sp>
      <p:sp>
        <p:nvSpPr>
          <p:cNvPr id="133" name=""/>
          <p:cNvSpPr/>
          <p:nvPr/>
        </p:nvSpPr>
        <p:spPr>
          <a:xfrm>
            <a:off x="3078000" y="4343400"/>
            <a:ext cx="3170520" cy="15238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381280" y="33973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38280" y="5181480"/>
            <a:ext cx="609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2362320"/>
            <a:ext cx="772920" cy="2819160"/>
          </a:xfrm>
          <a:custGeom>
            <a:avLst/>
            <a:gdLst/>
            <a:ahLst/>
            <a:rect l="l" t="t" r="r" b="b"/>
            <a:pathLst>
              <a:path w="487" h="1913">
                <a:moveTo>
                  <a:pt x="156" y="1913"/>
                </a:moveTo>
                <a:lnTo>
                  <a:pt x="487" y="1913"/>
                </a:lnTo>
                <a:lnTo>
                  <a:pt x="487" y="7"/>
                </a:lnTo>
                <a:lnTo>
                  <a:pt x="0"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xample: URN Model for an Organization</a:t>
            </a:r>
            <a:endParaRPr b="0" lang="en-US" sz="2400" spc="-1" strike="noStrike">
              <a:solidFill>
                <a:srgbClr val="990000"/>
              </a:solidFill>
              <a:latin typeface="Arial Black"/>
            </a:endParaRPr>
          </a:p>
        </p:txBody>
      </p:sp>
      <p:sp>
        <p:nvSpPr>
          <p:cNvPr id="138" name=""/>
          <p:cNvSpPr/>
          <p:nvPr/>
        </p:nvSpPr>
        <p:spPr>
          <a:xfrm>
            <a:off x="4037040" y="155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65400" y="1630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676680" y="838080"/>
            <a:ext cx="1006560" cy="644400"/>
            <a:chOff x="3676680" y="838080"/>
            <a:chExt cx="1006560" cy="644400"/>
          </a:xfrm>
        </p:grpSpPr>
        <p:sp>
          <p:nvSpPr>
            <p:cNvPr id="141" name=""/>
            <p:cNvSpPr/>
            <p:nvPr/>
          </p:nvSpPr>
          <p:spPr>
            <a:xfrm>
              <a:off x="3676680" y="838080"/>
              <a:ext cx="1006560" cy="64440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11600" y="896760"/>
              <a:ext cx="932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uthoriz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a:t>
              </a:r>
              <a:endParaRPr b="0" lang="en-US" sz="1000" spc="-1" strike="noStrike">
                <a:solidFill>
                  <a:srgbClr val="000000"/>
                </a:solidFill>
                <a:latin typeface="Times New Roman"/>
              </a:endParaRPr>
            </a:p>
          </p:txBody>
        </p:sp>
      </p:grpSp>
      <p:grpSp>
        <p:nvGrpSpPr>
          <p:cNvPr id="143" name=""/>
          <p:cNvGrpSpPr/>
          <p:nvPr/>
        </p:nvGrpSpPr>
        <p:grpSpPr>
          <a:xfrm>
            <a:off x="4330800" y="2860560"/>
            <a:ext cx="1223640" cy="620640"/>
            <a:chOff x="4330800" y="2860560"/>
            <a:chExt cx="1223640" cy="620640"/>
          </a:xfrm>
        </p:grpSpPr>
        <p:sp>
          <p:nvSpPr>
            <p:cNvPr id="144" name=""/>
            <p:cNvSpPr/>
            <p:nvPr/>
          </p:nvSpPr>
          <p:spPr>
            <a:xfrm>
              <a:off x="4330800" y="2901240"/>
              <a:ext cx="1223640" cy="57996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5200" y="2860560"/>
              <a:ext cx="1002600" cy="471600"/>
            </a:xfrm>
            <a:prstGeom prst="rect">
              <a:avLst/>
            </a:prstGeom>
            <a:noFill/>
            <a:ln w="0">
              <a:noFill/>
            </a:ln>
          </p:spPr>
          <p:style>
            <a:lnRef idx="0"/>
            <a:fillRef idx="0"/>
            <a:effectRef idx="0"/>
            <a:fontRef idx="minor"/>
          </p:style>
          <p:txBody>
            <a:bodyPr lIns="90000" rIns="90000" tIns="36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Username and Password</a:t>
              </a:r>
              <a:endParaRPr b="0" lang="en-US" sz="1000" spc="-1" strike="noStrike">
                <a:solidFill>
                  <a:srgbClr val="000000"/>
                </a:solidFill>
                <a:latin typeface="Times New Roman"/>
              </a:endParaRPr>
            </a:p>
          </p:txBody>
        </p:sp>
      </p:grpSp>
      <p:cxnSp>
        <p:nvCxnSpPr>
          <p:cNvPr id="146" name=""/>
          <p:cNvCxnSpPr>
            <a:stCxn id="147" idx="0"/>
          </p:cNvCxnSpPr>
          <p:nvPr/>
        </p:nvCxnSpPr>
        <p:spPr>
          <a:xfrm flipV="1">
            <a:off x="3533400" y="2504880"/>
            <a:ext cx="359640" cy="365760"/>
          </a:xfrm>
          <a:prstGeom prst="straightConnector1">
            <a:avLst/>
          </a:prstGeom>
          <a:ln w="19080">
            <a:solidFill>
              <a:srgbClr val="000000"/>
            </a:solidFill>
            <a:miter/>
            <a:tailEnd len="lg" type="arrow" w="lg"/>
          </a:ln>
        </p:spPr>
      </p:cxnSp>
      <p:cxnSp>
        <p:nvCxnSpPr>
          <p:cNvPr id="148" name=""/>
          <p:cNvCxnSpPr/>
          <p:nvPr/>
        </p:nvCxnSpPr>
        <p:spPr>
          <a:xfrm flipH="1" flipV="1">
            <a:off x="4475880" y="2504880"/>
            <a:ext cx="461160" cy="365760"/>
          </a:xfrm>
          <a:prstGeom prst="straightConnector1">
            <a:avLst/>
          </a:prstGeom>
          <a:ln w="19080">
            <a:solidFill>
              <a:srgbClr val="000000"/>
            </a:solidFill>
            <a:miter/>
            <a:tailEnd len="lg" type="arrow" w="lg"/>
          </a:ln>
        </p:spPr>
      </p:cxnSp>
      <p:grpSp>
        <p:nvGrpSpPr>
          <p:cNvPr id="149" name=""/>
          <p:cNvGrpSpPr/>
          <p:nvPr/>
        </p:nvGrpSpPr>
        <p:grpSpPr>
          <a:xfrm>
            <a:off x="2890800" y="2870280"/>
            <a:ext cx="1296720" cy="631440"/>
            <a:chOff x="2890800" y="2870280"/>
            <a:chExt cx="1296720" cy="631440"/>
          </a:xfrm>
        </p:grpSpPr>
        <p:sp>
          <p:nvSpPr>
            <p:cNvPr id="150" name=""/>
            <p:cNvSpPr/>
            <p:nvPr/>
          </p:nvSpPr>
          <p:spPr>
            <a:xfrm>
              <a:off x="2890800" y="2911680"/>
              <a:ext cx="1296720" cy="59004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1320" y="2870280"/>
              <a:ext cx="1062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Individual Consent</a:t>
              </a:r>
              <a:endParaRPr b="0" lang="en-US" sz="1000" spc="-1" strike="noStrike">
                <a:solidFill>
                  <a:srgbClr val="000000"/>
                </a:solidFill>
                <a:latin typeface="Times New Roman"/>
              </a:endParaRPr>
            </a:p>
          </p:txBody>
        </p:sp>
      </p:grpSp>
      <p:sp>
        <p:nvSpPr>
          <p:cNvPr id="151" name=""/>
          <p:cNvSpPr/>
          <p:nvPr/>
        </p:nvSpPr>
        <p:spPr>
          <a:xfrm>
            <a:off x="4756320" y="250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84680" y="257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246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33760" y="254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05040" y="2647800"/>
            <a:ext cx="3672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 name=""/>
          <p:cNvSpPr/>
          <p:nvPr/>
        </p:nvSpPr>
        <p:spPr>
          <a:xfrm>
            <a:off x="4757760" y="2647800"/>
            <a:ext cx="3636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157" name=""/>
          <p:cNvGrpSpPr/>
          <p:nvPr/>
        </p:nvGrpSpPr>
        <p:grpSpPr>
          <a:xfrm>
            <a:off x="3676680" y="1928880"/>
            <a:ext cx="1085760" cy="577440"/>
            <a:chOff x="3676680" y="1928880"/>
            <a:chExt cx="1085760" cy="577440"/>
          </a:xfrm>
        </p:grpSpPr>
        <p:sp>
          <p:nvSpPr>
            <p:cNvPr id="158" name=""/>
            <p:cNvSpPr/>
            <p:nvPr/>
          </p:nvSpPr>
          <p:spPr>
            <a:xfrm>
              <a:off x="3793320" y="1928880"/>
              <a:ext cx="856440" cy="468000"/>
            </a:xfrm>
            <a:prstGeom prst="rect">
              <a:avLst/>
            </a:prstGeom>
            <a:noFill/>
            <a:ln w="0">
              <a:noFill/>
            </a:ln>
          </p:spPr>
          <p:style>
            <a:lnRef idx="0"/>
            <a:fillRef idx="0"/>
            <a:effectRef idx="0"/>
            <a:fontRef idx="minor"/>
          </p:style>
          <p:txBody>
            <a:bodyPr lIns="90000" rIns="90000" tIns="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Use to Authorized User</a:t>
              </a:r>
              <a:endParaRPr b="0" lang="en-US" sz="1000" spc="-1" strike="noStrike">
                <a:solidFill>
                  <a:srgbClr val="000000"/>
                </a:solidFill>
                <a:latin typeface="Times New Roman"/>
              </a:endParaRPr>
            </a:p>
          </p:txBody>
        </p:sp>
        <p:sp>
          <p:nvSpPr>
            <p:cNvPr id="159" name=""/>
            <p:cNvSpPr/>
            <p:nvPr/>
          </p:nvSpPr>
          <p:spPr>
            <a:xfrm>
              <a:off x="3676680" y="1937160"/>
              <a:ext cx="1085760" cy="569160"/>
            </a:xfrm>
            <a:custGeom>
              <a:avLst/>
              <a:gdLst/>
              <a:ahLst/>
              <a:rect l="l" t="t" r="r" b="b"/>
              <a:pathLst>
                <a:path w="6209" h="2708">
                  <a:moveTo>
                    <a:pt x="1355" y="0"/>
                  </a:moveTo>
                  <a:cubicBezTo>
                    <a:pt x="607" y="0"/>
                    <a:pt x="0" y="606"/>
                    <a:pt x="0" y="1354"/>
                  </a:cubicBezTo>
                  <a:cubicBezTo>
                    <a:pt x="0" y="2102"/>
                    <a:pt x="607" y="2708"/>
                    <a:pt x="1355" y="2708"/>
                  </a:cubicBezTo>
                  <a:lnTo>
                    <a:pt x="4855" y="2708"/>
                  </a:lnTo>
                  <a:cubicBezTo>
                    <a:pt x="5603" y="2708"/>
                    <a:pt x="6209" y="2102"/>
                    <a:pt x="6209" y="1354"/>
                  </a:cubicBezTo>
                  <a:cubicBezTo>
                    <a:pt x="6209" y="606"/>
                    <a:pt x="5603" y="0"/>
                    <a:pt x="4855" y="0"/>
                  </a:cubicBezTo>
                  <a:lnTo>
                    <a:pt x="1355" y="0"/>
                  </a:lnTo>
                  <a:close/>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flipV="1">
            <a:off x="4181400" y="14144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000680" y="1486080"/>
            <a:ext cx="3636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2" name=""/>
          <p:cNvSpPr/>
          <p:nvPr/>
        </p:nvSpPr>
        <p:spPr>
          <a:xfrm>
            <a:off x="2819520" y="2711520"/>
            <a:ext cx="2808000" cy="10080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00600" y="2709720"/>
            <a:ext cx="68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pital</a:t>
            </a: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847880" y="3809880"/>
            <a:ext cx="5467320" cy="1866960"/>
          </a:xfrm>
          <a:prstGeom prst="rect">
            <a:avLst/>
          </a:prstGeom>
          <a:ln w="0">
            <a:noFill/>
          </a:ln>
        </p:spPr>
      </p:pic>
      <p:sp>
        <p:nvSpPr>
          <p:cNvPr id="165" name=""/>
          <p:cNvSpPr/>
          <p:nvPr/>
        </p:nvSpPr>
        <p:spPr>
          <a:xfrm>
            <a:off x="3809880" y="3505320"/>
            <a:ext cx="1905120" cy="1523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698800">
            <a:off x="4037760" y="365688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67" name=""/>
          <p:cNvSpPr/>
          <p:nvPr/>
        </p:nvSpPr>
        <p:spPr>
          <a:xfrm flipV="1">
            <a:off x="4267080" y="5409720"/>
            <a:ext cx="1526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5592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Responsibility</a:t>
            </a:r>
            <a:endParaRPr b="0" lang="en-US" sz="1200" spc="-1" strike="noStrike">
              <a:solidFill>
                <a:srgbClr val="000000"/>
              </a:solidFill>
              <a:latin typeface="Times New Roman"/>
            </a:endParaRPr>
          </a:p>
        </p:txBody>
      </p:sp>
      <p:sp>
        <p:nvSpPr>
          <p:cNvPr id="169" name=""/>
          <p:cNvSpPr/>
          <p:nvPr/>
        </p:nvSpPr>
        <p:spPr>
          <a:xfrm flipH="1">
            <a:off x="7315200" y="3657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67480" y="3200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Component</a:t>
            </a:r>
            <a:endParaRPr b="0" lang="en-US" sz="1200" spc="-1" strike="noStrike">
              <a:solidFill>
                <a:srgbClr val="000000"/>
              </a:solidFill>
              <a:latin typeface="Times New Roman"/>
            </a:endParaRPr>
          </a:p>
        </p:txBody>
      </p:sp>
      <p:sp>
        <p:nvSpPr>
          <p:cNvPr id="171" name=""/>
          <p:cNvSpPr/>
          <p:nvPr/>
        </p:nvSpPr>
        <p:spPr>
          <a:xfrm>
            <a:off x="5562720" y="3429000"/>
            <a:ext cx="838080" cy="533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827000">
            <a:off x="5637960" y="342864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73" name=""/>
          <p:cNvSpPr/>
          <p:nvPr/>
        </p:nvSpPr>
        <p:spPr>
          <a:xfrm>
            <a:off x="6095880" y="1219320"/>
            <a:ext cx="2743200" cy="9144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leteness issues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consistencies could be </a:t>
            </a:r>
            <a:br>
              <a:rPr sz="1800"/>
            </a:br>
            <a:r>
              <a:rPr b="0" i="1" lang="en-US" sz="1800" spc="-1" strike="noStrike">
                <a:solidFill>
                  <a:srgbClr val="000000"/>
                </a:solidFill>
                <a:latin typeface="Times New Roman"/>
              </a:rPr>
              <a:t>detected during modell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14:59:41Z</dcterms:created>
  <dc:creator>Daniel Côté</dc:creator>
  <dc:description/>
  <dc:language>en-US</dc:language>
  <cp:lastModifiedBy>Samer Sader</cp:lastModifiedBy>
  <dcterms:modified xsi:type="dcterms:W3CDTF">2008-10-27T21:04:13Z</dcterms:modified>
  <cp:revision>82</cp:revision>
  <dc:subject/>
  <dc:title>A Requirement Management Framework for Privacy Compliance</dc:title>
</cp:coreProperties>
</file>