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DAA9-C3A3-45BC-AD3B-FB2230C8BF5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D7F3-B323-4C68-8026-3E3AF3DED39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6F00-D9A6-47B4-94BA-BB1F07C2189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***********SOURCE: business analysts, business users*****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 you navigate the goal model, you see how higher-level business goals can be achieved by moving downwards. On the other hand, to see why a particular goal is needed, you just have to move upwards from that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F6E8-47AC-4E85-B35B-5DA309C4512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701D-E212-485E-9E37-2055F746D06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1D8F-4AA8-4F26-A56B-16B84B38AC9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f-level goals – the actual work to be done in BPs – map into WS inv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igher-level goals are used to group lower-level ones and with the help of control flow annotations are used to generate the corresponding BPEL control flow constr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6F94-123D-45C4-846E-56ABDFE5DF7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f-level goals – the actual work to be done in BPs – map into WS inv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igher-level goals are used to group lower-level ones and with the help of control flow annotations are used to generate the corresponding BPEL control flow constr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CB80-86FE-4156-B789-7E9981B07CC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FA9F-B0C5-433B-AFFA-84BF56B5E24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ACF1-5185-4D47-9CD9-D1D0BB0A3E1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38B5-EE7E-49F6-8C0E-466DE576EC3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BC90-D83C-4FC0-A062-4672D71052E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FEB7-0500-40C1-B0FC-EA374131CEC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19B3-43D6-4768-8632-13309DDC8CA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929E-DC1B-4F17-8B9C-F7EA5326E3A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EAA3-DF2C-45EE-92F6-EF6A080D80F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E127-DD4B-48A5-965E-FBB541542F8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7FD0-29CB-4728-A57D-5FC2595127F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blems: it’s like if we just started writing code right away, without requirements or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5AF6-9279-4D31-9869-140C4DB3C0D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7FFB-FF42-4BB2-B8F3-70B7591B291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: this is an expanded version of the Supply Customer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*******SOURCE: business analyst, requirements engineer, developers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: conditions are mostly inform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C06F-7EF0-4EA9-952C-9B7183E4114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C04-CE29-4843-9BDB-4E3924BD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FC4-5445-4134-ADCF-1D0142E2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30438-867A-4D8F-93C6-0D96367B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CB8A9-F875-4980-8651-34AE764A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3D600-E4E8-4C58-8AA9-75FE013F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CA1FB-58E6-4C8B-92DB-22D1BDED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3C1F6-8F30-4CC5-9B91-301E4CF6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FB410-6B27-439E-8AF4-13989C65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A9886-C804-4C1E-833A-460A197D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9A793-DCDE-4E09-9B4F-E482183A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7C0F2-76CB-4F83-A0A8-0CAA6592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4B5D8-37E5-4DF6-844D-E09005D1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17A-7825-47D3-BD8C-2A8F54B1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A207E-AD92-4ABB-8FAD-F3AEA4B3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9EF8A-C7B7-4830-B06B-AB3CC0D6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B76D4-5AEA-4AE8-853D-CD2AD6D3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5E333-2EF8-4732-95AD-BA680663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DA3BF-63A8-483F-B6F7-CD26E374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4DF59-7F25-436D-B14C-30DA1C0E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67801-A5D6-4ED5-B694-9594FE5D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B946B-0EC3-4B7E-A12F-CEBFF5B4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D76A0-1DF2-493C-AC20-C4E71BFF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746A0-F427-4E63-9513-97BCBE1D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FF0-3316-48AD-8196-84641AC5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3A761-F429-4E5B-A7F7-C8D7B4F9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4D0F1-61F9-4014-BC11-3D858066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5E746-680A-4ADA-9C2B-939949A4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9C059-1AE5-4144-903F-C6461826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30FC2-DD3A-4FAD-B34E-65BF90B7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85294-B6CB-4246-96C1-0917B38E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169CF-3D75-40B0-BC08-4034C420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239C5-0037-4B5D-BC75-6E3EBBA2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4CD22-3CBB-4501-942C-146F8D00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CB1AE-31F8-4976-A059-1E497B93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695B-D404-44AF-8C96-AB842F6D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EFAE8-3ADC-4E5B-BABC-B4EA3F7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E4CDD-8595-43C3-8379-93FB532F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8489C-5D76-4F15-A51D-E4271106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CE9C7-0165-4E93-9484-BE39BF64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67551-D562-4566-91FB-9677EF4B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5413D-D23F-4E6D-875A-D5ADC057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362D4-6EF0-49EF-AD96-2F352D57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97436-9E02-4AA2-83BB-1DBBD4EE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19EA0-35C8-4770-99FE-5A191DC5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A35C5-7FD9-4EA9-895B-26575C2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1968-2A88-4611-A774-9FE7A237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11FA0-092D-44FA-BE90-5D956A21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06A89-F984-443D-995C-48E01FD8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EDA76-BE25-45E1-92A7-E1E1E0BB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2E162-2863-438A-9DDA-614ED791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F7E33-40D6-4518-ADC4-B16FAEDB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4061F-8BD9-4101-95F3-D8D99195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8097C-76D4-491B-A522-97DA7756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1FF83-BE74-4E7D-A91A-84DAF187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0DD65-0C27-4955-A051-F8B1134A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6CD7B-BB01-410E-AA76-FDD930CD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1CC0-CB01-48C7-8D4D-74521DD8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CD678-1E22-4AC3-A5AE-2D33F639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A332A-E7BF-4F48-A84B-31D0DE37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85DAC-7135-4B38-9311-8C04CB85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2022F-F8C4-4BC1-98A7-A0C5C71A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00633-424D-46B7-9DEE-B2FC78FE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A1298-8EC7-4872-8005-DFF0A45C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6DFEE-4286-42C5-B7A6-EC838308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133F-080D-4508-984A-BB96C435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78A8-08DA-4EFD-B275-A1AC284C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3371-7DD5-41E3-9527-F8BE15BB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C454-BB9C-4E46-817E-F38D1098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9E3-7F9A-4043-9A5E-80BA6A39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FBA2-4135-429A-A756-BDD5470B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CB8B-EFE8-422A-BBEA-B88D4AE7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346B-6B69-4509-85E1-4C2079EE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A4D5-67B2-4C89-9E55-D7321DC7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58C6-2BA1-4058-8B8A-98974A2E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9488-9B41-4272-B392-31C66327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B048-ABDE-4A94-825C-675ECF37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AE2E-E384-4A37-AACC-98359CA2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867F-B850-4225-84C5-C259393B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1B75-3709-4FB9-852A-9DC18E08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171-9BB1-437C-831D-4E3E7225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EAB6-80DA-4CD7-B647-DC9B78E0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03F6-CD22-4A20-B697-41410B67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BF2ED-B49B-4FB1-A9A4-8CE113D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A250-358C-4F8A-A108-9FFE60B0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2D74D-68AA-4436-A465-1A401A1C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C043-D60E-4FE8-BAD7-E8B078F9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51F6-59C0-4C82-8D35-09E6F411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9BE55-B293-4BA7-9BFD-AB29180A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A5A2E-CA2A-45D9-8924-0A2E579A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9021-7DB9-4DC9-85BD-DA5294E4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B76-642D-4FFB-AD9E-080B14A4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F043-8F7E-4475-AD41-F2C601C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A712-C472-44DA-8B6B-5A713B1A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9ED4-E75A-469B-9BA5-C2C90093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C68EB-BC2B-46CF-B62D-F4644461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B6FF-1F02-4116-B190-A298B4C3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A84B-D33B-4525-BF51-4F256108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72325-7740-42E2-AEB2-A1CC0B20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64E68-72D0-4DA5-8804-AEF4D1B1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6EBA3-A811-4C71-8FDA-DC0E1AD3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08CCE-DD6A-4A34-9CAE-6FC91BC5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A46-71B2-4AE6-933E-09170D13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87B25-884B-460E-B5EB-6F5CA4EE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1BB4B-7E23-4636-ADD4-4A2E7387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1CD99-BF94-417C-86D9-35EE89FD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1C5C0-FD97-4D13-9753-E2FC19A7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521B-C0E9-400F-BA43-AE5736F4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3215-402C-4BAD-9EB1-993035C3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884D1-00FD-476D-8C4F-917E3C95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573D5-FC5B-4E82-B343-F3C28332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E882-B079-4E8A-BB3C-C521CE3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966F2-B6AF-4814-88E5-A141782E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CA1-AC97-4CC2-8285-39D106FC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B89F7-3018-4FF0-B70C-E56FD931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64124-FFF4-40B1-A161-049A6C88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0E507-5E85-4C28-AA2E-BA065B81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9FCBF-3F1D-420E-877B-69709B6A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03346-3887-4E58-9AB0-C8EC681E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B5116-E818-4E6F-8888-1F69881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7A07B-11C3-4D74-A2AA-A8FDA24F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A2894-8212-450D-8E48-4782687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6F782-8279-4AF9-9B29-5FCA2296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B1B53-D86F-4197-B53A-4BD80EFA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7E7-E3AD-43AC-BD82-6E1B0823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9737-B1B8-4981-98CA-B1F64849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C999B-552F-41CB-9699-6E596043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D5721-8ECB-4A43-B361-B0A6ECED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8962F-C208-4ECA-A625-794E642A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20376-12A1-4798-B3F4-807CE26B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DC7F8-06C0-4A35-968D-81EE2906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64EFF-F49F-41A6-A064-D0B44CD5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A50EF-25A4-4594-A2D3-7DA21F3C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CF871-63F5-47A1-BCCB-B66252C5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B9BC-AA81-45B4-B2DB-BCE1327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244-32C7-44B0-B22A-E0C74A29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6FA02-C72B-4F82-A778-5A82614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D72FA-6F6F-436B-A344-CC662C7B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5F1CD-8438-4266-96CE-53778AAD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37B00-6C52-4011-8679-28CDEDBA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47E6D-C8C2-4362-B28B-F8A65D38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26A3E-10B3-456A-A750-E2259C67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42D24-4FB7-464A-BF00-F8EA29F7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ED59D-724B-4402-8AFA-CC5CF1DD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89855-1009-4F52-996D-1DBD1A40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9F385-D249-4EE5-8F3D-AF110885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383-B77E-4DE9-9330-6E2026DB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E758-4D7D-4D6D-AF98-B9F588D6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2F37D-FB9F-451E-B803-08635849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C052B-6C01-43EB-9BE3-56E49771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0F4CE-27EA-4CFF-926C-10CBE723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4F74B-EC9A-474C-8048-C132815E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99994-F2CE-4B0C-BCF4-E336EC5E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D3E2C-22C1-4F25-85DD-63839E80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0EC5F-5467-4564-ABFA-88FEE57C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0D02E-A8A4-4947-99D1-7F5D4C40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BC6DD-ACC3-40FB-8681-585E67CA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9235-5F16-493F-96CB-150DCD9C3F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1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918D-DB68-4254-8EB5-63A55C9023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64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AECC-A98B-45D4-9A1A-EF5363ED36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07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D5E8-2C1A-4E85-9B47-4123E4DCC7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50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F363-68B0-47D7-9C17-6559A104C7D5}" type="slidenum">
              <a:rPr b="0" lang="en-US" sz="1600" spc="-1" strike="noStrike">
                <a:solidFill>
                  <a:srgbClr val="33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  <p:sp>
        <p:nvSpPr>
          <p:cNvPr id="7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7" name="Picture 41" descr="ut-logo"/>
          <p:cNvPicPr/>
          <p:nvPr/>
        </p:nvPicPr>
        <p:blipFill>
          <a:blip r:embed="rId2"/>
          <a:stretch/>
        </p:blipFill>
        <p:spPr>
          <a:xfrm>
            <a:off x="7524720" y="1125360"/>
            <a:ext cx="1368360" cy="134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4EE7-44A2-4E47-AB5A-B0D47B4DBA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2826-3BEF-416E-8EDD-46835E33E6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6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D3B7-06C2-43D6-B900-8FBC15E733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1E89-3C79-413E-99F3-83087445EE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2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1A08-7505-4FE0-B7AF-92DEC5D8E6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5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B3FB-63B6-433A-B491-EB5A905EE0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8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C308-4E76-46DE-9BF1-73F8902365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79280" y="466200"/>
            <a:ext cx="70567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0066"/>
                </a:solidFill>
                <a:latin typeface="Arial"/>
              </a:rPr>
              <a:t>Requirements-Driven Design and Configuration Management of BPs</a:t>
            </a:r>
            <a:r>
              <a:rPr b="1" lang="en-CA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11280" y="3049200"/>
            <a:ext cx="648648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exei Lapouch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with Yijun Yu, John Mylopou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e9ce8"/>
                </a:solidFill>
                <a:latin typeface="Arial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e9ce8"/>
                </a:solidFill>
                <a:latin typeface="Arial"/>
              </a:rPr>
              <a:t>University of Toronto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6272-404C-4043-BEC7-EE356BD41169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Variatio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64" name="Object 4"/>
          <p:cNvGraphicFramePr/>
          <p:nvPr/>
        </p:nvGraphicFramePr>
        <p:xfrm>
          <a:off x="1474920" y="1484280"/>
          <a:ext cx="655308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1484280"/>
                    <a:ext cx="655308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Oval 9"/>
          <p:cNvSpPr/>
          <p:nvPr/>
        </p:nvSpPr>
        <p:spPr>
          <a:xfrm>
            <a:off x="1467000" y="2349360"/>
            <a:ext cx="180000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Oval 10"/>
          <p:cNvSpPr/>
          <p:nvPr/>
        </p:nvSpPr>
        <p:spPr>
          <a:xfrm>
            <a:off x="2006640" y="4464000"/>
            <a:ext cx="180036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Oval 11"/>
          <p:cNvSpPr/>
          <p:nvPr/>
        </p:nvSpPr>
        <p:spPr>
          <a:xfrm>
            <a:off x="6146640" y="3429000"/>
            <a:ext cx="180036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1217-CB05-4A7E-BD9F-ABFA08B24DBE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ation Option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871640" y="1449360"/>
          <a:ext cx="531036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1449360"/>
                    <a:ext cx="53103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EDA5-19E3-4054-9EFA-0261E53CE74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ation Option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79" name="Object 4"/>
          <p:cNvGraphicFramePr/>
          <p:nvPr/>
        </p:nvGraphicFramePr>
        <p:xfrm>
          <a:off x="1816200" y="1449360"/>
          <a:ext cx="549756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449360"/>
                    <a:ext cx="549756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893D-C6AA-4E77-B7EE-7A28B26A7BEA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Generating Executable BP Specif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71516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enerate WS-BPEL processes from go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emi-auto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ructurally similar to the source go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7e9ce8"/>
                </a:solidFill>
                <a:latin typeface="Arial"/>
              </a:rPr>
              <a:t>Variability prese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Object 4"/>
          <p:cNvGraphicFramePr/>
          <p:nvPr/>
        </p:nvGraphicFramePr>
        <p:xfrm>
          <a:off x="1465200" y="3608280"/>
          <a:ext cx="607716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3608280"/>
                    <a:ext cx="60771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7"/>
          <p:cNvGraphicFramePr/>
          <p:nvPr/>
        </p:nvGraphicFramePr>
        <p:xfrm>
          <a:off x="1467000" y="3608280"/>
          <a:ext cx="607680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7000" y="3608280"/>
                    <a:ext cx="6076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BC8A-DB34-4711-9500-79354467E095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Generating Executable BP Specif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7151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pping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Leaf-level 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WS Invocations (or BPEL process invoc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igher-level 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No explicitly mapped. Help in generation of BPEL control flow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ditions/Loop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BPEL conditions, lo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vent-driven OR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ick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w/ multiple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nMessag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oft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not map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ppropriate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ortType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, messages (if I/O is specified), etc. are gene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7DDE-02DD-4F69-9BE7-F3F6CA0664B8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Mapping Variatio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y are a tool to configure executable (and, possibly, deployed) 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Mapping to WS-BP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-elseif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for BPEL 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branch corresponds to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ranch condition (XPath) checks if it is the current choice for the variation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ctivities in each branch are automatically generated based on the particular alternative in the goal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All choices are to be implemen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PEL process skeleton is generated. It needs to be comple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 result: </a:t>
            </a:r>
            <a:r>
              <a:rPr b="0" lang="en-CA" sz="2100" spc="-1" strike="noStrike">
                <a:solidFill>
                  <a:srgbClr val="0070c0"/>
                </a:solidFill>
                <a:latin typeface="Arial"/>
              </a:rPr>
              <a:t>High-Variability Executable Model (HVEM)</a:t>
            </a: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 of the business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D16C-E901-40A5-861D-0AD57ED5F0E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ing HVEMs at Run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0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rototype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GUI for preferenc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figurator 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Can come up with goal model config based on pre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Can provide the configuration to deployed 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XML Representation for BP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4"/>
          <p:cNvGraphicFramePr/>
          <p:nvPr/>
        </p:nvGraphicFramePr>
        <p:xfrm>
          <a:off x="2637000" y="4681440"/>
          <a:ext cx="400500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7000" y="4681440"/>
                    <a:ext cx="400500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6"/>
          <p:cNvGraphicFramePr/>
          <p:nvPr/>
        </p:nvGraphicFramePr>
        <p:xfrm>
          <a:off x="5202360" y="1673280"/>
          <a:ext cx="3195360" cy="16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2360" y="1673280"/>
                    <a:ext cx="3195360" cy="1698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BPM 2007, Brisban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Australia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 September, 2007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F48D-1BD9-41A8-B036-454C2F198242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7" name="AutoShape 2"/>
          <p:cNvSpPr/>
          <p:nvPr/>
        </p:nvSpPr>
        <p:spPr>
          <a:xfrm flipV="1" rot="6743400">
            <a:off x="-78480" y="3025440"/>
            <a:ext cx="1655640" cy="73368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9ce8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09" name="Object 4"/>
          <p:cNvGraphicFramePr/>
          <p:nvPr/>
        </p:nvGraphicFramePr>
        <p:xfrm>
          <a:off x="34920" y="3911760"/>
          <a:ext cx="489744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3911760"/>
                    <a:ext cx="489744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5"/>
          <p:cNvGraphicFramePr/>
          <p:nvPr/>
        </p:nvGraphicFramePr>
        <p:xfrm>
          <a:off x="1258920" y="2205000"/>
          <a:ext cx="295272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205000"/>
                    <a:ext cx="2952720" cy="1565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713" name="AutoShape 6"/>
          <p:cNvSpPr/>
          <p:nvPr/>
        </p:nvSpPr>
        <p:spPr>
          <a:xfrm rot="3775200">
            <a:off x="2237760" y="1297080"/>
            <a:ext cx="1657080" cy="733320"/>
          </a:xfrm>
          <a:custGeom>
            <a:avLst/>
            <a:gdLst>
              <a:gd name="textAreaLeft" fmla="*/ 289800 w 1657080"/>
              <a:gd name="textAreaRight" fmla="*/ 1201320 w 16570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9ce8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14" name="Object 7"/>
          <p:cNvGraphicFramePr/>
          <p:nvPr/>
        </p:nvGraphicFramePr>
        <p:xfrm>
          <a:off x="34920" y="44280"/>
          <a:ext cx="2592360" cy="18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44280"/>
                    <a:ext cx="259236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7416720" y="0"/>
            <a:ext cx="165600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8" name="Oval 10"/>
          <p:cNvSpPr/>
          <p:nvPr/>
        </p:nvSpPr>
        <p:spPr>
          <a:xfrm>
            <a:off x="2394000" y="125280"/>
            <a:ext cx="647640" cy="6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Oval 11"/>
          <p:cNvSpPr/>
          <p:nvPr/>
        </p:nvSpPr>
        <p:spPr>
          <a:xfrm>
            <a:off x="728640" y="228600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0" name="Oval 12"/>
          <p:cNvSpPr/>
          <p:nvPr/>
        </p:nvSpPr>
        <p:spPr>
          <a:xfrm>
            <a:off x="3762360" y="440208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1" name="Object 13"/>
          <p:cNvGraphicFramePr/>
          <p:nvPr/>
        </p:nvGraphicFramePr>
        <p:xfrm>
          <a:off x="6019920" y="4689360"/>
          <a:ext cx="255744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689360"/>
                    <a:ext cx="255744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Oval 14"/>
          <p:cNvSpPr/>
          <p:nvPr/>
        </p:nvSpPr>
        <p:spPr>
          <a:xfrm>
            <a:off x="5516640" y="483228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4" name="Oval 15"/>
          <p:cNvSpPr/>
          <p:nvPr/>
        </p:nvSpPr>
        <p:spPr>
          <a:xfrm>
            <a:off x="3699000" y="228600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AutoShape 16"/>
          <p:cNvSpPr/>
          <p:nvPr/>
        </p:nvSpPr>
        <p:spPr>
          <a:xfrm>
            <a:off x="3141720" y="3033720"/>
            <a:ext cx="93492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6" name="Rectangle 17"/>
          <p:cNvSpPr/>
          <p:nvPr/>
        </p:nvSpPr>
        <p:spPr>
          <a:xfrm>
            <a:off x="6058080" y="5678640"/>
            <a:ext cx="2439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deployed generic process gets the appropriate configuration.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Rectangle 18"/>
          <p:cNvSpPr/>
          <p:nvPr/>
        </p:nvSpPr>
        <p:spPr>
          <a:xfrm>
            <a:off x="3492360" y="6219720"/>
            <a:ext cx="22050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8" name="Rectangle 19"/>
          <p:cNvSpPr/>
          <p:nvPr/>
        </p:nvSpPr>
        <p:spPr>
          <a:xfrm>
            <a:off x="1150920" y="6199200"/>
            <a:ext cx="2925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iven high-level preferences, the appropriate configuration is selected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9" name="Object 20"/>
          <p:cNvGraphicFramePr/>
          <p:nvPr/>
        </p:nvGraphicFramePr>
        <p:xfrm>
          <a:off x="4527720" y="68400"/>
          <a:ext cx="3958920" cy="16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0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27720" y="68400"/>
                    <a:ext cx="395892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Rectangle 21"/>
          <p:cNvSpPr/>
          <p:nvPr/>
        </p:nvSpPr>
        <p:spPr>
          <a:xfrm>
            <a:off x="4842000" y="1865160"/>
            <a:ext cx="4216320" cy="26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46680" y="1943280"/>
            <a:ext cx="2440080" cy="40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BP Configuration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33" name="Object 23"/>
          <p:cNvGraphicFramePr/>
          <p:nvPr/>
        </p:nvGraphicFramePr>
        <p:xfrm>
          <a:off x="4915080" y="2413080"/>
          <a:ext cx="4071600" cy="20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4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15080" y="2413080"/>
                    <a:ext cx="407160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Oval 24"/>
          <p:cNvSpPr/>
          <p:nvPr/>
        </p:nvSpPr>
        <p:spPr>
          <a:xfrm>
            <a:off x="4076640" y="125280"/>
            <a:ext cx="647640" cy="6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4671-27CE-4C8E-978E-7A8B889ADE6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Model BPs at high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plicit representation of quality attributes (softgo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nalysis of alternatives w.r.t. soft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raceability to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P configuration at high-level, in user-oriented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igh-level visualization of BPs using goal models i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plicit representation of BP 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AA2A-8D46-46F3-87F0-6ED21D71C2D1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4DF0-BC8A-43FB-8963-11B0FF2B7FD2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Aim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632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elop a method for </a:t>
            </a:r>
            <a:r>
              <a:rPr b="0" lang="en-CA" sz="2800" spc="-1" strike="noStrike">
                <a:solidFill>
                  <a:srgbClr val="7e9ce8"/>
                </a:solidFill>
                <a:latin typeface="Arial"/>
              </a:rPr>
              <a:t>requirements-drive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pecification and configuration of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design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explicitly specify, refine and analyze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goals of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odel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quality constraint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lated to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capture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alternative way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f achieving the goals of BPs and to model their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effect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n quality constraints –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high-variabilit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neration of high-variability executable BPs based on go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eyond Intentional Variabi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71900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tentional variability cannot capture all the details needed for flexible, adaptable systems. Too high-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95F8-FCD6-461C-B66B-110D0AEC14FD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8" name="Content Placeholder 2"/>
          <p:cNvSpPr/>
          <p:nvPr/>
        </p:nvSpPr>
        <p:spPr>
          <a:xfrm>
            <a:off x="609480" y="3384720"/>
            <a:ext cx="4718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How can we model the fact that automatic approval for large orders is </a:t>
            </a: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very risky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, while for others, its just risky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49" name="Object 5"/>
          <p:cNvGraphicFramePr/>
          <p:nvPr/>
        </p:nvGraphicFramePr>
        <p:xfrm>
          <a:off x="5094360" y="2859120"/>
          <a:ext cx="4011480" cy="27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4360" y="2859120"/>
                    <a:ext cx="401148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king the environment into consid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38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nvironment (domain) characteristics and their dynamics affect the requirements and must be taken into consideratio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We take the intentional view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main characteristics influence the requirements and the behaviour of the system. In particular, they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ffect th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requirements themselv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what is required of the system, i.e., system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ffect/constrain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goal refinem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e.g., change the available alternatives to achieve system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how alternatives are evaluated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.r.t. soft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prioriti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ver qualit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BC57-8E51-4B84-8832-B2E506611106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view of contex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82760" y="9842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erties of the environment that affect requirements are captured using </a:t>
            </a: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context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ic definition of a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Abstraction over domain assumptions and/or properti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ny things can be considered to be parts of a 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ardware/softwar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PU/bandwidth utilization, current system loa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story of us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story of attempted adap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urrent and recent system/process metric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AFEF-58D6-4280-8A06-BE9344238A1D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495936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apturing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33992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Context Ent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Things that the process works on (documents/data, supplies, etc.) or with (users, business partners, legacy system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Influence the process (management, owners, government regulato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Other things (date, time, weather conditions, etc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text entities have 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context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Properties that affect the requirements (e.g., size, location, importance, utilization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A1EA-170C-4514-9556-42A1F20F1BB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63" name="Object 6"/>
          <p:cNvGraphicFramePr/>
          <p:nvPr/>
        </p:nvGraphicFramePr>
        <p:xfrm>
          <a:off x="1238400" y="2717640"/>
          <a:ext cx="674676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2717640"/>
                    <a:ext cx="674676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text refinement hierarch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29492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Contexts can be arranged in hierarch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tructure the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implify the modeling of the effects that contexts have on th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Leaf-level contexts are </a:t>
            </a:r>
            <a:r>
              <a:rPr b="0" i="1" lang="en-CA" sz="2600" spc="-1" strike="noStrike">
                <a:solidFill>
                  <a:srgbClr val="0070c0"/>
                </a:solidFill>
                <a:latin typeface="Arial"/>
              </a:rPr>
              <a:t>defined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determine when they are 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E3C7-202E-432B-AF45-70DD649FF02B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69" name="Object 3"/>
          <p:cNvGraphicFramePr/>
          <p:nvPr/>
        </p:nvGraphicFramePr>
        <p:xfrm>
          <a:off x="1504800" y="4095720"/>
          <a:ext cx="607068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4095720"/>
                    <a:ext cx="607068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dding contexts to goal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EASS 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F1A2-AA3B-4CAC-B86F-1C6A1A975CD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74" name="Object 6"/>
          <p:cNvGraphicFramePr/>
          <p:nvPr/>
        </p:nvGraphicFramePr>
        <p:xfrm>
          <a:off x="184320" y="1251000"/>
          <a:ext cx="887724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251000"/>
                    <a:ext cx="88772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8"/>
          <p:cNvGraphicFramePr/>
          <p:nvPr/>
        </p:nvGraphicFramePr>
        <p:xfrm>
          <a:off x="482760" y="3138480"/>
          <a:ext cx="7704000" cy="357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760" y="3138480"/>
                    <a:ext cx="770400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More Examples of Contex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DA59-9258-42A5-B7F3-9B7E5189712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81" name="Object 3"/>
          <p:cNvGraphicFramePr/>
          <p:nvPr/>
        </p:nvGraphicFramePr>
        <p:xfrm>
          <a:off x="328680" y="1117440"/>
          <a:ext cx="528948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117440"/>
                    <a:ext cx="5289480" cy="515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83" name="Object 5"/>
          <p:cNvGraphicFramePr/>
          <p:nvPr/>
        </p:nvGraphicFramePr>
        <p:xfrm>
          <a:off x="5796000" y="2685960"/>
          <a:ext cx="304308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685960"/>
                    <a:ext cx="3043080" cy="2565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Using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everal ways context can be us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Process instance configuration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suit the current context. E.g. (the BP example), look at current date/time, order/customer properties, product characteristics, shipping destination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ynamic environment results in dynamic context. Thus, context can be monitored and 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process instances can be adapted to changing context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7CD1-ADD8-4F5B-AF94-337D9F0BB8F6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upporting Dynamic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aptive systems change in dynamic environments – i.e., </a:t>
            </a: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when contex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ed to understand which contexts are static and which are dynamic within a process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metimes it’s not clear. E.g., customer risk in the presence of multiple process in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in context entity indicates change i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xt monitoring using context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31F3-A87D-4B5A-953B-187DED7D2238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47BF-C066-43E0-80F4-0893C883278A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66A5-FEA7-410C-B9B7-4BDA628B1AD8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Aim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Fine-grained modeling of BPs based on varying </a:t>
            </a:r>
            <a:r>
              <a:rPr b="0" lang="en-CA" sz="2500" spc="-1" strike="noStrike">
                <a:solidFill>
                  <a:srgbClr val="0070c0"/>
                </a:solidFill>
                <a:latin typeface="Arial"/>
              </a:rPr>
              <a:t>environment character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run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ability t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figuration of BPs based on current business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Specified at high level in user-oriented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Support for BP adaptation based on dynamically changing domain proper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BP adaptation based on BA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D92B-6A4C-4B02-AD71-E4033AA60B2B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P Reconfiguration/Adap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473120"/>
            <a:ext cx="4970520" cy="46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669999"/>
                </a:solidFill>
                <a:latin typeface="Arial"/>
              </a:rPr>
              <a:t>Adaptat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s done through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BP reconfigurat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Arial"/>
              </a:rPr>
              <a:t>switching to a better alternativ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0000"/>
                </a:solidFill>
                <a:latin typeface="Arial"/>
              </a:rPr>
              <a:t>Anticipate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alysis and reconfiguration is done at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high level in terms of goal model alternativ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auses for reconfigu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Change in requirement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(e.g., business user priorit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As a response to BP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ff0000"/>
                </a:solidFill>
                <a:latin typeface="Arial"/>
              </a:rPr>
              <a:t>Changing environment (conte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Object 2"/>
          <p:cNvGraphicFramePr/>
          <p:nvPr/>
        </p:nvGraphicFramePr>
        <p:xfrm>
          <a:off x="5576760" y="2303640"/>
          <a:ext cx="345132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6760" y="2303640"/>
                    <a:ext cx="345132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daptive B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25064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ust have measurabl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ad/lag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om qualitative to quantitativ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perationalization of soft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pping to metrics/K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ftgoal desired satisfaction levels =&gt; target values or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 be done in th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ometimes needs to be exposed – e.g., customer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Qualitative is still usefu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64E6-8885-4796-9E1A-9EC63EEAA6ED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F37F-8137-4776-8536-0CF7888CB736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P Reconfigu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10" name="Object 2"/>
          <p:cNvGraphicFramePr/>
          <p:nvPr/>
        </p:nvGraphicFramePr>
        <p:xfrm>
          <a:off x="171360" y="1019160"/>
          <a:ext cx="791856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019160"/>
                    <a:ext cx="79185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Oval 10"/>
          <p:cNvSpPr/>
          <p:nvPr/>
        </p:nvSpPr>
        <p:spPr>
          <a:xfrm>
            <a:off x="1727280" y="167328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3" name="Oval 11"/>
          <p:cNvSpPr/>
          <p:nvPr/>
        </p:nvSpPr>
        <p:spPr>
          <a:xfrm>
            <a:off x="3490920" y="2006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4" name="Oval 12"/>
          <p:cNvSpPr/>
          <p:nvPr/>
        </p:nvSpPr>
        <p:spPr>
          <a:xfrm>
            <a:off x="7365960" y="2006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Oval 13"/>
          <p:cNvSpPr/>
          <p:nvPr/>
        </p:nvSpPr>
        <p:spPr>
          <a:xfrm>
            <a:off x="5543640" y="2451240"/>
            <a:ext cx="495360" cy="495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6" name="Oval 14"/>
          <p:cNvSpPr/>
          <p:nvPr/>
        </p:nvSpPr>
        <p:spPr>
          <a:xfrm>
            <a:off x="5587920" y="329400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7" name="Oval 15"/>
          <p:cNvSpPr/>
          <p:nvPr/>
        </p:nvSpPr>
        <p:spPr>
          <a:xfrm>
            <a:off x="7321680" y="4229280"/>
            <a:ext cx="495000" cy="495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8" name="Oval 16"/>
          <p:cNvSpPr/>
          <p:nvPr/>
        </p:nvSpPr>
        <p:spPr>
          <a:xfrm>
            <a:off x="5607000" y="545472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9" name="Oval 17"/>
          <p:cNvSpPr/>
          <p:nvPr/>
        </p:nvSpPr>
        <p:spPr>
          <a:xfrm>
            <a:off x="1601640" y="5273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0" name="Oval 18"/>
          <p:cNvSpPr/>
          <p:nvPr/>
        </p:nvSpPr>
        <p:spPr>
          <a:xfrm>
            <a:off x="3492360" y="3833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4572-9A42-400E-985D-931D16159B2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urrent/Future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untime optimiz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rom softgoals to metrics/KP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untime evaluation of BP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text-based adaptation of B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erformance contex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Contexts based on how well targets are being m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Modeling mitigation techn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rom contexts to B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tegration of preference-based, context-based, performance-based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1DA-A6F3-4A20-A084-EBA8A0BA2A42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27" name="Picture 2" descr="ThankYou_Graphic_White"/>
          <p:cNvPicPr/>
          <p:nvPr/>
        </p:nvPicPr>
        <p:blipFill>
          <a:blip r:embed="rId1"/>
          <a:stretch/>
        </p:blipFill>
        <p:spPr>
          <a:xfrm>
            <a:off x="2319480" y="1895400"/>
            <a:ext cx="4429080" cy="241956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3"/>
          <p:cNvSpPr/>
          <p:nvPr/>
        </p:nvSpPr>
        <p:spPr>
          <a:xfrm>
            <a:off x="3223440" y="464184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lexei@cs.toronto.edu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F9A1-D6C1-499A-8F47-585A7383D41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1660-84BB-4D01-9B20-22300D0654D2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60280" y="1206000"/>
            <a:ext cx="8623440" cy="510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Business Process (BP) is seen as a collection of </a:t>
            </a:r>
            <a:r>
              <a:rPr b="0" lang="en-CA" sz="1800" spc="-1" strike="noStrike">
                <a:solidFill>
                  <a:srgbClr val="7e9ce8"/>
                </a:solidFill>
                <a:latin typeface="Arial"/>
              </a:rPr>
              <a:t>activiti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at achieves a certain </a:t>
            </a:r>
            <a:r>
              <a:rPr b="0" lang="en-CA" sz="1800" spc="-1" strike="noStrike">
                <a:solidFill>
                  <a:srgbClr val="7e9ce8"/>
                </a:solidFill>
                <a:latin typeface="Arial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ever, BPs are usually represent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flows (e.g., BPMN), executable workflows (e.g., WS-BP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Can capture and analyze certain aspects of BPs,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blems ex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urpose is rarely explicitly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flows do not usually cap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hoices in achieving the goals of 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rationale for sequencing and other decisions, non-functional asp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omain properties and how they influence th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r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elect process configuration with desired quality characterist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onfigure a process based on the characteristics of the dom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onfigure processes at high level, w/o extensive knowledge of modeling no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7e9ce8"/>
                </a:solidFill>
                <a:latin typeface="Arial"/>
                <a:ea typeface="Arial"/>
              </a:rPr>
              <a:t>Maintenance and adaptation a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upply Customer BP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C45A-5661-4B97-BB5E-9F7D27687FF8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21" name="Object 4"/>
          <p:cNvGraphicFramePr/>
          <p:nvPr/>
        </p:nvGraphicFramePr>
        <p:xfrm>
          <a:off x="2052720" y="1606680"/>
          <a:ext cx="621648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606680"/>
                    <a:ext cx="621648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AutoShape 7"/>
          <p:cNvSpPr/>
          <p:nvPr/>
        </p:nvSpPr>
        <p:spPr>
          <a:xfrm>
            <a:off x="216000" y="5829480"/>
            <a:ext cx="1346040" cy="609480"/>
          </a:xfrm>
          <a:prstGeom prst="wedgeRoundRectCallout">
            <a:avLst>
              <a:gd name="adj1" fmla="val 114648"/>
              <a:gd name="adj2" fmla="val -70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Functional Goal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6300720" y="1606680"/>
            <a:ext cx="914400" cy="609480"/>
          </a:xfrm>
          <a:prstGeom prst="wedgeRoundRectCallout">
            <a:avLst>
              <a:gd name="adj1" fmla="val -148092"/>
              <a:gd name="adj2" fmla="val -9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oot Goal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5" name="AutoShape 9"/>
          <p:cNvSpPr/>
          <p:nvPr/>
        </p:nvSpPr>
        <p:spPr>
          <a:xfrm>
            <a:off x="162000" y="1873080"/>
            <a:ext cx="1512720" cy="609840"/>
          </a:xfrm>
          <a:prstGeom prst="wedgeRoundRectCallout">
            <a:avLst>
              <a:gd name="adj1" fmla="val 96379"/>
              <a:gd name="adj2" fmla="val -3854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Quality Goal (Softgoal)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6" name="AutoShape 10"/>
          <p:cNvSpPr/>
          <p:nvPr/>
        </p:nvSpPr>
        <p:spPr>
          <a:xfrm>
            <a:off x="162000" y="2817720"/>
            <a:ext cx="1562040" cy="647640"/>
          </a:xfrm>
          <a:prstGeom prst="wedgeRoundRectCallout">
            <a:avLst>
              <a:gd name="adj1" fmla="val 86888"/>
              <a:gd name="adj2" fmla="val -5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oftgoal Contribution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7812000" y="2089080"/>
            <a:ext cx="1081080" cy="1079640"/>
          </a:xfrm>
          <a:prstGeom prst="wedgeRoundRectCallout">
            <a:avLst>
              <a:gd name="adj1" fmla="val -133111"/>
              <a:gd name="adj2" fmla="val 469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trol Flow Annota-tion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AutoShape 14"/>
          <p:cNvSpPr/>
          <p:nvPr/>
        </p:nvSpPr>
        <p:spPr>
          <a:xfrm>
            <a:off x="216000" y="5029200"/>
            <a:ext cx="1346040" cy="609480"/>
          </a:xfrm>
          <a:prstGeom prst="wedgeRoundRectCallout">
            <a:avLst>
              <a:gd name="adj1" fmla="val 453203"/>
              <a:gd name="adj2" fmla="val -2278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Variation Point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2411280" y="2368440"/>
            <a:ext cx="360360" cy="271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2185920" y="2638440"/>
            <a:ext cx="360360" cy="271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1" name="Oval 17"/>
          <p:cNvSpPr/>
          <p:nvPr/>
        </p:nvSpPr>
        <p:spPr>
          <a:xfrm>
            <a:off x="4122720" y="5068800"/>
            <a:ext cx="94464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Oval 18"/>
          <p:cNvSpPr/>
          <p:nvPr/>
        </p:nvSpPr>
        <p:spPr>
          <a:xfrm>
            <a:off x="6912000" y="3763800"/>
            <a:ext cx="944640" cy="314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3" name="Oval 19"/>
          <p:cNvSpPr/>
          <p:nvPr/>
        </p:nvSpPr>
        <p:spPr>
          <a:xfrm>
            <a:off x="2681280" y="2908440"/>
            <a:ext cx="94464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Rectangle 25"/>
          <p:cNvSpPr/>
          <p:nvPr/>
        </p:nvSpPr>
        <p:spPr>
          <a:xfrm>
            <a:off x="260280" y="3606840"/>
            <a:ext cx="13492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Help ( +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Make (++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Hurt ( –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Break (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9314-4943-42BA-AD23-C0135061914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Increasing Precision with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31640" y="171756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models do not capture enough information to be useful in semi-automatic generation of workfl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nnotations to increase pr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no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trol flow (sequence, concurrency, loops, condi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ternal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put/output can also be mod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3399"/>
                </a:solidFill>
                <a:latin typeface="Arial"/>
              </a:rPr>
              <a:t>Annotations – capture domain properties, not design decisio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0122-9A03-44E2-BA04-14DBE4117AF0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Increasing Precision with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467000" y="1538280"/>
          <a:ext cx="659736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538280"/>
                    <a:ext cx="659736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Oval 6"/>
          <p:cNvSpPr/>
          <p:nvPr/>
        </p:nvSpPr>
        <p:spPr>
          <a:xfrm>
            <a:off x="3581280" y="3743280"/>
            <a:ext cx="1260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6" name="Oval 7"/>
          <p:cNvSpPr/>
          <p:nvPr/>
        </p:nvSpPr>
        <p:spPr>
          <a:xfrm>
            <a:off x="5381640" y="3789360"/>
            <a:ext cx="10810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7" name="AutoShape 8"/>
          <p:cNvSpPr/>
          <p:nvPr/>
        </p:nvSpPr>
        <p:spPr>
          <a:xfrm>
            <a:off x="297000" y="3068640"/>
            <a:ext cx="1368360" cy="638280"/>
          </a:xfrm>
          <a:prstGeom prst="wedgeRoundRectCallout">
            <a:avLst>
              <a:gd name="adj1" fmla="val 205569"/>
              <a:gd name="adj2" fmla="val 87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Oval 10"/>
          <p:cNvSpPr/>
          <p:nvPr/>
        </p:nvSpPr>
        <p:spPr>
          <a:xfrm>
            <a:off x="1511280" y="5364000"/>
            <a:ext cx="1216080" cy="36036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206280" y="4373640"/>
            <a:ext cx="1368360" cy="728640"/>
          </a:xfrm>
          <a:prstGeom prst="wedgeRoundRectCallout">
            <a:avLst>
              <a:gd name="adj1" fmla="val 56148"/>
              <a:gd name="adj2" fmla="val 108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External Event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0" name="Oval 13"/>
          <p:cNvSpPr/>
          <p:nvPr/>
        </p:nvSpPr>
        <p:spPr>
          <a:xfrm>
            <a:off x="4976640" y="3024360"/>
            <a:ext cx="1035360" cy="361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1" name="AutoShape 12"/>
          <p:cNvSpPr/>
          <p:nvPr/>
        </p:nvSpPr>
        <p:spPr>
          <a:xfrm>
            <a:off x="6686640" y="1584360"/>
            <a:ext cx="1368360" cy="549360"/>
          </a:xfrm>
          <a:prstGeom prst="wedgeRoundRectCallout">
            <a:avLst>
              <a:gd name="adj1" fmla="val -112296"/>
              <a:gd name="adj2" fmla="val 2268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7316640" y="2259000"/>
            <a:ext cx="1576440" cy="549360"/>
          </a:xfrm>
          <a:prstGeom prst="wedgeRoundRectCallout">
            <a:avLst>
              <a:gd name="adj1" fmla="val -91087"/>
              <a:gd name="adj2" fmla="val 117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Oval 15"/>
          <p:cNvSpPr/>
          <p:nvPr/>
        </p:nvSpPr>
        <p:spPr>
          <a:xfrm>
            <a:off x="6146640" y="2889360"/>
            <a:ext cx="765360" cy="404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4" name="Oval 16"/>
          <p:cNvSpPr/>
          <p:nvPr/>
        </p:nvSpPr>
        <p:spPr>
          <a:xfrm>
            <a:off x="4616280" y="2124000"/>
            <a:ext cx="765360" cy="40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5" name="AutoShape 17"/>
          <p:cNvSpPr/>
          <p:nvPr/>
        </p:nvSpPr>
        <p:spPr>
          <a:xfrm>
            <a:off x="5651640" y="998640"/>
            <a:ext cx="1368360" cy="549000"/>
          </a:xfrm>
          <a:prstGeom prst="wedgeRoundRectCallout">
            <a:avLst>
              <a:gd name="adj1" fmla="val -89097"/>
              <a:gd name="adj2" fmla="val 180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F7EB-E10B-40DF-ACE2-AFBFAF6440F9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High-Level BP Configu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ant to configure BPs based on preferences over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quality attribut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(softgoa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in mechanism to capture variability and to configure goal models: </a:t>
            </a:r>
            <a:r>
              <a:rPr b="0" i="1" lang="en-CA" sz="2600" spc="-1" strike="noStrike">
                <a:solidFill>
                  <a:srgbClr val="7e9ce8"/>
                </a:solidFill>
                <a:latin typeface="Arial"/>
              </a:rPr>
              <a:t>preference-driven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 OR decompositions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0" i="1" lang="en-CA" sz="2600" spc="-1" strike="noStrike">
                <a:solidFill>
                  <a:srgbClr val="7e9ce8"/>
                </a:solidFill>
                <a:latin typeface="Arial"/>
              </a:rPr>
              <a:t>Variation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(vs. data-driven or event-driven process vari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.g., Ship Order: either Ship Standard or Ship Ex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lternatives achieve the same 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ifference in </a:t>
            </a:r>
            <a:r>
              <a:rPr b="0" lang="en-CA" sz="2200" spc="-1" strike="noStrike">
                <a:solidFill>
                  <a:srgbClr val="7e9ce8"/>
                </a:solidFill>
                <a:latin typeface="Arial"/>
              </a:rPr>
              <a:t>softgoal con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ff3399"/>
                </a:solidFill>
                <a:uFillTx/>
                <a:latin typeface="Arial"/>
              </a:rPr>
              <a:t>Softgoals act as selection criteria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for choosing BP 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2:38:40Z</dcterms:created>
  <dc:creator>AL</dc:creator>
  <dc:description/>
  <dc:language>en-US</dc:language>
  <cp:lastModifiedBy>Alexei Lapouchnian</cp:lastModifiedBy>
  <dcterms:modified xsi:type="dcterms:W3CDTF">2008-10-29T15:50:43Z</dcterms:modified>
  <cp:revision>250</cp:revision>
  <dc:subject/>
  <dc:title>Slide 1</dc:title>
</cp:coreProperties>
</file>